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3.wmf" ContentType="image/x-wmf"/>
  <Override PartName="/ppt/media/image185.wmf" ContentType="image/x-wmf"/>
  <Override PartName="/ppt/media/image186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3.wmf" ContentType="image/x-wmf"/>
  <Override PartName="/ppt/media/image174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172.wmf" ContentType="image/x-wmf"/>
  <Override PartName="/ppt/media/image59.wmf" ContentType="image/x-wmf"/>
  <Override PartName="/ppt/media/image280.wmf" ContentType="image/x-wmf"/>
  <Override PartName="/ppt/media/image260.wmf" ContentType="image/x-wmf"/>
  <Override PartName="/ppt/media/image193.wmf" ContentType="image/x-wmf"/>
  <Override PartName="/ppt/media/image125.wmf" ContentType="image/x-wmf"/>
  <Override PartName="/ppt/media/image181.wmf" ContentType="image/x-wmf"/>
  <Override PartName="/ppt/media/image113.wmf" ContentType="image/x-wmf"/>
  <Override PartName="/ppt/media/image277.wmf" ContentType="image/x-wmf"/>
  <Override PartName="/ppt/media/image315.wmf" ContentType="image/x-wmf"/>
  <Override PartName="/ppt/media/image122.wmf" ContentType="image/x-wmf"/>
  <Override PartName="/ppt/media/image190.wmf" ContentType="image/x-wmf"/>
  <Override PartName="/ppt/media/image102.wmf" ContentType="image/x-wmf"/>
  <Override PartName="/ppt/media/image298.wmf" ContentType="image/x-wmf"/>
  <Override PartName="/ppt/media/image170.wmf" ContentType="image/x-wmf"/>
  <Override PartName="/ppt/media/image292.wmf" ContentType="image/x-wmf"/>
  <Override PartName="/ppt/media/image330.wmf" ContentType="image/x-wmf"/>
  <Override PartName="/ppt/media/image297.wmf" ContentType="image/x-wmf"/>
  <Override PartName="/ppt/media/image192.wmf" ContentType="image/x-wmf"/>
  <Override PartName="/ppt/media/image124.wmf" ContentType="image/x-wmf"/>
  <Override PartName="/ppt/media/image180.wmf" ContentType="image/x-wmf"/>
  <Override PartName="/ppt/media/image112.wmf" ContentType="image/x-wmf"/>
  <Override PartName="/ppt/media/image271.wmf" ContentType="image/x-wmf"/>
  <Override PartName="/ppt/media/image291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70.wmf" ContentType="image/x-wmf"/>
  <Override PartName="/ppt/media/image69.wmf" ContentType="image/x-wmf"/>
  <Override PartName="/ppt/media/image290.wmf" ContentType="image/x-wmf"/>
  <Override PartName="/ppt/media/image20.wmf" ContentType="image/x-wmf"/>
  <Override PartName="/ppt/media/image321.wmf" ContentType="image/x-wmf"/>
  <Override PartName="/ppt/media/image283.wmf" ContentType="image/x-wmf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103.wmf" ContentType="image/x-wmf"/>
  <Override PartName="/ppt/media/image299.wmf" ContentType="image/x-wmf"/>
  <Override PartName="/ppt/media/image171.wmf" ContentType="image/x-wmf"/>
  <Override PartName="/ppt/media/image311.wmf" ContentType="image/x-wmf"/>
  <Override PartName="/ppt/media/image273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191.wmf" ContentType="image/x-wmf"/>
  <Override PartName="/ppt/media/image12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296.wmf" ContentType="image/x-wmf"/>
  <Override PartName="/ppt/media/image126.wmf" ContentType="image/x-wmf"/>
  <Override PartName="/ppt/media/image194.wmf" ContentType="image/x-wmf"/>
  <Override PartName="/ppt/media/image286.wmf" ContentType="image/x-wmf"/>
  <Override PartName="/ppt/media/image324.wmf" ContentType="image/x-wmf"/>
  <Override PartName="/ppt/media/image295.wmf" ContentType="image/x-wmf"/>
  <Override PartName="/ppt/media/image285.wmf" ContentType="image/x-wmf"/>
  <Override PartName="/ppt/media/image323.wmf" ContentType="image/x-wmf"/>
  <Override PartName="/ppt/media/image294.wmf" ContentType="image/x-wmf"/>
  <Override PartName="/ppt/media/image284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175.wmf" ContentType="image/x-wmf"/>
  <Override PartName="/ppt/media/image166.wmf" ContentType="image/x-wmf"/>
  <Override PartName="/ppt/media/image2.jpeg" ContentType="image/jpeg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307.wmf" ContentType="image/x-wmf"/>
  <Override PartName="/ppt/media/image269.wmf" ContentType="image/x-wmf"/>
  <Override PartName="/ppt/media/image141.wmf" ContentType="image/x-wmf"/>
  <Override PartName="/ppt/media/image308.wmf" ContentType="image/x-wmf"/>
  <Override PartName="/ppt/media/image142.wmf" ContentType="image/x-wmf"/>
  <Override PartName="/ppt/media/image30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316.wmf" ContentType="image/x-wmf"/>
  <Override PartName="/ppt/media/image278.wmf" ContentType="image/x-wmf"/>
  <Override PartName="/ppt/media/image150.wmf" ContentType="image/x-wmf"/>
  <Override PartName="/ppt/media/image317.wmf" ContentType="image/x-wmf"/>
  <Override PartName="/ppt/media/image279.wmf" ContentType="image/x-wmf"/>
  <Override PartName="/ppt/media/image151.wmf" ContentType="image/x-wmf"/>
  <Override PartName="/ppt/media/image318.wmf" ContentType="image/x-wmf"/>
  <Override PartName="/ppt/media/image152.wmf" ContentType="image/x-wmf"/>
  <Override PartName="/ppt/media/image319.wmf" ContentType="image/x-wmf"/>
  <Override PartName="/ppt/media/image153.wmf" ContentType="image/x-wmf"/>
  <Override PartName="/ppt/media/image154.wmf" ContentType="image/x-wmf"/>
  <Override PartName="/ppt/media/image326.wmf" ContentType="image/x-wmf"/>
  <Override PartName="/ppt/media/image288.wmf" ContentType="image/x-wmf"/>
  <Override PartName="/ppt/media/image160.wmf" ContentType="image/x-wmf"/>
  <Override PartName="/ppt/media/image327.wmf" ContentType="image/x-wmf"/>
  <Override PartName="/ppt/media/image289.wmf" ContentType="image/x-wmf"/>
  <Override PartName="/ppt/media/image161.wmf" ContentType="image/x-wmf"/>
  <Override PartName="/ppt/media/image328.wmf" ContentType="image/x-wmf"/>
  <Override PartName="/ppt/media/image162.wmf" ContentType="image/x-wmf"/>
  <Override PartName="/ppt/media/image329.wmf" ContentType="image/x-wmf"/>
  <Override PartName="/ppt/media/image163.wmf" ContentType="image/x-wmf"/>
  <Override PartName="/ppt/media/image16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613-F974-45F0-893A-9B8752CC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19E-974A-422E-8B35-69BA2889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D05-1227-420C-806A-E606124A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449-0368-438B-9764-50BA502C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8BAA-C014-4C3E-BA60-FB39BDF6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F657-0481-4D1F-B12F-738A73CF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1D4B-B4E3-42AB-A58A-39551945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3A79-BE29-44D9-A9A8-63C7A496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A40D-FBB6-4D80-8387-85AE9D8A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A40A-4A3F-4394-BDB1-171DA6EC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33A9-49FD-45C8-A0C3-41ECADDC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B3A-A5F5-452E-9D4D-7AAC09D6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54F7-7260-406E-B0F2-350E65ED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0C8A-FC99-4460-83F9-35447B6D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55D6-BD61-448C-A559-8E424897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2414-AC9C-44AB-B087-65F051E5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4398-B06D-4E9D-86AB-07961B70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48D-7ED6-4FAB-892E-CBEB85FE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0EA-EF48-4E83-A662-6A570A76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679-CA86-461F-B043-3975764B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991-8BA8-4832-BEFB-E08CA163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AA2-66F3-4715-9B09-7F4DC7C6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EB2-94B3-428B-8973-4B70A7C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052-64A3-4323-B8CE-1382D19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1A27-C92D-498A-8143-6685C735AE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6B83-472D-4D63-BD78-E2778488F9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3.wmf"/><Relationship Id="rId3" Type="http://schemas.openxmlformats.org/officeDocument/2006/relationships/image" Target="../media/image244.wmf"/><Relationship Id="rId4" Type="http://schemas.openxmlformats.org/officeDocument/2006/relationships/image" Target="../media/image245.wmf"/><Relationship Id="rId5" Type="http://schemas.openxmlformats.org/officeDocument/2006/relationships/image" Target="../media/image246.wmf"/><Relationship Id="rId6" Type="http://schemas.openxmlformats.org/officeDocument/2006/relationships/image" Target="../media/image247.wmf"/><Relationship Id="rId7" Type="http://schemas.openxmlformats.org/officeDocument/2006/relationships/image" Target="../media/image248.wmf"/><Relationship Id="rId8" Type="http://schemas.openxmlformats.org/officeDocument/2006/relationships/image" Target="../media/image249.wmf"/><Relationship Id="rId9" Type="http://schemas.openxmlformats.org/officeDocument/2006/relationships/image" Target="../media/image250.wmf"/><Relationship Id="rId10" Type="http://schemas.openxmlformats.org/officeDocument/2006/relationships/image" Target="../media/image251.wmf"/><Relationship Id="rId11" Type="http://schemas.openxmlformats.org/officeDocument/2006/relationships/image" Target="../media/image252.wmf"/><Relationship Id="rId12" Type="http://schemas.openxmlformats.org/officeDocument/2006/relationships/image" Target="../media/image253.wmf"/><Relationship Id="rId13" Type="http://schemas.openxmlformats.org/officeDocument/2006/relationships/image" Target="../media/image254.wmf"/><Relationship Id="rId14" Type="http://schemas.openxmlformats.org/officeDocument/2006/relationships/image" Target="../media/image255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6.wmf"/><Relationship Id="rId3" Type="http://schemas.openxmlformats.org/officeDocument/2006/relationships/image" Target="../media/image257.wmf"/><Relationship Id="rId4" Type="http://schemas.openxmlformats.org/officeDocument/2006/relationships/image" Target="../media/image258.wmf"/><Relationship Id="rId5" Type="http://schemas.openxmlformats.org/officeDocument/2006/relationships/image" Target="../media/image259.wmf"/><Relationship Id="rId6" Type="http://schemas.openxmlformats.org/officeDocument/2006/relationships/image" Target="../media/image260.wmf"/><Relationship Id="rId7" Type="http://schemas.openxmlformats.org/officeDocument/2006/relationships/image" Target="../media/image26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3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4.wmf"/><Relationship Id="rId3" Type="http://schemas.openxmlformats.org/officeDocument/2006/relationships/image" Target="../media/image285.wmf"/><Relationship Id="rId4" Type="http://schemas.openxmlformats.org/officeDocument/2006/relationships/image" Target="../media/image286.wmf"/><Relationship Id="rId5" Type="http://schemas.openxmlformats.org/officeDocument/2006/relationships/image" Target="../media/image287.wmf"/><Relationship Id="rId6" Type="http://schemas.openxmlformats.org/officeDocument/2006/relationships/image" Target="../media/image288.wmf"/><Relationship Id="rId7" Type="http://schemas.openxmlformats.org/officeDocument/2006/relationships/image" Target="../media/image289.wmf"/><Relationship Id="rId8" Type="http://schemas.openxmlformats.org/officeDocument/2006/relationships/image" Target="../media/image290.wmf"/><Relationship Id="rId9" Type="http://schemas.openxmlformats.org/officeDocument/2006/relationships/image" Target="../media/image291.wmf"/><Relationship Id="rId10" Type="http://schemas.openxmlformats.org/officeDocument/2006/relationships/image" Target="../media/image292.wmf"/><Relationship Id="rId11" Type="http://schemas.openxmlformats.org/officeDocument/2006/relationships/image" Target="../media/image293.wmf"/><Relationship Id="rId1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4.wmf"/><Relationship Id="rId3" Type="http://schemas.openxmlformats.org/officeDocument/2006/relationships/image" Target="../media/image295.wmf"/><Relationship Id="rId4" Type="http://schemas.openxmlformats.org/officeDocument/2006/relationships/image" Target="../media/image296.wmf"/><Relationship Id="rId5" Type="http://schemas.openxmlformats.org/officeDocument/2006/relationships/image" Target="../media/image297.wmf"/><Relationship Id="rId6" Type="http://schemas.openxmlformats.org/officeDocument/2006/relationships/image" Target="../media/image298.wmf"/><Relationship Id="rId7" Type="http://schemas.openxmlformats.org/officeDocument/2006/relationships/image" Target="../media/image299.wmf"/><Relationship Id="rId8" Type="http://schemas.openxmlformats.org/officeDocument/2006/relationships/image" Target="../media/image300.wmf"/><Relationship Id="rId9" Type="http://schemas.openxmlformats.org/officeDocument/2006/relationships/image" Target="../media/image301.wmf"/><Relationship Id="rId10" Type="http://schemas.openxmlformats.org/officeDocument/2006/relationships/image" Target="../media/image302.wmf"/><Relationship Id="rId11" Type="http://schemas.openxmlformats.org/officeDocument/2006/relationships/image" Target="../media/image303.wmf"/><Relationship Id="rId12" Type="http://schemas.openxmlformats.org/officeDocument/2006/relationships/image" Target="../media/image304.wmf"/><Relationship Id="rId13" Type="http://schemas.openxmlformats.org/officeDocument/2006/relationships/image" Target="../media/image305.wmf"/><Relationship Id="rId14" Type="http://schemas.openxmlformats.org/officeDocument/2006/relationships/image" Target="../media/image306.wmf"/><Relationship Id="rId15" Type="http://schemas.openxmlformats.org/officeDocument/2006/relationships/image" Target="../media/image307.wmf"/><Relationship Id="rId16" Type="http://schemas.openxmlformats.org/officeDocument/2006/relationships/image" Target="../media/image308.wmf"/><Relationship Id="rId1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9.wmf"/><Relationship Id="rId3" Type="http://schemas.openxmlformats.org/officeDocument/2006/relationships/image" Target="../media/image310.wmf"/><Relationship Id="rId4" Type="http://schemas.openxmlformats.org/officeDocument/2006/relationships/image" Target="../media/image311.wmf"/><Relationship Id="rId5" Type="http://schemas.openxmlformats.org/officeDocument/2006/relationships/image" Target="../media/image312.wmf"/><Relationship Id="rId6" Type="http://schemas.openxmlformats.org/officeDocument/2006/relationships/image" Target="../media/image313.wmf"/><Relationship Id="rId7" Type="http://schemas.openxmlformats.org/officeDocument/2006/relationships/image" Target="../media/image314.wmf"/><Relationship Id="rId8" Type="http://schemas.openxmlformats.org/officeDocument/2006/relationships/image" Target="../media/image315.wmf"/><Relationship Id="rId9" Type="http://schemas.openxmlformats.org/officeDocument/2006/relationships/image" Target="../media/image316.wmf"/><Relationship Id="rId10" Type="http://schemas.openxmlformats.org/officeDocument/2006/relationships/image" Target="../media/image317.wmf"/><Relationship Id="rId1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image" Target="../media/image118.wmf"/><Relationship Id="rId4" Type="http://schemas.openxmlformats.org/officeDocument/2006/relationships/image" Target="../media/image318.wmf"/><Relationship Id="rId5" Type="http://schemas.openxmlformats.org/officeDocument/2006/relationships/image" Target="../media/image319.wmf"/><Relationship Id="rId6" Type="http://schemas.openxmlformats.org/officeDocument/2006/relationships/image" Target="../media/image320.wmf"/><Relationship Id="rId7" Type="http://schemas.openxmlformats.org/officeDocument/2006/relationships/image" Target="../media/image63.wmf"/><Relationship Id="rId8" Type="http://schemas.openxmlformats.org/officeDocument/2006/relationships/image" Target="../media/image97.wmf"/><Relationship Id="rId9" Type="http://schemas.openxmlformats.org/officeDocument/2006/relationships/image" Target="../media/image321.wmf"/><Relationship Id="rId10" Type="http://schemas.openxmlformats.org/officeDocument/2006/relationships/image" Target="../media/image322.wmf"/><Relationship Id="rId11" Type="http://schemas.openxmlformats.org/officeDocument/2006/relationships/image" Target="../media/image323.wmf"/><Relationship Id="rId12" Type="http://schemas.openxmlformats.org/officeDocument/2006/relationships/image" Target="../media/image324.wmf"/><Relationship Id="rId13" Type="http://schemas.openxmlformats.org/officeDocument/2006/relationships/image" Target="../media/image325.wmf"/><Relationship Id="rId14" Type="http://schemas.openxmlformats.org/officeDocument/2006/relationships/image" Target="../media/image326.wmf"/><Relationship Id="rId15" Type="http://schemas.openxmlformats.org/officeDocument/2006/relationships/image" Target="../media/image327.wmf"/><Relationship Id="rId16" Type="http://schemas.openxmlformats.org/officeDocument/2006/relationships/image" Target="../media/image328.wmf"/><Relationship Id="rId1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9.wmf"/><Relationship Id="rId3" Type="http://schemas.openxmlformats.org/officeDocument/2006/relationships/image" Target="../media/image330.wmf"/><Relationship Id="rId4" Type="http://schemas.openxmlformats.org/officeDocument/2006/relationships/image" Target="../media/image331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35.wmf"/><Relationship Id="rId35" Type="http://schemas.openxmlformats.org/officeDocument/2006/relationships/image" Target="../media/image36.wmf"/><Relationship Id="rId36" Type="http://schemas.openxmlformats.org/officeDocument/2006/relationships/image" Target="../media/image37.wmf"/><Relationship Id="rId37" Type="http://schemas.openxmlformats.org/officeDocument/2006/relationships/image" Target="../media/image38.wmf"/><Relationship Id="rId38" Type="http://schemas.openxmlformats.org/officeDocument/2006/relationships/image" Target="../media/image39.wmf"/><Relationship Id="rId39" Type="http://schemas.openxmlformats.org/officeDocument/2006/relationships/image" Target="../media/image40.wmf"/><Relationship Id="rId40" Type="http://schemas.openxmlformats.org/officeDocument/2006/relationships/image" Target="../media/image41.wmf"/><Relationship Id="rId41" Type="http://schemas.openxmlformats.org/officeDocument/2006/relationships/image" Target="../media/image42.wmf"/><Relationship Id="rId42" Type="http://schemas.openxmlformats.org/officeDocument/2006/relationships/image" Target="../media/image43.wmf"/><Relationship Id="rId43" Type="http://schemas.openxmlformats.org/officeDocument/2006/relationships/image" Target="../media/image44.wmf"/><Relationship Id="rId44" Type="http://schemas.openxmlformats.org/officeDocument/2006/relationships/image" Target="../media/image45.wmf"/><Relationship Id="rId45" Type="http://schemas.openxmlformats.org/officeDocument/2006/relationships/image" Target="../media/image46.wmf"/><Relationship Id="rId46" Type="http://schemas.openxmlformats.org/officeDocument/2006/relationships/image" Target="../media/image47.wmf"/><Relationship Id="rId47" Type="http://schemas.openxmlformats.org/officeDocument/2006/relationships/image" Target="../media/image48.wmf"/><Relationship Id="rId48" Type="http://schemas.openxmlformats.org/officeDocument/2006/relationships/image" Target="../media/image49.wmf"/><Relationship Id="rId49" Type="http://schemas.openxmlformats.org/officeDocument/2006/relationships/image" Target="../media/image50.wmf"/><Relationship Id="rId50" Type="http://schemas.openxmlformats.org/officeDocument/2006/relationships/image" Target="../media/image51.wmf"/><Relationship Id="rId51" Type="http://schemas.openxmlformats.org/officeDocument/2006/relationships/image" Target="../media/image52.wmf"/><Relationship Id="rId52" Type="http://schemas.openxmlformats.org/officeDocument/2006/relationships/image" Target="../media/image53.wmf"/><Relationship Id="rId53" Type="http://schemas.openxmlformats.org/officeDocument/2006/relationships/image" Target="../media/image54.wmf"/><Relationship Id="rId54" Type="http://schemas.openxmlformats.org/officeDocument/2006/relationships/image" Target="../media/image55.wmf"/><Relationship Id="rId55" Type="http://schemas.openxmlformats.org/officeDocument/2006/relationships/image" Target="../media/image56.wmf"/><Relationship Id="rId56" Type="http://schemas.openxmlformats.org/officeDocument/2006/relationships/image" Target="../media/image57.wmf"/><Relationship Id="rId57" Type="http://schemas.openxmlformats.org/officeDocument/2006/relationships/image" Target="../media/image58.wmf"/><Relationship Id="rId58" Type="http://schemas.openxmlformats.org/officeDocument/2006/relationships/image" Target="../media/image59.wmf"/><Relationship Id="rId59" Type="http://schemas.openxmlformats.org/officeDocument/2006/relationships/image" Target="../media/image60.wmf"/><Relationship Id="rId60" Type="http://schemas.openxmlformats.org/officeDocument/2006/relationships/image" Target="../media/image61.wmf"/><Relationship Id="rId61" Type="http://schemas.openxmlformats.org/officeDocument/2006/relationships/image" Target="../media/image62.wmf"/><Relationship Id="rId62" Type="http://schemas.openxmlformats.org/officeDocument/2006/relationships/image" Target="../media/image63.wmf"/><Relationship Id="rId63" Type="http://schemas.openxmlformats.org/officeDocument/2006/relationships/image" Target="../media/image64.wmf"/><Relationship Id="rId6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3.wmf"/><Relationship Id="rId11" Type="http://schemas.openxmlformats.org/officeDocument/2006/relationships/image" Target="../media/image74.wmf"/><Relationship Id="rId12" Type="http://schemas.openxmlformats.org/officeDocument/2006/relationships/image" Target="../media/image75.wmf"/><Relationship Id="rId13" Type="http://schemas.openxmlformats.org/officeDocument/2006/relationships/image" Target="../media/image76.wmf"/><Relationship Id="rId14" Type="http://schemas.openxmlformats.org/officeDocument/2006/relationships/image" Target="../media/image77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image" Target="../media/image83.wmf"/><Relationship Id="rId21" Type="http://schemas.openxmlformats.org/officeDocument/2006/relationships/image" Target="../media/image84.wmf"/><Relationship Id="rId22" Type="http://schemas.openxmlformats.org/officeDocument/2006/relationships/image" Target="../media/image85.wmf"/><Relationship Id="rId23" Type="http://schemas.openxmlformats.org/officeDocument/2006/relationships/image" Target="../media/image86.wmf"/><Relationship Id="rId24" Type="http://schemas.openxmlformats.org/officeDocument/2006/relationships/image" Target="../media/image87.wmf"/><Relationship Id="rId25" Type="http://schemas.openxmlformats.org/officeDocument/2006/relationships/image" Target="../media/image88.wmf"/><Relationship Id="rId26" Type="http://schemas.openxmlformats.org/officeDocument/2006/relationships/image" Target="../media/image89.wmf"/><Relationship Id="rId27" Type="http://schemas.openxmlformats.org/officeDocument/2006/relationships/image" Target="../media/image90.wmf"/><Relationship Id="rId28" Type="http://schemas.openxmlformats.org/officeDocument/2006/relationships/image" Target="../media/image91.wmf"/><Relationship Id="rId29" Type="http://schemas.openxmlformats.org/officeDocument/2006/relationships/image" Target="../media/image92.wmf"/><Relationship Id="rId30" Type="http://schemas.openxmlformats.org/officeDocument/2006/relationships/image" Target="../media/image93.wmf"/><Relationship Id="rId31" Type="http://schemas.openxmlformats.org/officeDocument/2006/relationships/image" Target="../media/image94.wmf"/><Relationship Id="rId32" Type="http://schemas.openxmlformats.org/officeDocument/2006/relationships/image" Target="../media/image95.wmf"/><Relationship Id="rId33" Type="http://schemas.openxmlformats.org/officeDocument/2006/relationships/image" Target="../media/image96.wmf"/><Relationship Id="rId34" Type="http://schemas.openxmlformats.org/officeDocument/2006/relationships/image" Target="../media/image97.wmf"/><Relationship Id="rId35" Type="http://schemas.openxmlformats.org/officeDocument/2006/relationships/image" Target="../media/image98.wmf"/><Relationship Id="rId36" Type="http://schemas.openxmlformats.org/officeDocument/2006/relationships/image" Target="../media/image99.wmf"/><Relationship Id="rId37" Type="http://schemas.openxmlformats.org/officeDocument/2006/relationships/image" Target="../media/image100.wmf"/><Relationship Id="rId38" Type="http://schemas.openxmlformats.org/officeDocument/2006/relationships/image" Target="../media/image101.wmf"/><Relationship Id="rId39" Type="http://schemas.openxmlformats.org/officeDocument/2006/relationships/image" Target="../media/image102.wmf"/><Relationship Id="rId40" Type="http://schemas.openxmlformats.org/officeDocument/2006/relationships/image" Target="../media/image103.wmf"/><Relationship Id="rId41" Type="http://schemas.openxmlformats.org/officeDocument/2006/relationships/image" Target="../media/image104.wmf"/><Relationship Id="rId42" Type="http://schemas.openxmlformats.org/officeDocument/2006/relationships/image" Target="../media/image105.wmf"/><Relationship Id="rId43" Type="http://schemas.openxmlformats.org/officeDocument/2006/relationships/image" Target="../media/image106.wmf"/><Relationship Id="rId44" Type="http://schemas.openxmlformats.org/officeDocument/2006/relationships/image" Target="../media/image107.wmf"/><Relationship Id="rId45" Type="http://schemas.openxmlformats.org/officeDocument/2006/relationships/image" Target="../media/image108.wmf"/><Relationship Id="rId46" Type="http://schemas.openxmlformats.org/officeDocument/2006/relationships/image" Target="../media/image109.wmf"/><Relationship Id="rId47" Type="http://schemas.openxmlformats.org/officeDocument/2006/relationships/image" Target="../media/image110.wmf"/><Relationship Id="rId48" Type="http://schemas.openxmlformats.org/officeDocument/2006/relationships/image" Target="../media/image111.wmf"/><Relationship Id="rId49" Type="http://schemas.openxmlformats.org/officeDocument/2006/relationships/image" Target="../media/image112.wmf"/><Relationship Id="rId50" Type="http://schemas.openxmlformats.org/officeDocument/2006/relationships/image" Target="../media/image113.wmf"/><Relationship Id="rId51" Type="http://schemas.openxmlformats.org/officeDocument/2006/relationships/image" Target="../media/image114.wmf"/><Relationship Id="rId52" Type="http://schemas.openxmlformats.org/officeDocument/2006/relationships/image" Target="../media/image115.wmf"/><Relationship Id="rId53" Type="http://schemas.openxmlformats.org/officeDocument/2006/relationships/image" Target="../media/image116.wmf"/><Relationship Id="rId54" Type="http://schemas.openxmlformats.org/officeDocument/2006/relationships/image" Target="../media/image117.wmf"/><Relationship Id="rId55" Type="http://schemas.openxmlformats.org/officeDocument/2006/relationships/image" Target="../media/image118.wmf"/><Relationship Id="rId56" Type="http://schemas.openxmlformats.org/officeDocument/2006/relationships/image" Target="../media/image119.wmf"/><Relationship Id="rId57" Type="http://schemas.openxmlformats.org/officeDocument/2006/relationships/image" Target="../media/image120.wmf"/><Relationship Id="rId58" Type="http://schemas.openxmlformats.org/officeDocument/2006/relationships/image" Target="../media/image121.wmf"/><Relationship Id="rId59" Type="http://schemas.openxmlformats.org/officeDocument/2006/relationships/image" Target="../media/image122.wmf"/><Relationship Id="rId60" Type="http://schemas.openxmlformats.org/officeDocument/2006/relationships/image" Target="../media/image123.wmf"/><Relationship Id="rId61" Type="http://schemas.openxmlformats.org/officeDocument/2006/relationships/image" Target="../media/image124.wmf"/><Relationship Id="rId62" Type="http://schemas.openxmlformats.org/officeDocument/2006/relationships/image" Target="../media/image125.wmf"/><Relationship Id="rId63" Type="http://schemas.openxmlformats.org/officeDocument/2006/relationships/image" Target="../media/image126.wmf"/><Relationship Id="rId6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image" Target="../media/image131.wmf"/><Relationship Id="rId7" Type="http://schemas.openxmlformats.org/officeDocument/2006/relationships/image" Target="../media/image132.wmf"/><Relationship Id="rId8" Type="http://schemas.openxmlformats.org/officeDocument/2006/relationships/image" Target="../media/image133.wmf"/><Relationship Id="rId9" Type="http://schemas.openxmlformats.org/officeDocument/2006/relationships/image" Target="../media/image134.wmf"/><Relationship Id="rId10" Type="http://schemas.openxmlformats.org/officeDocument/2006/relationships/image" Target="../media/image135.wmf"/><Relationship Id="rId11" Type="http://schemas.openxmlformats.org/officeDocument/2006/relationships/image" Target="../media/image136.wmf"/><Relationship Id="rId12" Type="http://schemas.openxmlformats.org/officeDocument/2006/relationships/image" Target="../media/image137.wmf"/><Relationship Id="rId13" Type="http://schemas.openxmlformats.org/officeDocument/2006/relationships/image" Target="../media/image138.wmf"/><Relationship Id="rId14" Type="http://schemas.openxmlformats.org/officeDocument/2006/relationships/image" Target="../media/image139.wmf"/><Relationship Id="rId15" Type="http://schemas.openxmlformats.org/officeDocument/2006/relationships/image" Target="../media/image140.wmf"/><Relationship Id="rId16" Type="http://schemas.openxmlformats.org/officeDocument/2006/relationships/image" Target="../media/image141.wmf"/><Relationship Id="rId17" Type="http://schemas.openxmlformats.org/officeDocument/2006/relationships/image" Target="../media/image142.wmf"/><Relationship Id="rId18" Type="http://schemas.openxmlformats.org/officeDocument/2006/relationships/image" Target="../media/image143.wmf"/><Relationship Id="rId19" Type="http://schemas.openxmlformats.org/officeDocument/2006/relationships/image" Target="../media/image144.wmf"/><Relationship Id="rId20" Type="http://schemas.openxmlformats.org/officeDocument/2006/relationships/image" Target="../media/image145.wmf"/><Relationship Id="rId21" Type="http://schemas.openxmlformats.org/officeDocument/2006/relationships/image" Target="../media/image146.wmf"/><Relationship Id="rId22" Type="http://schemas.openxmlformats.org/officeDocument/2006/relationships/image" Target="../media/image147.wmf"/><Relationship Id="rId23" Type="http://schemas.openxmlformats.org/officeDocument/2006/relationships/image" Target="../media/image148.wmf"/><Relationship Id="rId24" Type="http://schemas.openxmlformats.org/officeDocument/2006/relationships/image" Target="../media/image149.wmf"/><Relationship Id="rId25" Type="http://schemas.openxmlformats.org/officeDocument/2006/relationships/image" Target="../media/image150.wmf"/><Relationship Id="rId26" Type="http://schemas.openxmlformats.org/officeDocument/2006/relationships/image" Target="../media/image151.wmf"/><Relationship Id="rId27" Type="http://schemas.openxmlformats.org/officeDocument/2006/relationships/image" Target="../media/image152.wmf"/><Relationship Id="rId28" Type="http://schemas.openxmlformats.org/officeDocument/2006/relationships/image" Target="../media/image153.wmf"/><Relationship Id="rId29" Type="http://schemas.openxmlformats.org/officeDocument/2006/relationships/image" Target="../media/image154.wmf"/><Relationship Id="rId30" Type="http://schemas.openxmlformats.org/officeDocument/2006/relationships/image" Target="../media/image155.wmf"/><Relationship Id="rId31" Type="http://schemas.openxmlformats.org/officeDocument/2006/relationships/image" Target="../media/image156.wmf"/><Relationship Id="rId32" Type="http://schemas.openxmlformats.org/officeDocument/2006/relationships/image" Target="../media/image157.wmf"/><Relationship Id="rId33" Type="http://schemas.openxmlformats.org/officeDocument/2006/relationships/image" Target="../media/image158.wmf"/><Relationship Id="rId34" Type="http://schemas.openxmlformats.org/officeDocument/2006/relationships/image" Target="../media/image159.wmf"/><Relationship Id="rId35" Type="http://schemas.openxmlformats.org/officeDocument/2006/relationships/image" Target="../media/image160.wmf"/><Relationship Id="rId36" Type="http://schemas.openxmlformats.org/officeDocument/2006/relationships/image" Target="../media/image161.wmf"/><Relationship Id="rId37" Type="http://schemas.openxmlformats.org/officeDocument/2006/relationships/image" Target="../media/image162.wmf"/><Relationship Id="rId38" Type="http://schemas.openxmlformats.org/officeDocument/2006/relationships/image" Target="../media/image163.wmf"/><Relationship Id="rId39" Type="http://schemas.openxmlformats.org/officeDocument/2006/relationships/image" Target="../media/image164.wmf"/><Relationship Id="rId40" Type="http://schemas.openxmlformats.org/officeDocument/2006/relationships/image" Target="../media/image165.wmf"/><Relationship Id="rId41" Type="http://schemas.openxmlformats.org/officeDocument/2006/relationships/image" Target="../media/image166.wmf"/><Relationship Id="rId42" Type="http://schemas.openxmlformats.org/officeDocument/2006/relationships/image" Target="../media/image167.wmf"/><Relationship Id="rId43" Type="http://schemas.openxmlformats.org/officeDocument/2006/relationships/image" Target="../media/image168.wmf"/><Relationship Id="rId44" Type="http://schemas.openxmlformats.org/officeDocument/2006/relationships/image" Target="../media/image169.wmf"/><Relationship Id="rId45" Type="http://schemas.openxmlformats.org/officeDocument/2006/relationships/image" Target="../media/image170.wmf"/><Relationship Id="rId46" Type="http://schemas.openxmlformats.org/officeDocument/2006/relationships/image" Target="../media/image171.wmf"/><Relationship Id="rId47" Type="http://schemas.openxmlformats.org/officeDocument/2006/relationships/image" Target="../media/image172.wmf"/><Relationship Id="rId48" Type="http://schemas.openxmlformats.org/officeDocument/2006/relationships/image" Target="../media/image173.wmf"/><Relationship Id="rId49" Type="http://schemas.openxmlformats.org/officeDocument/2006/relationships/image" Target="../media/image174.wmf"/><Relationship Id="rId50" Type="http://schemas.openxmlformats.org/officeDocument/2006/relationships/image" Target="../media/image175.wmf"/><Relationship Id="rId51" Type="http://schemas.openxmlformats.org/officeDocument/2006/relationships/image" Target="../media/image176.wmf"/><Relationship Id="rId52" Type="http://schemas.openxmlformats.org/officeDocument/2006/relationships/image" Target="../media/image177.wmf"/><Relationship Id="rId53" Type="http://schemas.openxmlformats.org/officeDocument/2006/relationships/image" Target="../media/image178.wmf"/><Relationship Id="rId54" Type="http://schemas.openxmlformats.org/officeDocument/2006/relationships/image" Target="../media/image179.wmf"/><Relationship Id="rId55" Type="http://schemas.openxmlformats.org/officeDocument/2006/relationships/image" Target="../media/image180.wmf"/><Relationship Id="rId56" Type="http://schemas.openxmlformats.org/officeDocument/2006/relationships/image" Target="../media/image181.wmf"/><Relationship Id="rId57" Type="http://schemas.openxmlformats.org/officeDocument/2006/relationships/image" Target="../media/image182.wmf"/><Relationship Id="rId58" Type="http://schemas.openxmlformats.org/officeDocument/2006/relationships/image" Target="../media/image183.wmf"/><Relationship Id="rId59" Type="http://schemas.openxmlformats.org/officeDocument/2006/relationships/image" Target="../media/image184.wmf"/><Relationship Id="rId60" Type="http://schemas.openxmlformats.org/officeDocument/2006/relationships/image" Target="../media/image185.wmf"/><Relationship Id="rId61" Type="http://schemas.openxmlformats.org/officeDocument/2006/relationships/image" Target="../media/image186.wmf"/><Relationship Id="rId62" Type="http://schemas.openxmlformats.org/officeDocument/2006/relationships/image" Target="../media/image187.wmf"/><Relationship Id="rId63" Type="http://schemas.openxmlformats.org/officeDocument/2006/relationships/image" Target="../media/image188.wmf"/><Relationship Id="rId6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image" Target="../media/image198.wmf"/><Relationship Id="rId12" Type="http://schemas.openxmlformats.org/officeDocument/2006/relationships/image" Target="../media/image199.wmf"/><Relationship Id="rId13" Type="http://schemas.openxmlformats.org/officeDocument/2006/relationships/image" Target="../media/image200.wmf"/><Relationship Id="rId14" Type="http://schemas.openxmlformats.org/officeDocument/2006/relationships/image" Target="../media/image201.wmf"/><Relationship Id="rId15" Type="http://schemas.openxmlformats.org/officeDocument/2006/relationships/image" Target="../media/image202.wmf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3.wmf"/><Relationship Id="rId3" Type="http://schemas.openxmlformats.org/officeDocument/2006/relationships/image" Target="../media/image204.wmf"/><Relationship Id="rId4" Type="http://schemas.openxmlformats.org/officeDocument/2006/relationships/image" Target="../media/image205.wmf"/><Relationship Id="rId5" Type="http://schemas.openxmlformats.org/officeDocument/2006/relationships/image" Target="../media/image206.wmf"/><Relationship Id="rId6" Type="http://schemas.openxmlformats.org/officeDocument/2006/relationships/image" Target="../media/image207.wmf"/><Relationship Id="rId7" Type="http://schemas.openxmlformats.org/officeDocument/2006/relationships/image" Target="../media/image208.wmf"/><Relationship Id="rId8" Type="http://schemas.openxmlformats.org/officeDocument/2006/relationships/image" Target="../media/image209.wmf"/><Relationship Id="rId9" Type="http://schemas.openxmlformats.org/officeDocument/2006/relationships/image" Target="../media/image210.wmf"/><Relationship Id="rId10" Type="http://schemas.openxmlformats.org/officeDocument/2006/relationships/image" Target="../media/image211.wmf"/><Relationship Id="rId11" Type="http://schemas.openxmlformats.org/officeDocument/2006/relationships/image" Target="../media/image212.wmf"/><Relationship Id="rId12" Type="http://schemas.openxmlformats.org/officeDocument/2006/relationships/image" Target="../media/image213.wmf"/><Relationship Id="rId13" Type="http://schemas.openxmlformats.org/officeDocument/2006/relationships/image" Target="../media/image214.wmf"/><Relationship Id="rId14" Type="http://schemas.openxmlformats.org/officeDocument/2006/relationships/image" Target="../media/image215.wmf"/><Relationship Id="rId15" Type="http://schemas.openxmlformats.org/officeDocument/2006/relationships/image" Target="../media/image216.wmf"/><Relationship Id="rId16" Type="http://schemas.openxmlformats.org/officeDocument/2006/relationships/image" Target="../media/image217.wmf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8.wmf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image" Target="../media/image228.wmf"/><Relationship Id="rId13" Type="http://schemas.openxmlformats.org/officeDocument/2006/relationships/image" Target="../media/image229.wmf"/><Relationship Id="rId14" Type="http://schemas.openxmlformats.org/officeDocument/2006/relationships/image" Target="../media/image230.wmf"/><Relationship Id="rId15" Type="http://schemas.openxmlformats.org/officeDocument/2006/relationships/image" Target="../media/image231.wmf"/><Relationship Id="rId16" Type="http://schemas.openxmlformats.org/officeDocument/2006/relationships/image" Target="../media/image232.wmf"/><Relationship Id="rId1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image" Target="../media/image239.wmf"/><Relationship Id="rId9" Type="http://schemas.openxmlformats.org/officeDocument/2006/relationships/image" Target="../media/image240.wmf"/><Relationship Id="rId10" Type="http://schemas.openxmlformats.org/officeDocument/2006/relationships/image" Target="../media/image241.wmf"/><Relationship Id="rId11" Type="http://schemas.openxmlformats.org/officeDocument/2006/relationships/image" Target="../media/image242.wmf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新魏"/>
              </a:rPr>
              <a:t>随机资料图标库</a:t>
            </a:r>
            <a:br>
              <a:rPr sz="4800"/>
            </a:br>
            <a:r>
              <a:rPr b="0" lang="zh-CN" sz="4800" spc="-1" strike="noStrike">
                <a:solidFill>
                  <a:srgbClr val="969696"/>
                </a:solidFill>
                <a:latin typeface="Arial"/>
                <a:ea typeface="华文新魏"/>
              </a:rPr>
              <a:t>V1.0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资料开发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2003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1184400" cy="159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1181160" cy="1347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1084320" cy="1346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3564000" y="1557360"/>
            <a:ext cx="1695240" cy="1646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1100160" cy="1351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7093080" y="3284640"/>
            <a:ext cx="1108080" cy="1380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468360" y="1557360"/>
            <a:ext cx="1104840" cy="1724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2268360" y="1484280"/>
            <a:ext cx="1105200" cy="1724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508720" y="1628640"/>
            <a:ext cx="1130040" cy="1098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"/>
          <a:stretch/>
        </p:blipFill>
        <p:spPr>
          <a:xfrm>
            <a:off x="755640" y="3573360"/>
            <a:ext cx="685800" cy="1368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2"/>
          <a:stretch/>
        </p:blipFill>
        <p:spPr>
          <a:xfrm>
            <a:off x="755640" y="5300640"/>
            <a:ext cx="1252440" cy="895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3"/>
          <a:stretch/>
        </p:blipFill>
        <p:spPr>
          <a:xfrm>
            <a:off x="4356000" y="5157720"/>
            <a:ext cx="1108080" cy="1189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4"/>
          <a:stretch/>
        </p:blipFill>
        <p:spPr>
          <a:xfrm>
            <a:off x="2556000" y="5373720"/>
            <a:ext cx="1114200" cy="87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340000" cy="1301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1487520" cy="16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6084720" y="1916280"/>
            <a:ext cx="2194200" cy="1242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2160720" cy="14176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1511280" cy="10544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6516720" y="3933720"/>
            <a:ext cx="1293840" cy="136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建筑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008000" cy="988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1660680" y="1778040"/>
            <a:ext cx="1341360" cy="866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060560" cy="609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684360" y="2924280"/>
            <a:ext cx="1019160" cy="912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1763640" y="2852640"/>
            <a:ext cx="1730520" cy="1086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564000" y="3213000"/>
            <a:ext cx="830160" cy="519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4356000" y="1484280"/>
            <a:ext cx="1935360" cy="11113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6443640" y="1268280"/>
            <a:ext cx="147492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826920" y="5516640"/>
            <a:ext cx="1108080" cy="8794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7380360" y="2852640"/>
            <a:ext cx="849240" cy="10796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1042920" y="4292640"/>
            <a:ext cx="530280" cy="936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4572000" y="2852640"/>
            <a:ext cx="825480" cy="68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5796000" y="2924280"/>
            <a:ext cx="1120680" cy="9842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5"/>
          <a:stretch/>
        </p:blipFill>
        <p:spPr>
          <a:xfrm>
            <a:off x="2484360" y="4292640"/>
            <a:ext cx="1114560" cy="947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6"/>
          <a:stretch/>
        </p:blipFill>
        <p:spPr>
          <a:xfrm>
            <a:off x="3708360" y="4149720"/>
            <a:ext cx="652680" cy="115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7"/>
          <a:stretch/>
        </p:blipFill>
        <p:spPr>
          <a:xfrm>
            <a:off x="4643280" y="4005360"/>
            <a:ext cx="825480" cy="1253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5796000" y="4005360"/>
            <a:ext cx="1114560" cy="12650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9"/>
          <a:stretch/>
        </p:blipFill>
        <p:spPr>
          <a:xfrm>
            <a:off x="2195640" y="5734080"/>
            <a:ext cx="1304640" cy="581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0"/>
          <a:stretch/>
        </p:blipFill>
        <p:spPr>
          <a:xfrm>
            <a:off x="3851280" y="5516640"/>
            <a:ext cx="1511280" cy="861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1"/>
          <a:stretch/>
        </p:blipFill>
        <p:spPr>
          <a:xfrm>
            <a:off x="7451640" y="4724280"/>
            <a:ext cx="1117800" cy="16066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2"/>
          <a:stretch/>
        </p:blipFill>
        <p:spPr>
          <a:xfrm>
            <a:off x="5580000" y="5300640"/>
            <a:ext cx="1368360" cy="105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网络云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41680" y="1643040"/>
            <a:ext cx="1073160" cy="714240"/>
          </a:xfrm>
          <a:custGeom>
            <a:avLst/>
            <a:gdLst/>
            <a:ahLst/>
            <a:rect l="l" t="t" r="r" b="b"/>
            <a:pathLst>
              <a:path w="2029" h="1351">
                <a:moveTo>
                  <a:pt x="399" y="378"/>
                </a:moveTo>
                <a:lnTo>
                  <a:pt x="376" y="382"/>
                </a:lnTo>
                <a:lnTo>
                  <a:pt x="321" y="389"/>
                </a:lnTo>
                <a:lnTo>
                  <a:pt x="265" y="402"/>
                </a:lnTo>
                <a:lnTo>
                  <a:pt x="235" y="411"/>
                </a:lnTo>
                <a:lnTo>
                  <a:pt x="203" y="419"/>
                </a:lnTo>
                <a:lnTo>
                  <a:pt x="172" y="430"/>
                </a:lnTo>
                <a:lnTo>
                  <a:pt x="154" y="435"/>
                </a:lnTo>
                <a:lnTo>
                  <a:pt x="140" y="442"/>
                </a:lnTo>
                <a:lnTo>
                  <a:pt x="124" y="451"/>
                </a:lnTo>
                <a:lnTo>
                  <a:pt x="97" y="468"/>
                </a:lnTo>
                <a:lnTo>
                  <a:pt x="84" y="480"/>
                </a:lnTo>
                <a:lnTo>
                  <a:pt x="71" y="490"/>
                </a:lnTo>
                <a:lnTo>
                  <a:pt x="61" y="503"/>
                </a:lnTo>
                <a:lnTo>
                  <a:pt x="51" y="514"/>
                </a:lnTo>
                <a:lnTo>
                  <a:pt x="41" y="527"/>
                </a:lnTo>
                <a:lnTo>
                  <a:pt x="25" y="556"/>
                </a:lnTo>
                <a:lnTo>
                  <a:pt x="12" y="584"/>
                </a:lnTo>
                <a:lnTo>
                  <a:pt x="5" y="614"/>
                </a:lnTo>
                <a:lnTo>
                  <a:pt x="2" y="628"/>
                </a:lnTo>
                <a:lnTo>
                  <a:pt x="0" y="644"/>
                </a:lnTo>
                <a:lnTo>
                  <a:pt x="3" y="674"/>
                </a:lnTo>
                <a:lnTo>
                  <a:pt x="5" y="689"/>
                </a:lnTo>
                <a:lnTo>
                  <a:pt x="8" y="703"/>
                </a:lnTo>
                <a:lnTo>
                  <a:pt x="13" y="718"/>
                </a:lnTo>
                <a:lnTo>
                  <a:pt x="19" y="732"/>
                </a:lnTo>
                <a:lnTo>
                  <a:pt x="28" y="746"/>
                </a:lnTo>
                <a:lnTo>
                  <a:pt x="36" y="759"/>
                </a:lnTo>
                <a:lnTo>
                  <a:pt x="59" y="785"/>
                </a:lnTo>
                <a:lnTo>
                  <a:pt x="72" y="797"/>
                </a:lnTo>
                <a:lnTo>
                  <a:pt x="87" y="808"/>
                </a:lnTo>
                <a:lnTo>
                  <a:pt x="104" y="818"/>
                </a:lnTo>
                <a:lnTo>
                  <a:pt x="121" y="828"/>
                </a:lnTo>
                <a:lnTo>
                  <a:pt x="144" y="839"/>
                </a:lnTo>
                <a:lnTo>
                  <a:pt x="166" y="849"/>
                </a:lnTo>
                <a:lnTo>
                  <a:pt x="186" y="856"/>
                </a:lnTo>
                <a:lnTo>
                  <a:pt x="203" y="862"/>
                </a:lnTo>
                <a:lnTo>
                  <a:pt x="215" y="859"/>
                </a:lnTo>
                <a:lnTo>
                  <a:pt x="215" y="860"/>
                </a:lnTo>
                <a:lnTo>
                  <a:pt x="220" y="862"/>
                </a:lnTo>
                <a:lnTo>
                  <a:pt x="220" y="860"/>
                </a:lnTo>
                <a:lnTo>
                  <a:pt x="206" y="872"/>
                </a:lnTo>
                <a:lnTo>
                  <a:pt x="161" y="918"/>
                </a:lnTo>
                <a:lnTo>
                  <a:pt x="133" y="951"/>
                </a:lnTo>
                <a:lnTo>
                  <a:pt x="113" y="983"/>
                </a:lnTo>
                <a:lnTo>
                  <a:pt x="98" y="1014"/>
                </a:lnTo>
                <a:lnTo>
                  <a:pt x="90" y="1044"/>
                </a:lnTo>
                <a:lnTo>
                  <a:pt x="88" y="1075"/>
                </a:lnTo>
                <a:lnTo>
                  <a:pt x="92" y="1102"/>
                </a:lnTo>
                <a:lnTo>
                  <a:pt x="101" y="1129"/>
                </a:lnTo>
                <a:lnTo>
                  <a:pt x="115" y="1155"/>
                </a:lnTo>
                <a:lnTo>
                  <a:pt x="133" y="1180"/>
                </a:lnTo>
                <a:lnTo>
                  <a:pt x="156" y="1204"/>
                </a:lnTo>
                <a:lnTo>
                  <a:pt x="183" y="1226"/>
                </a:lnTo>
                <a:lnTo>
                  <a:pt x="212" y="1246"/>
                </a:lnTo>
                <a:lnTo>
                  <a:pt x="246" y="1265"/>
                </a:lnTo>
                <a:lnTo>
                  <a:pt x="282" y="1282"/>
                </a:lnTo>
                <a:lnTo>
                  <a:pt x="321" y="1298"/>
                </a:lnTo>
                <a:lnTo>
                  <a:pt x="363" y="1311"/>
                </a:lnTo>
                <a:lnTo>
                  <a:pt x="405" y="1322"/>
                </a:lnTo>
                <a:lnTo>
                  <a:pt x="449" y="1332"/>
                </a:lnTo>
                <a:lnTo>
                  <a:pt x="495" y="1341"/>
                </a:lnTo>
                <a:lnTo>
                  <a:pt x="541" y="1345"/>
                </a:lnTo>
                <a:lnTo>
                  <a:pt x="587" y="1350"/>
                </a:lnTo>
                <a:lnTo>
                  <a:pt x="635" y="1351"/>
                </a:lnTo>
                <a:lnTo>
                  <a:pt x="680" y="1348"/>
                </a:lnTo>
                <a:lnTo>
                  <a:pt x="726" y="1344"/>
                </a:lnTo>
                <a:lnTo>
                  <a:pt x="770" y="1338"/>
                </a:lnTo>
                <a:lnTo>
                  <a:pt x="815" y="1328"/>
                </a:lnTo>
                <a:lnTo>
                  <a:pt x="856" y="1317"/>
                </a:lnTo>
                <a:lnTo>
                  <a:pt x="897" y="1301"/>
                </a:lnTo>
                <a:lnTo>
                  <a:pt x="934" y="1284"/>
                </a:lnTo>
                <a:lnTo>
                  <a:pt x="970" y="1263"/>
                </a:lnTo>
                <a:lnTo>
                  <a:pt x="1002" y="1239"/>
                </a:lnTo>
                <a:lnTo>
                  <a:pt x="1029" y="1212"/>
                </a:lnTo>
                <a:lnTo>
                  <a:pt x="1045" y="1224"/>
                </a:lnTo>
                <a:lnTo>
                  <a:pt x="1061" y="1236"/>
                </a:lnTo>
                <a:lnTo>
                  <a:pt x="1097" y="1259"/>
                </a:lnTo>
                <a:lnTo>
                  <a:pt x="1139" y="1279"/>
                </a:lnTo>
                <a:lnTo>
                  <a:pt x="1159" y="1288"/>
                </a:lnTo>
                <a:lnTo>
                  <a:pt x="1180" y="1296"/>
                </a:lnTo>
                <a:lnTo>
                  <a:pt x="1226" y="1309"/>
                </a:lnTo>
                <a:lnTo>
                  <a:pt x="1249" y="1315"/>
                </a:lnTo>
                <a:lnTo>
                  <a:pt x="1274" y="1320"/>
                </a:lnTo>
                <a:lnTo>
                  <a:pt x="1300" y="1322"/>
                </a:lnTo>
                <a:lnTo>
                  <a:pt x="1326" y="1325"/>
                </a:lnTo>
                <a:lnTo>
                  <a:pt x="1351" y="1327"/>
                </a:lnTo>
                <a:lnTo>
                  <a:pt x="1377" y="1328"/>
                </a:lnTo>
                <a:lnTo>
                  <a:pt x="1400" y="1327"/>
                </a:lnTo>
                <a:lnTo>
                  <a:pt x="1422" y="1325"/>
                </a:lnTo>
                <a:lnTo>
                  <a:pt x="1445" y="1324"/>
                </a:lnTo>
                <a:lnTo>
                  <a:pt x="1465" y="1321"/>
                </a:lnTo>
                <a:lnTo>
                  <a:pt x="1487" y="1318"/>
                </a:lnTo>
                <a:lnTo>
                  <a:pt x="1507" y="1314"/>
                </a:lnTo>
                <a:lnTo>
                  <a:pt x="1549" y="1304"/>
                </a:lnTo>
                <a:lnTo>
                  <a:pt x="1567" y="1299"/>
                </a:lnTo>
                <a:lnTo>
                  <a:pt x="1586" y="1292"/>
                </a:lnTo>
                <a:lnTo>
                  <a:pt x="1641" y="1269"/>
                </a:lnTo>
                <a:lnTo>
                  <a:pt x="1657" y="1260"/>
                </a:lnTo>
                <a:lnTo>
                  <a:pt x="1672" y="1250"/>
                </a:lnTo>
                <a:lnTo>
                  <a:pt x="1687" y="1242"/>
                </a:lnTo>
                <a:lnTo>
                  <a:pt x="1703" y="1232"/>
                </a:lnTo>
                <a:lnTo>
                  <a:pt x="1717" y="1220"/>
                </a:lnTo>
                <a:lnTo>
                  <a:pt x="1730" y="1209"/>
                </a:lnTo>
                <a:lnTo>
                  <a:pt x="1741" y="1197"/>
                </a:lnTo>
                <a:lnTo>
                  <a:pt x="1753" y="1186"/>
                </a:lnTo>
                <a:lnTo>
                  <a:pt x="1764" y="1174"/>
                </a:lnTo>
                <a:lnTo>
                  <a:pt x="1782" y="1148"/>
                </a:lnTo>
                <a:lnTo>
                  <a:pt x="1798" y="1119"/>
                </a:lnTo>
                <a:lnTo>
                  <a:pt x="1808" y="1092"/>
                </a:lnTo>
                <a:lnTo>
                  <a:pt x="1811" y="1078"/>
                </a:lnTo>
                <a:lnTo>
                  <a:pt x="1815" y="1063"/>
                </a:lnTo>
                <a:lnTo>
                  <a:pt x="1816" y="1049"/>
                </a:lnTo>
                <a:lnTo>
                  <a:pt x="1816" y="1014"/>
                </a:lnTo>
                <a:lnTo>
                  <a:pt x="1809" y="975"/>
                </a:lnTo>
                <a:lnTo>
                  <a:pt x="1802" y="957"/>
                </a:lnTo>
                <a:lnTo>
                  <a:pt x="1793" y="939"/>
                </a:lnTo>
                <a:lnTo>
                  <a:pt x="1785" y="922"/>
                </a:lnTo>
                <a:lnTo>
                  <a:pt x="1773" y="905"/>
                </a:lnTo>
                <a:lnTo>
                  <a:pt x="1760" y="889"/>
                </a:lnTo>
                <a:lnTo>
                  <a:pt x="1766" y="906"/>
                </a:lnTo>
                <a:lnTo>
                  <a:pt x="1772" y="925"/>
                </a:lnTo>
                <a:lnTo>
                  <a:pt x="1775" y="942"/>
                </a:lnTo>
                <a:lnTo>
                  <a:pt x="1776" y="962"/>
                </a:lnTo>
                <a:lnTo>
                  <a:pt x="1775" y="975"/>
                </a:lnTo>
                <a:lnTo>
                  <a:pt x="1773" y="988"/>
                </a:lnTo>
                <a:lnTo>
                  <a:pt x="1770" y="1003"/>
                </a:lnTo>
                <a:lnTo>
                  <a:pt x="1763" y="1029"/>
                </a:lnTo>
                <a:lnTo>
                  <a:pt x="1756" y="1040"/>
                </a:lnTo>
                <a:lnTo>
                  <a:pt x="1752" y="1053"/>
                </a:lnTo>
                <a:lnTo>
                  <a:pt x="1743" y="1065"/>
                </a:lnTo>
                <a:lnTo>
                  <a:pt x="1736" y="1078"/>
                </a:lnTo>
                <a:lnTo>
                  <a:pt x="1727" y="1089"/>
                </a:lnTo>
                <a:lnTo>
                  <a:pt x="1717" y="1101"/>
                </a:lnTo>
                <a:lnTo>
                  <a:pt x="1707" y="1111"/>
                </a:lnTo>
                <a:lnTo>
                  <a:pt x="1684" y="1131"/>
                </a:lnTo>
                <a:lnTo>
                  <a:pt x="1671" y="1141"/>
                </a:lnTo>
                <a:lnTo>
                  <a:pt x="1658" y="1151"/>
                </a:lnTo>
                <a:lnTo>
                  <a:pt x="1644" y="1160"/>
                </a:lnTo>
                <a:lnTo>
                  <a:pt x="1629" y="1168"/>
                </a:lnTo>
                <a:lnTo>
                  <a:pt x="1598" y="1184"/>
                </a:lnTo>
                <a:lnTo>
                  <a:pt x="1582" y="1190"/>
                </a:lnTo>
                <a:lnTo>
                  <a:pt x="1564" y="1197"/>
                </a:lnTo>
                <a:lnTo>
                  <a:pt x="1549" y="1203"/>
                </a:lnTo>
                <a:lnTo>
                  <a:pt x="1513" y="1213"/>
                </a:lnTo>
                <a:lnTo>
                  <a:pt x="1455" y="1224"/>
                </a:lnTo>
                <a:lnTo>
                  <a:pt x="1436" y="1227"/>
                </a:lnTo>
                <a:lnTo>
                  <a:pt x="1395" y="1230"/>
                </a:lnTo>
                <a:lnTo>
                  <a:pt x="1350" y="1230"/>
                </a:lnTo>
                <a:lnTo>
                  <a:pt x="1328" y="1227"/>
                </a:lnTo>
                <a:lnTo>
                  <a:pt x="1304" y="1226"/>
                </a:lnTo>
                <a:lnTo>
                  <a:pt x="1282" y="1222"/>
                </a:lnTo>
                <a:lnTo>
                  <a:pt x="1259" y="1219"/>
                </a:lnTo>
                <a:lnTo>
                  <a:pt x="1238" y="1213"/>
                </a:lnTo>
                <a:lnTo>
                  <a:pt x="1216" y="1207"/>
                </a:lnTo>
                <a:lnTo>
                  <a:pt x="1175" y="1194"/>
                </a:lnTo>
                <a:lnTo>
                  <a:pt x="1156" y="1186"/>
                </a:lnTo>
                <a:lnTo>
                  <a:pt x="1139" y="1177"/>
                </a:lnTo>
                <a:lnTo>
                  <a:pt x="1120" y="1167"/>
                </a:lnTo>
                <a:lnTo>
                  <a:pt x="1087" y="1147"/>
                </a:lnTo>
                <a:lnTo>
                  <a:pt x="1071" y="1135"/>
                </a:lnTo>
                <a:lnTo>
                  <a:pt x="1058" y="1124"/>
                </a:lnTo>
                <a:lnTo>
                  <a:pt x="1032" y="1150"/>
                </a:lnTo>
                <a:lnTo>
                  <a:pt x="1003" y="1171"/>
                </a:lnTo>
                <a:lnTo>
                  <a:pt x="970" y="1190"/>
                </a:lnTo>
                <a:lnTo>
                  <a:pt x="937" y="1206"/>
                </a:lnTo>
                <a:lnTo>
                  <a:pt x="901" y="1220"/>
                </a:lnTo>
                <a:lnTo>
                  <a:pt x="862" y="1232"/>
                </a:lnTo>
                <a:lnTo>
                  <a:pt x="823" y="1239"/>
                </a:lnTo>
                <a:lnTo>
                  <a:pt x="782" y="1245"/>
                </a:lnTo>
                <a:lnTo>
                  <a:pt x="740" y="1249"/>
                </a:lnTo>
                <a:lnTo>
                  <a:pt x="698" y="1250"/>
                </a:lnTo>
                <a:lnTo>
                  <a:pt x="655" y="1250"/>
                </a:lnTo>
                <a:lnTo>
                  <a:pt x="570" y="1243"/>
                </a:lnTo>
                <a:lnTo>
                  <a:pt x="530" y="1235"/>
                </a:lnTo>
                <a:lnTo>
                  <a:pt x="490" y="1226"/>
                </a:lnTo>
                <a:lnTo>
                  <a:pt x="449" y="1216"/>
                </a:lnTo>
                <a:lnTo>
                  <a:pt x="412" y="1203"/>
                </a:lnTo>
                <a:lnTo>
                  <a:pt x="377" y="1188"/>
                </a:lnTo>
                <a:lnTo>
                  <a:pt x="343" y="1174"/>
                </a:lnTo>
                <a:lnTo>
                  <a:pt x="314" y="1155"/>
                </a:lnTo>
                <a:lnTo>
                  <a:pt x="287" y="1137"/>
                </a:lnTo>
                <a:lnTo>
                  <a:pt x="262" y="1118"/>
                </a:lnTo>
                <a:lnTo>
                  <a:pt x="242" y="1096"/>
                </a:lnTo>
                <a:lnTo>
                  <a:pt x="223" y="1073"/>
                </a:lnTo>
                <a:lnTo>
                  <a:pt x="212" y="1049"/>
                </a:lnTo>
                <a:lnTo>
                  <a:pt x="203" y="1024"/>
                </a:lnTo>
                <a:lnTo>
                  <a:pt x="200" y="998"/>
                </a:lnTo>
                <a:lnTo>
                  <a:pt x="202" y="972"/>
                </a:lnTo>
                <a:lnTo>
                  <a:pt x="209" y="944"/>
                </a:lnTo>
                <a:lnTo>
                  <a:pt x="222" y="916"/>
                </a:lnTo>
                <a:lnTo>
                  <a:pt x="242" y="886"/>
                </a:lnTo>
                <a:lnTo>
                  <a:pt x="267" y="857"/>
                </a:lnTo>
                <a:lnTo>
                  <a:pt x="308" y="815"/>
                </a:lnTo>
                <a:lnTo>
                  <a:pt x="321" y="804"/>
                </a:lnTo>
                <a:lnTo>
                  <a:pt x="320" y="805"/>
                </a:lnTo>
                <a:lnTo>
                  <a:pt x="315" y="804"/>
                </a:lnTo>
                <a:lnTo>
                  <a:pt x="315" y="803"/>
                </a:lnTo>
                <a:lnTo>
                  <a:pt x="304" y="805"/>
                </a:lnTo>
                <a:lnTo>
                  <a:pt x="288" y="800"/>
                </a:lnTo>
                <a:lnTo>
                  <a:pt x="271" y="794"/>
                </a:lnTo>
                <a:lnTo>
                  <a:pt x="252" y="784"/>
                </a:lnTo>
                <a:lnTo>
                  <a:pt x="231" y="775"/>
                </a:lnTo>
                <a:lnTo>
                  <a:pt x="215" y="767"/>
                </a:lnTo>
                <a:lnTo>
                  <a:pt x="199" y="756"/>
                </a:lnTo>
                <a:lnTo>
                  <a:pt x="186" y="746"/>
                </a:lnTo>
                <a:lnTo>
                  <a:pt x="174" y="736"/>
                </a:lnTo>
                <a:lnTo>
                  <a:pt x="163" y="725"/>
                </a:lnTo>
                <a:lnTo>
                  <a:pt x="153" y="713"/>
                </a:lnTo>
                <a:lnTo>
                  <a:pt x="144" y="700"/>
                </a:lnTo>
                <a:lnTo>
                  <a:pt x="131" y="674"/>
                </a:lnTo>
                <a:lnTo>
                  <a:pt x="128" y="661"/>
                </a:lnTo>
                <a:lnTo>
                  <a:pt x="124" y="648"/>
                </a:lnTo>
                <a:lnTo>
                  <a:pt x="121" y="635"/>
                </a:lnTo>
                <a:lnTo>
                  <a:pt x="120" y="621"/>
                </a:lnTo>
                <a:lnTo>
                  <a:pt x="120" y="607"/>
                </a:lnTo>
                <a:lnTo>
                  <a:pt x="121" y="592"/>
                </a:lnTo>
                <a:lnTo>
                  <a:pt x="124" y="581"/>
                </a:lnTo>
                <a:lnTo>
                  <a:pt x="127" y="566"/>
                </a:lnTo>
                <a:lnTo>
                  <a:pt x="131" y="553"/>
                </a:lnTo>
                <a:lnTo>
                  <a:pt x="136" y="539"/>
                </a:lnTo>
                <a:lnTo>
                  <a:pt x="149" y="513"/>
                </a:lnTo>
                <a:lnTo>
                  <a:pt x="156" y="502"/>
                </a:lnTo>
                <a:lnTo>
                  <a:pt x="164" y="490"/>
                </a:lnTo>
                <a:lnTo>
                  <a:pt x="174" y="478"/>
                </a:lnTo>
                <a:lnTo>
                  <a:pt x="185" y="468"/>
                </a:lnTo>
                <a:lnTo>
                  <a:pt x="208" y="447"/>
                </a:lnTo>
                <a:lnTo>
                  <a:pt x="220" y="438"/>
                </a:lnTo>
                <a:lnTo>
                  <a:pt x="232" y="431"/>
                </a:lnTo>
                <a:lnTo>
                  <a:pt x="246" y="424"/>
                </a:lnTo>
                <a:lnTo>
                  <a:pt x="261" y="417"/>
                </a:lnTo>
                <a:lnTo>
                  <a:pt x="277" y="412"/>
                </a:lnTo>
                <a:lnTo>
                  <a:pt x="310" y="401"/>
                </a:lnTo>
                <a:lnTo>
                  <a:pt x="341" y="392"/>
                </a:lnTo>
                <a:lnTo>
                  <a:pt x="370" y="385"/>
                </a:lnTo>
                <a:lnTo>
                  <a:pt x="399" y="378"/>
                </a:lnTo>
                <a:close/>
                <a:moveTo>
                  <a:pt x="1744" y="860"/>
                </a:moveTo>
                <a:lnTo>
                  <a:pt x="1741" y="844"/>
                </a:lnTo>
                <a:lnTo>
                  <a:pt x="1736" y="830"/>
                </a:lnTo>
                <a:lnTo>
                  <a:pt x="1731" y="815"/>
                </a:lnTo>
                <a:lnTo>
                  <a:pt x="1727" y="798"/>
                </a:lnTo>
                <a:lnTo>
                  <a:pt x="1762" y="788"/>
                </a:lnTo>
                <a:lnTo>
                  <a:pt x="1795" y="775"/>
                </a:lnTo>
                <a:lnTo>
                  <a:pt x="1826" y="759"/>
                </a:lnTo>
                <a:lnTo>
                  <a:pt x="1857" y="743"/>
                </a:lnTo>
                <a:lnTo>
                  <a:pt x="1885" y="726"/>
                </a:lnTo>
                <a:lnTo>
                  <a:pt x="1910" y="706"/>
                </a:lnTo>
                <a:lnTo>
                  <a:pt x="1934" y="687"/>
                </a:lnTo>
                <a:lnTo>
                  <a:pt x="1956" y="666"/>
                </a:lnTo>
                <a:lnTo>
                  <a:pt x="1976" y="643"/>
                </a:lnTo>
                <a:lnTo>
                  <a:pt x="1992" y="620"/>
                </a:lnTo>
                <a:lnTo>
                  <a:pt x="2005" y="597"/>
                </a:lnTo>
                <a:lnTo>
                  <a:pt x="2011" y="584"/>
                </a:lnTo>
                <a:lnTo>
                  <a:pt x="2016" y="572"/>
                </a:lnTo>
                <a:lnTo>
                  <a:pt x="2023" y="546"/>
                </a:lnTo>
                <a:lnTo>
                  <a:pt x="2026" y="536"/>
                </a:lnTo>
                <a:lnTo>
                  <a:pt x="2029" y="523"/>
                </a:lnTo>
                <a:lnTo>
                  <a:pt x="2029" y="486"/>
                </a:lnTo>
                <a:lnTo>
                  <a:pt x="2028" y="473"/>
                </a:lnTo>
                <a:lnTo>
                  <a:pt x="2023" y="455"/>
                </a:lnTo>
                <a:lnTo>
                  <a:pt x="2018" y="437"/>
                </a:lnTo>
                <a:lnTo>
                  <a:pt x="2011" y="421"/>
                </a:lnTo>
                <a:lnTo>
                  <a:pt x="1999" y="404"/>
                </a:lnTo>
                <a:lnTo>
                  <a:pt x="1989" y="389"/>
                </a:lnTo>
                <a:lnTo>
                  <a:pt x="1977" y="375"/>
                </a:lnTo>
                <a:lnTo>
                  <a:pt x="1963" y="362"/>
                </a:lnTo>
                <a:lnTo>
                  <a:pt x="1930" y="339"/>
                </a:lnTo>
                <a:lnTo>
                  <a:pt x="1911" y="329"/>
                </a:lnTo>
                <a:lnTo>
                  <a:pt x="1891" y="320"/>
                </a:lnTo>
                <a:lnTo>
                  <a:pt x="1871" y="311"/>
                </a:lnTo>
                <a:lnTo>
                  <a:pt x="1828" y="300"/>
                </a:lnTo>
                <a:lnTo>
                  <a:pt x="1779" y="291"/>
                </a:lnTo>
                <a:lnTo>
                  <a:pt x="1798" y="297"/>
                </a:lnTo>
                <a:lnTo>
                  <a:pt x="1816" y="301"/>
                </a:lnTo>
                <a:lnTo>
                  <a:pt x="1832" y="307"/>
                </a:lnTo>
                <a:lnTo>
                  <a:pt x="1849" y="314"/>
                </a:lnTo>
                <a:lnTo>
                  <a:pt x="1865" y="322"/>
                </a:lnTo>
                <a:lnTo>
                  <a:pt x="1880" y="330"/>
                </a:lnTo>
                <a:lnTo>
                  <a:pt x="1893" y="339"/>
                </a:lnTo>
                <a:lnTo>
                  <a:pt x="1918" y="359"/>
                </a:lnTo>
                <a:lnTo>
                  <a:pt x="1939" y="382"/>
                </a:lnTo>
                <a:lnTo>
                  <a:pt x="1954" y="408"/>
                </a:lnTo>
                <a:lnTo>
                  <a:pt x="1964" y="435"/>
                </a:lnTo>
                <a:lnTo>
                  <a:pt x="1966" y="451"/>
                </a:lnTo>
                <a:lnTo>
                  <a:pt x="1967" y="463"/>
                </a:lnTo>
                <a:lnTo>
                  <a:pt x="1969" y="473"/>
                </a:lnTo>
                <a:lnTo>
                  <a:pt x="1969" y="484"/>
                </a:lnTo>
                <a:lnTo>
                  <a:pt x="1966" y="507"/>
                </a:lnTo>
                <a:lnTo>
                  <a:pt x="1964" y="519"/>
                </a:lnTo>
                <a:lnTo>
                  <a:pt x="1956" y="542"/>
                </a:lnTo>
                <a:lnTo>
                  <a:pt x="1953" y="552"/>
                </a:lnTo>
                <a:lnTo>
                  <a:pt x="1947" y="563"/>
                </a:lnTo>
                <a:lnTo>
                  <a:pt x="1941" y="574"/>
                </a:lnTo>
                <a:lnTo>
                  <a:pt x="1934" y="585"/>
                </a:lnTo>
                <a:lnTo>
                  <a:pt x="1920" y="605"/>
                </a:lnTo>
                <a:lnTo>
                  <a:pt x="1901" y="625"/>
                </a:lnTo>
                <a:lnTo>
                  <a:pt x="1882" y="647"/>
                </a:lnTo>
                <a:lnTo>
                  <a:pt x="1861" y="664"/>
                </a:lnTo>
                <a:lnTo>
                  <a:pt x="1836" y="682"/>
                </a:lnTo>
                <a:lnTo>
                  <a:pt x="1811" y="697"/>
                </a:lnTo>
                <a:lnTo>
                  <a:pt x="1785" y="713"/>
                </a:lnTo>
                <a:lnTo>
                  <a:pt x="1754" y="726"/>
                </a:lnTo>
                <a:lnTo>
                  <a:pt x="1724" y="738"/>
                </a:lnTo>
                <a:lnTo>
                  <a:pt x="1693" y="748"/>
                </a:lnTo>
                <a:lnTo>
                  <a:pt x="1698" y="767"/>
                </a:lnTo>
                <a:lnTo>
                  <a:pt x="1708" y="803"/>
                </a:lnTo>
                <a:lnTo>
                  <a:pt x="1713" y="818"/>
                </a:lnTo>
                <a:lnTo>
                  <a:pt x="1721" y="827"/>
                </a:lnTo>
                <a:lnTo>
                  <a:pt x="1737" y="849"/>
                </a:lnTo>
                <a:lnTo>
                  <a:pt x="1744" y="860"/>
                </a:lnTo>
                <a:close/>
                <a:moveTo>
                  <a:pt x="1592" y="296"/>
                </a:moveTo>
                <a:lnTo>
                  <a:pt x="1595" y="255"/>
                </a:lnTo>
                <a:lnTo>
                  <a:pt x="1592" y="219"/>
                </a:lnTo>
                <a:lnTo>
                  <a:pt x="1583" y="186"/>
                </a:lnTo>
                <a:lnTo>
                  <a:pt x="1570" y="154"/>
                </a:lnTo>
                <a:lnTo>
                  <a:pt x="1551" y="127"/>
                </a:lnTo>
                <a:lnTo>
                  <a:pt x="1530" y="101"/>
                </a:lnTo>
                <a:lnTo>
                  <a:pt x="1505" y="78"/>
                </a:lnTo>
                <a:lnTo>
                  <a:pt x="1477" y="59"/>
                </a:lnTo>
                <a:lnTo>
                  <a:pt x="1444" y="42"/>
                </a:lnTo>
                <a:lnTo>
                  <a:pt x="1409" y="29"/>
                </a:lnTo>
                <a:lnTo>
                  <a:pt x="1373" y="18"/>
                </a:lnTo>
                <a:lnTo>
                  <a:pt x="1333" y="9"/>
                </a:lnTo>
                <a:lnTo>
                  <a:pt x="1292" y="3"/>
                </a:lnTo>
                <a:lnTo>
                  <a:pt x="1249" y="0"/>
                </a:lnTo>
                <a:lnTo>
                  <a:pt x="1205" y="0"/>
                </a:lnTo>
                <a:lnTo>
                  <a:pt x="1162" y="2"/>
                </a:lnTo>
                <a:lnTo>
                  <a:pt x="1117" y="8"/>
                </a:lnTo>
                <a:lnTo>
                  <a:pt x="1074" y="15"/>
                </a:lnTo>
                <a:lnTo>
                  <a:pt x="1031" y="23"/>
                </a:lnTo>
                <a:lnTo>
                  <a:pt x="987" y="36"/>
                </a:lnTo>
                <a:lnTo>
                  <a:pt x="946" y="51"/>
                </a:lnTo>
                <a:lnTo>
                  <a:pt x="905" y="68"/>
                </a:lnTo>
                <a:lnTo>
                  <a:pt x="868" y="87"/>
                </a:lnTo>
                <a:lnTo>
                  <a:pt x="832" y="110"/>
                </a:lnTo>
                <a:lnTo>
                  <a:pt x="799" y="134"/>
                </a:lnTo>
                <a:lnTo>
                  <a:pt x="769" y="162"/>
                </a:lnTo>
                <a:lnTo>
                  <a:pt x="741" y="189"/>
                </a:lnTo>
                <a:lnTo>
                  <a:pt x="718" y="221"/>
                </a:lnTo>
                <a:lnTo>
                  <a:pt x="700" y="255"/>
                </a:lnTo>
                <a:lnTo>
                  <a:pt x="685" y="290"/>
                </a:lnTo>
                <a:lnTo>
                  <a:pt x="675" y="329"/>
                </a:lnTo>
                <a:lnTo>
                  <a:pt x="669" y="368"/>
                </a:lnTo>
                <a:lnTo>
                  <a:pt x="698" y="375"/>
                </a:lnTo>
                <a:lnTo>
                  <a:pt x="717" y="379"/>
                </a:lnTo>
                <a:lnTo>
                  <a:pt x="727" y="383"/>
                </a:lnTo>
                <a:lnTo>
                  <a:pt x="730" y="385"/>
                </a:lnTo>
                <a:lnTo>
                  <a:pt x="731" y="345"/>
                </a:lnTo>
                <a:lnTo>
                  <a:pt x="737" y="309"/>
                </a:lnTo>
                <a:lnTo>
                  <a:pt x="747" y="273"/>
                </a:lnTo>
                <a:lnTo>
                  <a:pt x="763" y="239"/>
                </a:lnTo>
                <a:lnTo>
                  <a:pt x="783" y="209"/>
                </a:lnTo>
                <a:lnTo>
                  <a:pt x="806" y="180"/>
                </a:lnTo>
                <a:lnTo>
                  <a:pt x="833" y="154"/>
                </a:lnTo>
                <a:lnTo>
                  <a:pt x="862" y="131"/>
                </a:lnTo>
                <a:lnTo>
                  <a:pt x="895" y="108"/>
                </a:lnTo>
                <a:lnTo>
                  <a:pt x="930" y="88"/>
                </a:lnTo>
                <a:lnTo>
                  <a:pt x="967" y="72"/>
                </a:lnTo>
                <a:lnTo>
                  <a:pt x="1006" y="58"/>
                </a:lnTo>
                <a:lnTo>
                  <a:pt x="1046" y="45"/>
                </a:lnTo>
                <a:lnTo>
                  <a:pt x="1087" y="35"/>
                </a:lnTo>
                <a:lnTo>
                  <a:pt x="1128" y="28"/>
                </a:lnTo>
                <a:lnTo>
                  <a:pt x="1170" y="22"/>
                </a:lnTo>
                <a:lnTo>
                  <a:pt x="1212" y="19"/>
                </a:lnTo>
                <a:lnTo>
                  <a:pt x="1252" y="19"/>
                </a:lnTo>
                <a:lnTo>
                  <a:pt x="1292" y="22"/>
                </a:lnTo>
                <a:lnTo>
                  <a:pt x="1331" y="29"/>
                </a:lnTo>
                <a:lnTo>
                  <a:pt x="1369" y="36"/>
                </a:lnTo>
                <a:lnTo>
                  <a:pt x="1403" y="46"/>
                </a:lnTo>
                <a:lnTo>
                  <a:pt x="1436" y="59"/>
                </a:lnTo>
                <a:lnTo>
                  <a:pt x="1467" y="75"/>
                </a:lnTo>
                <a:lnTo>
                  <a:pt x="1494" y="94"/>
                </a:lnTo>
                <a:lnTo>
                  <a:pt x="1518" y="116"/>
                </a:lnTo>
                <a:lnTo>
                  <a:pt x="1537" y="139"/>
                </a:lnTo>
                <a:lnTo>
                  <a:pt x="1553" y="165"/>
                </a:lnTo>
                <a:lnTo>
                  <a:pt x="1564" y="196"/>
                </a:lnTo>
                <a:lnTo>
                  <a:pt x="1572" y="228"/>
                </a:lnTo>
                <a:lnTo>
                  <a:pt x="1573" y="264"/>
                </a:lnTo>
                <a:lnTo>
                  <a:pt x="1567" y="301"/>
                </a:lnTo>
                <a:lnTo>
                  <a:pt x="1579" y="298"/>
                </a:lnTo>
                <a:lnTo>
                  <a:pt x="1592" y="296"/>
                </a:lnTo>
                <a:close/>
              </a:path>
            </a:pathLst>
          </a:custGeom>
          <a:solidFill>
            <a:srgbClr val="d8b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1628640"/>
            <a:ext cx="1073160" cy="676440"/>
          </a:xfrm>
          <a:custGeom>
            <a:avLst/>
            <a:gdLst/>
            <a:ahLst/>
            <a:rect l="l" t="t" r="r" b="b"/>
            <a:pathLst>
              <a:path w="2029" h="1278">
                <a:moveTo>
                  <a:pt x="202" y="397"/>
                </a:moveTo>
                <a:lnTo>
                  <a:pt x="188" y="400"/>
                </a:lnTo>
                <a:lnTo>
                  <a:pt x="172" y="406"/>
                </a:lnTo>
                <a:lnTo>
                  <a:pt x="156" y="411"/>
                </a:lnTo>
                <a:lnTo>
                  <a:pt x="140" y="419"/>
                </a:lnTo>
                <a:lnTo>
                  <a:pt x="124" y="425"/>
                </a:lnTo>
                <a:lnTo>
                  <a:pt x="111" y="434"/>
                </a:lnTo>
                <a:lnTo>
                  <a:pt x="97" y="444"/>
                </a:lnTo>
                <a:lnTo>
                  <a:pt x="84" y="455"/>
                </a:lnTo>
                <a:lnTo>
                  <a:pt x="72" y="463"/>
                </a:lnTo>
                <a:lnTo>
                  <a:pt x="61" y="475"/>
                </a:lnTo>
                <a:lnTo>
                  <a:pt x="49" y="486"/>
                </a:lnTo>
                <a:lnTo>
                  <a:pt x="41" y="498"/>
                </a:lnTo>
                <a:lnTo>
                  <a:pt x="32" y="512"/>
                </a:lnTo>
                <a:lnTo>
                  <a:pt x="25" y="524"/>
                </a:lnTo>
                <a:lnTo>
                  <a:pt x="12" y="553"/>
                </a:lnTo>
                <a:lnTo>
                  <a:pt x="2" y="594"/>
                </a:lnTo>
                <a:lnTo>
                  <a:pt x="0" y="609"/>
                </a:lnTo>
                <a:lnTo>
                  <a:pt x="2" y="623"/>
                </a:lnTo>
                <a:lnTo>
                  <a:pt x="2" y="636"/>
                </a:lnTo>
                <a:lnTo>
                  <a:pt x="6" y="653"/>
                </a:lnTo>
                <a:lnTo>
                  <a:pt x="9" y="666"/>
                </a:lnTo>
                <a:lnTo>
                  <a:pt x="13" y="680"/>
                </a:lnTo>
                <a:lnTo>
                  <a:pt x="21" y="692"/>
                </a:lnTo>
                <a:lnTo>
                  <a:pt x="28" y="706"/>
                </a:lnTo>
                <a:lnTo>
                  <a:pt x="48" y="730"/>
                </a:lnTo>
                <a:lnTo>
                  <a:pt x="59" y="743"/>
                </a:lnTo>
                <a:lnTo>
                  <a:pt x="88" y="765"/>
                </a:lnTo>
                <a:lnTo>
                  <a:pt x="104" y="774"/>
                </a:lnTo>
                <a:lnTo>
                  <a:pt x="123" y="784"/>
                </a:lnTo>
                <a:lnTo>
                  <a:pt x="144" y="793"/>
                </a:lnTo>
                <a:lnTo>
                  <a:pt x="166" y="803"/>
                </a:lnTo>
                <a:lnTo>
                  <a:pt x="185" y="808"/>
                </a:lnTo>
                <a:lnTo>
                  <a:pt x="204" y="815"/>
                </a:lnTo>
                <a:lnTo>
                  <a:pt x="215" y="811"/>
                </a:lnTo>
                <a:lnTo>
                  <a:pt x="217" y="814"/>
                </a:lnTo>
                <a:lnTo>
                  <a:pt x="219" y="814"/>
                </a:lnTo>
                <a:lnTo>
                  <a:pt x="221" y="811"/>
                </a:lnTo>
                <a:lnTo>
                  <a:pt x="206" y="826"/>
                </a:lnTo>
                <a:lnTo>
                  <a:pt x="163" y="868"/>
                </a:lnTo>
                <a:lnTo>
                  <a:pt x="133" y="898"/>
                </a:lnTo>
                <a:lnTo>
                  <a:pt x="113" y="930"/>
                </a:lnTo>
                <a:lnTo>
                  <a:pt x="98" y="958"/>
                </a:lnTo>
                <a:lnTo>
                  <a:pt x="90" y="988"/>
                </a:lnTo>
                <a:lnTo>
                  <a:pt x="88" y="1016"/>
                </a:lnTo>
                <a:lnTo>
                  <a:pt x="93" y="1042"/>
                </a:lnTo>
                <a:lnTo>
                  <a:pt x="101" y="1068"/>
                </a:lnTo>
                <a:lnTo>
                  <a:pt x="116" y="1092"/>
                </a:lnTo>
                <a:lnTo>
                  <a:pt x="133" y="1115"/>
                </a:lnTo>
                <a:lnTo>
                  <a:pt x="156" y="1139"/>
                </a:lnTo>
                <a:lnTo>
                  <a:pt x="183" y="1159"/>
                </a:lnTo>
                <a:lnTo>
                  <a:pt x="214" y="1178"/>
                </a:lnTo>
                <a:lnTo>
                  <a:pt x="247" y="1196"/>
                </a:lnTo>
                <a:lnTo>
                  <a:pt x="283" y="1214"/>
                </a:lnTo>
                <a:lnTo>
                  <a:pt x="322" y="1227"/>
                </a:lnTo>
                <a:lnTo>
                  <a:pt x="363" y="1241"/>
                </a:lnTo>
                <a:lnTo>
                  <a:pt x="405" y="1252"/>
                </a:lnTo>
                <a:lnTo>
                  <a:pt x="449" y="1261"/>
                </a:lnTo>
                <a:lnTo>
                  <a:pt x="495" y="1268"/>
                </a:lnTo>
                <a:lnTo>
                  <a:pt x="541" y="1274"/>
                </a:lnTo>
                <a:lnTo>
                  <a:pt x="588" y="1276"/>
                </a:lnTo>
                <a:lnTo>
                  <a:pt x="634" y="1278"/>
                </a:lnTo>
                <a:lnTo>
                  <a:pt x="680" y="1276"/>
                </a:lnTo>
                <a:lnTo>
                  <a:pt x="727" y="1271"/>
                </a:lnTo>
                <a:lnTo>
                  <a:pt x="771" y="1265"/>
                </a:lnTo>
                <a:lnTo>
                  <a:pt x="814" y="1256"/>
                </a:lnTo>
                <a:lnTo>
                  <a:pt x="856" y="1245"/>
                </a:lnTo>
                <a:lnTo>
                  <a:pt x="898" y="1230"/>
                </a:lnTo>
                <a:lnTo>
                  <a:pt x="934" y="1214"/>
                </a:lnTo>
                <a:lnTo>
                  <a:pt x="969" y="1193"/>
                </a:lnTo>
                <a:lnTo>
                  <a:pt x="1000" y="1171"/>
                </a:lnTo>
                <a:lnTo>
                  <a:pt x="1031" y="1145"/>
                </a:lnTo>
                <a:lnTo>
                  <a:pt x="1045" y="1158"/>
                </a:lnTo>
                <a:lnTo>
                  <a:pt x="1061" y="1169"/>
                </a:lnTo>
                <a:lnTo>
                  <a:pt x="1078" y="1179"/>
                </a:lnTo>
                <a:lnTo>
                  <a:pt x="1117" y="1201"/>
                </a:lnTo>
                <a:lnTo>
                  <a:pt x="1137" y="1208"/>
                </a:lnTo>
                <a:lnTo>
                  <a:pt x="1157" y="1218"/>
                </a:lnTo>
                <a:lnTo>
                  <a:pt x="1180" y="1226"/>
                </a:lnTo>
                <a:lnTo>
                  <a:pt x="1227" y="1238"/>
                </a:lnTo>
                <a:lnTo>
                  <a:pt x="1274" y="1246"/>
                </a:lnTo>
                <a:lnTo>
                  <a:pt x="1300" y="1250"/>
                </a:lnTo>
                <a:lnTo>
                  <a:pt x="1325" y="1253"/>
                </a:lnTo>
                <a:lnTo>
                  <a:pt x="1352" y="1255"/>
                </a:lnTo>
                <a:lnTo>
                  <a:pt x="1378" y="1255"/>
                </a:lnTo>
                <a:lnTo>
                  <a:pt x="1421" y="1253"/>
                </a:lnTo>
                <a:lnTo>
                  <a:pt x="1466" y="1250"/>
                </a:lnTo>
                <a:lnTo>
                  <a:pt x="1508" y="1242"/>
                </a:lnTo>
                <a:lnTo>
                  <a:pt x="1548" y="1233"/>
                </a:lnTo>
                <a:lnTo>
                  <a:pt x="1587" y="1220"/>
                </a:lnTo>
                <a:lnTo>
                  <a:pt x="1623" y="1207"/>
                </a:lnTo>
                <a:lnTo>
                  <a:pt x="1656" y="1192"/>
                </a:lnTo>
                <a:lnTo>
                  <a:pt x="1688" y="1174"/>
                </a:lnTo>
                <a:lnTo>
                  <a:pt x="1702" y="1164"/>
                </a:lnTo>
                <a:lnTo>
                  <a:pt x="1717" y="1154"/>
                </a:lnTo>
                <a:lnTo>
                  <a:pt x="1729" y="1143"/>
                </a:lnTo>
                <a:lnTo>
                  <a:pt x="1753" y="1121"/>
                </a:lnTo>
                <a:lnTo>
                  <a:pt x="1763" y="1108"/>
                </a:lnTo>
                <a:lnTo>
                  <a:pt x="1773" y="1096"/>
                </a:lnTo>
                <a:lnTo>
                  <a:pt x="1797" y="1059"/>
                </a:lnTo>
                <a:lnTo>
                  <a:pt x="1812" y="1018"/>
                </a:lnTo>
                <a:lnTo>
                  <a:pt x="1816" y="977"/>
                </a:lnTo>
                <a:lnTo>
                  <a:pt x="1814" y="957"/>
                </a:lnTo>
                <a:lnTo>
                  <a:pt x="1812" y="938"/>
                </a:lnTo>
                <a:lnTo>
                  <a:pt x="1807" y="917"/>
                </a:lnTo>
                <a:lnTo>
                  <a:pt x="1799" y="898"/>
                </a:lnTo>
                <a:lnTo>
                  <a:pt x="1789" y="879"/>
                </a:lnTo>
                <a:lnTo>
                  <a:pt x="1778" y="861"/>
                </a:lnTo>
                <a:lnTo>
                  <a:pt x="1748" y="829"/>
                </a:lnTo>
                <a:lnTo>
                  <a:pt x="1744" y="811"/>
                </a:lnTo>
                <a:lnTo>
                  <a:pt x="1740" y="793"/>
                </a:lnTo>
                <a:lnTo>
                  <a:pt x="1732" y="774"/>
                </a:lnTo>
                <a:lnTo>
                  <a:pt x="1727" y="755"/>
                </a:lnTo>
                <a:lnTo>
                  <a:pt x="1761" y="744"/>
                </a:lnTo>
                <a:lnTo>
                  <a:pt x="1794" y="732"/>
                </a:lnTo>
                <a:lnTo>
                  <a:pt x="1826" y="718"/>
                </a:lnTo>
                <a:lnTo>
                  <a:pt x="1855" y="703"/>
                </a:lnTo>
                <a:lnTo>
                  <a:pt x="1885" y="685"/>
                </a:lnTo>
                <a:lnTo>
                  <a:pt x="1911" y="669"/>
                </a:lnTo>
                <a:lnTo>
                  <a:pt x="1934" y="649"/>
                </a:lnTo>
                <a:lnTo>
                  <a:pt x="1956" y="629"/>
                </a:lnTo>
                <a:lnTo>
                  <a:pt x="1976" y="608"/>
                </a:lnTo>
                <a:lnTo>
                  <a:pt x="1992" y="586"/>
                </a:lnTo>
                <a:lnTo>
                  <a:pt x="2005" y="563"/>
                </a:lnTo>
                <a:lnTo>
                  <a:pt x="2016" y="541"/>
                </a:lnTo>
                <a:lnTo>
                  <a:pt x="2023" y="518"/>
                </a:lnTo>
                <a:lnTo>
                  <a:pt x="2029" y="494"/>
                </a:lnTo>
                <a:lnTo>
                  <a:pt x="2029" y="459"/>
                </a:lnTo>
                <a:lnTo>
                  <a:pt x="2028" y="447"/>
                </a:lnTo>
                <a:lnTo>
                  <a:pt x="2023" y="432"/>
                </a:lnTo>
                <a:lnTo>
                  <a:pt x="2019" y="418"/>
                </a:lnTo>
                <a:lnTo>
                  <a:pt x="2006" y="389"/>
                </a:lnTo>
                <a:lnTo>
                  <a:pt x="1986" y="365"/>
                </a:lnTo>
                <a:lnTo>
                  <a:pt x="1976" y="352"/>
                </a:lnTo>
                <a:lnTo>
                  <a:pt x="1963" y="343"/>
                </a:lnTo>
                <a:lnTo>
                  <a:pt x="1950" y="333"/>
                </a:lnTo>
                <a:lnTo>
                  <a:pt x="1934" y="324"/>
                </a:lnTo>
                <a:lnTo>
                  <a:pt x="1918" y="314"/>
                </a:lnTo>
                <a:lnTo>
                  <a:pt x="1887" y="299"/>
                </a:lnTo>
                <a:lnTo>
                  <a:pt x="1866" y="294"/>
                </a:lnTo>
                <a:lnTo>
                  <a:pt x="1849" y="288"/>
                </a:lnTo>
                <a:lnTo>
                  <a:pt x="1829" y="284"/>
                </a:lnTo>
                <a:lnTo>
                  <a:pt x="1859" y="295"/>
                </a:lnTo>
                <a:lnTo>
                  <a:pt x="1885" y="307"/>
                </a:lnTo>
                <a:lnTo>
                  <a:pt x="1898" y="314"/>
                </a:lnTo>
                <a:lnTo>
                  <a:pt x="1910" y="322"/>
                </a:lnTo>
                <a:lnTo>
                  <a:pt x="1920" y="332"/>
                </a:lnTo>
                <a:lnTo>
                  <a:pt x="1940" y="350"/>
                </a:lnTo>
                <a:lnTo>
                  <a:pt x="1947" y="359"/>
                </a:lnTo>
                <a:lnTo>
                  <a:pt x="1956" y="370"/>
                </a:lnTo>
                <a:lnTo>
                  <a:pt x="1963" y="381"/>
                </a:lnTo>
                <a:lnTo>
                  <a:pt x="1967" y="392"/>
                </a:lnTo>
                <a:lnTo>
                  <a:pt x="1977" y="417"/>
                </a:lnTo>
                <a:lnTo>
                  <a:pt x="1979" y="429"/>
                </a:lnTo>
                <a:lnTo>
                  <a:pt x="1982" y="449"/>
                </a:lnTo>
                <a:lnTo>
                  <a:pt x="1980" y="462"/>
                </a:lnTo>
                <a:lnTo>
                  <a:pt x="1980" y="473"/>
                </a:lnTo>
                <a:lnTo>
                  <a:pt x="1976" y="494"/>
                </a:lnTo>
                <a:lnTo>
                  <a:pt x="1969" y="518"/>
                </a:lnTo>
                <a:lnTo>
                  <a:pt x="1957" y="538"/>
                </a:lnTo>
                <a:lnTo>
                  <a:pt x="1944" y="560"/>
                </a:lnTo>
                <a:lnTo>
                  <a:pt x="1930" y="580"/>
                </a:lnTo>
                <a:lnTo>
                  <a:pt x="1891" y="620"/>
                </a:lnTo>
                <a:lnTo>
                  <a:pt x="1868" y="638"/>
                </a:lnTo>
                <a:lnTo>
                  <a:pt x="1845" y="655"/>
                </a:lnTo>
                <a:lnTo>
                  <a:pt x="1789" y="685"/>
                </a:lnTo>
                <a:lnTo>
                  <a:pt x="1728" y="710"/>
                </a:lnTo>
                <a:lnTo>
                  <a:pt x="1693" y="720"/>
                </a:lnTo>
                <a:lnTo>
                  <a:pt x="1706" y="756"/>
                </a:lnTo>
                <a:lnTo>
                  <a:pt x="1711" y="773"/>
                </a:lnTo>
                <a:lnTo>
                  <a:pt x="1715" y="789"/>
                </a:lnTo>
                <a:lnTo>
                  <a:pt x="1729" y="806"/>
                </a:lnTo>
                <a:lnTo>
                  <a:pt x="1742" y="821"/>
                </a:lnTo>
                <a:lnTo>
                  <a:pt x="1754" y="837"/>
                </a:lnTo>
                <a:lnTo>
                  <a:pt x="1761" y="856"/>
                </a:lnTo>
                <a:lnTo>
                  <a:pt x="1770" y="872"/>
                </a:lnTo>
                <a:lnTo>
                  <a:pt x="1774" y="891"/>
                </a:lnTo>
                <a:lnTo>
                  <a:pt x="1778" y="911"/>
                </a:lnTo>
                <a:lnTo>
                  <a:pt x="1780" y="930"/>
                </a:lnTo>
                <a:lnTo>
                  <a:pt x="1780" y="943"/>
                </a:lnTo>
                <a:lnTo>
                  <a:pt x="1778" y="957"/>
                </a:lnTo>
                <a:lnTo>
                  <a:pt x="1774" y="969"/>
                </a:lnTo>
                <a:lnTo>
                  <a:pt x="1771" y="983"/>
                </a:lnTo>
                <a:lnTo>
                  <a:pt x="1767" y="995"/>
                </a:lnTo>
                <a:lnTo>
                  <a:pt x="1747" y="1032"/>
                </a:lnTo>
                <a:lnTo>
                  <a:pt x="1740" y="1044"/>
                </a:lnTo>
                <a:lnTo>
                  <a:pt x="1719" y="1066"/>
                </a:lnTo>
                <a:lnTo>
                  <a:pt x="1708" y="1077"/>
                </a:lnTo>
                <a:lnTo>
                  <a:pt x="1683" y="1096"/>
                </a:lnTo>
                <a:lnTo>
                  <a:pt x="1657" y="1117"/>
                </a:lnTo>
                <a:lnTo>
                  <a:pt x="1627" y="1133"/>
                </a:lnTo>
                <a:lnTo>
                  <a:pt x="1597" y="1149"/>
                </a:lnTo>
                <a:lnTo>
                  <a:pt x="1561" y="1162"/>
                </a:lnTo>
                <a:lnTo>
                  <a:pt x="1525" y="1171"/>
                </a:lnTo>
                <a:lnTo>
                  <a:pt x="1489" y="1181"/>
                </a:lnTo>
                <a:lnTo>
                  <a:pt x="1447" y="1188"/>
                </a:lnTo>
                <a:lnTo>
                  <a:pt x="1407" y="1192"/>
                </a:lnTo>
                <a:lnTo>
                  <a:pt x="1363" y="1193"/>
                </a:lnTo>
                <a:lnTo>
                  <a:pt x="1339" y="1193"/>
                </a:lnTo>
                <a:lnTo>
                  <a:pt x="1314" y="1192"/>
                </a:lnTo>
                <a:lnTo>
                  <a:pt x="1267" y="1186"/>
                </a:lnTo>
                <a:lnTo>
                  <a:pt x="1244" y="1182"/>
                </a:lnTo>
                <a:lnTo>
                  <a:pt x="1221" y="1177"/>
                </a:lnTo>
                <a:lnTo>
                  <a:pt x="1198" y="1171"/>
                </a:lnTo>
                <a:lnTo>
                  <a:pt x="1178" y="1166"/>
                </a:lnTo>
                <a:lnTo>
                  <a:pt x="1156" y="1158"/>
                </a:lnTo>
                <a:lnTo>
                  <a:pt x="1137" y="1151"/>
                </a:lnTo>
                <a:lnTo>
                  <a:pt x="1117" y="1141"/>
                </a:lnTo>
                <a:lnTo>
                  <a:pt x="1083" y="1122"/>
                </a:lnTo>
                <a:lnTo>
                  <a:pt x="1064" y="1113"/>
                </a:lnTo>
                <a:lnTo>
                  <a:pt x="1049" y="1102"/>
                </a:lnTo>
                <a:lnTo>
                  <a:pt x="1035" y="1089"/>
                </a:lnTo>
                <a:lnTo>
                  <a:pt x="1008" y="1114"/>
                </a:lnTo>
                <a:lnTo>
                  <a:pt x="977" y="1134"/>
                </a:lnTo>
                <a:lnTo>
                  <a:pt x="944" y="1154"/>
                </a:lnTo>
                <a:lnTo>
                  <a:pt x="908" y="1170"/>
                </a:lnTo>
                <a:lnTo>
                  <a:pt x="872" y="1184"/>
                </a:lnTo>
                <a:lnTo>
                  <a:pt x="832" y="1194"/>
                </a:lnTo>
                <a:lnTo>
                  <a:pt x="790" y="1203"/>
                </a:lnTo>
                <a:lnTo>
                  <a:pt x="747" y="1208"/>
                </a:lnTo>
                <a:lnTo>
                  <a:pt x="705" y="1212"/>
                </a:lnTo>
                <a:lnTo>
                  <a:pt x="662" y="1214"/>
                </a:lnTo>
                <a:lnTo>
                  <a:pt x="616" y="1214"/>
                </a:lnTo>
                <a:lnTo>
                  <a:pt x="572" y="1211"/>
                </a:lnTo>
                <a:lnTo>
                  <a:pt x="529" y="1205"/>
                </a:lnTo>
                <a:lnTo>
                  <a:pt x="485" y="1199"/>
                </a:lnTo>
                <a:lnTo>
                  <a:pt x="444" y="1190"/>
                </a:lnTo>
                <a:lnTo>
                  <a:pt x="404" y="1179"/>
                </a:lnTo>
                <a:lnTo>
                  <a:pt x="365" y="1167"/>
                </a:lnTo>
                <a:lnTo>
                  <a:pt x="327" y="1154"/>
                </a:lnTo>
                <a:lnTo>
                  <a:pt x="294" y="1139"/>
                </a:lnTo>
                <a:lnTo>
                  <a:pt x="261" y="1121"/>
                </a:lnTo>
                <a:lnTo>
                  <a:pt x="234" y="1103"/>
                </a:lnTo>
                <a:lnTo>
                  <a:pt x="208" y="1083"/>
                </a:lnTo>
                <a:lnTo>
                  <a:pt x="188" y="1062"/>
                </a:lnTo>
                <a:lnTo>
                  <a:pt x="169" y="1039"/>
                </a:lnTo>
                <a:lnTo>
                  <a:pt x="156" y="1016"/>
                </a:lnTo>
                <a:lnTo>
                  <a:pt x="146" y="991"/>
                </a:lnTo>
                <a:lnTo>
                  <a:pt x="143" y="967"/>
                </a:lnTo>
                <a:lnTo>
                  <a:pt x="144" y="941"/>
                </a:lnTo>
                <a:lnTo>
                  <a:pt x="153" y="913"/>
                </a:lnTo>
                <a:lnTo>
                  <a:pt x="168" y="885"/>
                </a:lnTo>
                <a:lnTo>
                  <a:pt x="188" y="856"/>
                </a:lnTo>
                <a:lnTo>
                  <a:pt x="214" y="827"/>
                </a:lnTo>
                <a:lnTo>
                  <a:pt x="255" y="786"/>
                </a:lnTo>
                <a:lnTo>
                  <a:pt x="270" y="774"/>
                </a:lnTo>
                <a:lnTo>
                  <a:pt x="263" y="774"/>
                </a:lnTo>
                <a:lnTo>
                  <a:pt x="263" y="773"/>
                </a:lnTo>
                <a:lnTo>
                  <a:pt x="251" y="777"/>
                </a:lnTo>
                <a:lnTo>
                  <a:pt x="235" y="770"/>
                </a:lnTo>
                <a:lnTo>
                  <a:pt x="218" y="765"/>
                </a:lnTo>
                <a:lnTo>
                  <a:pt x="196" y="756"/>
                </a:lnTo>
                <a:lnTo>
                  <a:pt x="176" y="747"/>
                </a:lnTo>
                <a:lnTo>
                  <a:pt x="159" y="737"/>
                </a:lnTo>
                <a:lnTo>
                  <a:pt x="130" y="720"/>
                </a:lnTo>
                <a:lnTo>
                  <a:pt x="119" y="710"/>
                </a:lnTo>
                <a:lnTo>
                  <a:pt x="107" y="699"/>
                </a:lnTo>
                <a:lnTo>
                  <a:pt x="98" y="689"/>
                </a:lnTo>
                <a:lnTo>
                  <a:pt x="83" y="665"/>
                </a:lnTo>
                <a:lnTo>
                  <a:pt x="75" y="654"/>
                </a:lnTo>
                <a:lnTo>
                  <a:pt x="71" y="642"/>
                </a:lnTo>
                <a:lnTo>
                  <a:pt x="67" y="628"/>
                </a:lnTo>
                <a:lnTo>
                  <a:pt x="64" y="616"/>
                </a:lnTo>
                <a:lnTo>
                  <a:pt x="62" y="604"/>
                </a:lnTo>
                <a:lnTo>
                  <a:pt x="61" y="589"/>
                </a:lnTo>
                <a:lnTo>
                  <a:pt x="62" y="576"/>
                </a:lnTo>
                <a:lnTo>
                  <a:pt x="62" y="565"/>
                </a:lnTo>
                <a:lnTo>
                  <a:pt x="65" y="550"/>
                </a:lnTo>
                <a:lnTo>
                  <a:pt x="72" y="526"/>
                </a:lnTo>
                <a:lnTo>
                  <a:pt x="78" y="513"/>
                </a:lnTo>
                <a:lnTo>
                  <a:pt x="84" y="501"/>
                </a:lnTo>
                <a:lnTo>
                  <a:pt x="91" y="489"/>
                </a:lnTo>
                <a:lnTo>
                  <a:pt x="98" y="477"/>
                </a:lnTo>
                <a:lnTo>
                  <a:pt x="107" y="467"/>
                </a:lnTo>
                <a:lnTo>
                  <a:pt x="116" y="456"/>
                </a:lnTo>
                <a:lnTo>
                  <a:pt x="137" y="436"/>
                </a:lnTo>
                <a:lnTo>
                  <a:pt x="149" y="426"/>
                </a:lnTo>
                <a:lnTo>
                  <a:pt x="188" y="404"/>
                </a:lnTo>
                <a:lnTo>
                  <a:pt x="202" y="397"/>
                </a:lnTo>
                <a:close/>
                <a:moveTo>
                  <a:pt x="1591" y="275"/>
                </a:moveTo>
                <a:lnTo>
                  <a:pt x="1595" y="238"/>
                </a:lnTo>
                <a:lnTo>
                  <a:pt x="1590" y="202"/>
                </a:lnTo>
                <a:lnTo>
                  <a:pt x="1582" y="171"/>
                </a:lnTo>
                <a:lnTo>
                  <a:pt x="1570" y="141"/>
                </a:lnTo>
                <a:lnTo>
                  <a:pt x="1549" y="115"/>
                </a:lnTo>
                <a:lnTo>
                  <a:pt x="1529" y="92"/>
                </a:lnTo>
                <a:lnTo>
                  <a:pt x="1503" y="71"/>
                </a:lnTo>
                <a:lnTo>
                  <a:pt x="1472" y="54"/>
                </a:lnTo>
                <a:lnTo>
                  <a:pt x="1440" y="39"/>
                </a:lnTo>
                <a:lnTo>
                  <a:pt x="1404" y="25"/>
                </a:lnTo>
                <a:lnTo>
                  <a:pt x="1366" y="15"/>
                </a:lnTo>
                <a:lnTo>
                  <a:pt x="1326" y="8"/>
                </a:lnTo>
                <a:lnTo>
                  <a:pt x="1286" y="2"/>
                </a:lnTo>
                <a:lnTo>
                  <a:pt x="1244" y="0"/>
                </a:lnTo>
                <a:lnTo>
                  <a:pt x="1201" y="0"/>
                </a:lnTo>
                <a:lnTo>
                  <a:pt x="1155" y="2"/>
                </a:lnTo>
                <a:lnTo>
                  <a:pt x="1111" y="7"/>
                </a:lnTo>
                <a:lnTo>
                  <a:pt x="1068" y="14"/>
                </a:lnTo>
                <a:lnTo>
                  <a:pt x="1023" y="23"/>
                </a:lnTo>
                <a:lnTo>
                  <a:pt x="982" y="36"/>
                </a:lnTo>
                <a:lnTo>
                  <a:pt x="940" y="49"/>
                </a:lnTo>
                <a:lnTo>
                  <a:pt x="900" y="66"/>
                </a:lnTo>
                <a:lnTo>
                  <a:pt x="862" y="86"/>
                </a:lnTo>
                <a:lnTo>
                  <a:pt x="826" y="108"/>
                </a:lnTo>
                <a:lnTo>
                  <a:pt x="794" y="131"/>
                </a:lnTo>
                <a:lnTo>
                  <a:pt x="763" y="157"/>
                </a:lnTo>
                <a:lnTo>
                  <a:pt x="737" y="185"/>
                </a:lnTo>
                <a:lnTo>
                  <a:pt x="715" y="213"/>
                </a:lnTo>
                <a:lnTo>
                  <a:pt x="696" y="246"/>
                </a:lnTo>
                <a:lnTo>
                  <a:pt x="682" y="281"/>
                </a:lnTo>
                <a:lnTo>
                  <a:pt x="675" y="316"/>
                </a:lnTo>
                <a:lnTo>
                  <a:pt x="669" y="355"/>
                </a:lnTo>
                <a:lnTo>
                  <a:pt x="691" y="361"/>
                </a:lnTo>
                <a:lnTo>
                  <a:pt x="695" y="362"/>
                </a:lnTo>
                <a:lnTo>
                  <a:pt x="695" y="324"/>
                </a:lnTo>
                <a:lnTo>
                  <a:pt x="702" y="287"/>
                </a:lnTo>
                <a:lnTo>
                  <a:pt x="714" y="253"/>
                </a:lnTo>
                <a:lnTo>
                  <a:pt x="729" y="221"/>
                </a:lnTo>
                <a:lnTo>
                  <a:pt x="748" y="190"/>
                </a:lnTo>
                <a:lnTo>
                  <a:pt x="773" y="163"/>
                </a:lnTo>
                <a:lnTo>
                  <a:pt x="802" y="137"/>
                </a:lnTo>
                <a:lnTo>
                  <a:pt x="833" y="112"/>
                </a:lnTo>
                <a:lnTo>
                  <a:pt x="866" y="92"/>
                </a:lnTo>
                <a:lnTo>
                  <a:pt x="902" y="73"/>
                </a:lnTo>
                <a:lnTo>
                  <a:pt x="941" y="55"/>
                </a:lnTo>
                <a:lnTo>
                  <a:pt x="982" y="41"/>
                </a:lnTo>
                <a:lnTo>
                  <a:pt x="1022" y="29"/>
                </a:lnTo>
                <a:lnTo>
                  <a:pt x="1064" y="19"/>
                </a:lnTo>
                <a:lnTo>
                  <a:pt x="1152" y="7"/>
                </a:lnTo>
                <a:lnTo>
                  <a:pt x="1193" y="4"/>
                </a:lnTo>
                <a:lnTo>
                  <a:pt x="1237" y="4"/>
                </a:lnTo>
                <a:lnTo>
                  <a:pt x="1278" y="8"/>
                </a:lnTo>
                <a:lnTo>
                  <a:pt x="1319" y="13"/>
                </a:lnTo>
                <a:lnTo>
                  <a:pt x="1358" y="21"/>
                </a:lnTo>
                <a:lnTo>
                  <a:pt x="1394" y="32"/>
                </a:lnTo>
                <a:lnTo>
                  <a:pt x="1428" y="44"/>
                </a:lnTo>
                <a:lnTo>
                  <a:pt x="1459" y="59"/>
                </a:lnTo>
                <a:lnTo>
                  <a:pt x="1486" y="77"/>
                </a:lnTo>
                <a:lnTo>
                  <a:pt x="1512" y="97"/>
                </a:lnTo>
                <a:lnTo>
                  <a:pt x="1532" y="122"/>
                </a:lnTo>
                <a:lnTo>
                  <a:pt x="1549" y="148"/>
                </a:lnTo>
                <a:lnTo>
                  <a:pt x="1561" y="176"/>
                </a:lnTo>
                <a:lnTo>
                  <a:pt x="1568" y="209"/>
                </a:lnTo>
                <a:lnTo>
                  <a:pt x="1570" y="245"/>
                </a:lnTo>
                <a:lnTo>
                  <a:pt x="1564" y="281"/>
                </a:lnTo>
                <a:lnTo>
                  <a:pt x="1577" y="277"/>
                </a:lnTo>
                <a:lnTo>
                  <a:pt x="1588" y="275"/>
                </a:lnTo>
                <a:lnTo>
                  <a:pt x="1591" y="275"/>
                </a:lnTo>
                <a:close/>
              </a:path>
            </a:pathLst>
          </a:custGeom>
          <a:solidFill>
            <a:srgbClr val="9b9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450040" y="1643040"/>
            <a:ext cx="1071360" cy="698400"/>
            <a:chOff x="5450040" y="1643040"/>
            <a:chExt cx="1071360" cy="698400"/>
          </a:xfrm>
        </p:grpSpPr>
        <p:sp>
          <p:nvSpPr>
            <p:cNvPr id="527" name=""/>
            <p:cNvSpPr/>
            <p:nvPr/>
          </p:nvSpPr>
          <p:spPr>
            <a:xfrm>
              <a:off x="5479920" y="1682640"/>
              <a:ext cx="1041480" cy="658800"/>
            </a:xfrm>
            <a:custGeom>
              <a:avLst/>
              <a:gdLst/>
              <a:ahLst/>
              <a:rect l="l" t="t" r="r" b="b"/>
              <a:pathLst>
                <a:path w="1968" h="1245">
                  <a:moveTo>
                    <a:pt x="649" y="368"/>
                  </a:moveTo>
                  <a:lnTo>
                    <a:pt x="643" y="368"/>
                  </a:lnTo>
                  <a:lnTo>
                    <a:pt x="623" y="361"/>
                  </a:lnTo>
                  <a:lnTo>
                    <a:pt x="606" y="357"/>
                  </a:lnTo>
                  <a:lnTo>
                    <a:pt x="585" y="353"/>
                  </a:lnTo>
                  <a:lnTo>
                    <a:pt x="562" y="350"/>
                  </a:lnTo>
                  <a:lnTo>
                    <a:pt x="534" y="347"/>
                  </a:lnTo>
                  <a:lnTo>
                    <a:pt x="501" y="346"/>
                  </a:lnTo>
                  <a:lnTo>
                    <a:pt x="465" y="345"/>
                  </a:lnTo>
                  <a:lnTo>
                    <a:pt x="423" y="346"/>
                  </a:lnTo>
                  <a:lnTo>
                    <a:pt x="380" y="350"/>
                  </a:lnTo>
                  <a:lnTo>
                    <a:pt x="332" y="356"/>
                  </a:lnTo>
                  <a:lnTo>
                    <a:pt x="280" y="366"/>
                  </a:lnTo>
                  <a:lnTo>
                    <a:pt x="224" y="380"/>
                  </a:lnTo>
                  <a:lnTo>
                    <a:pt x="164" y="397"/>
                  </a:lnTo>
                  <a:lnTo>
                    <a:pt x="132" y="409"/>
                  </a:lnTo>
                  <a:lnTo>
                    <a:pt x="119" y="416"/>
                  </a:lnTo>
                  <a:lnTo>
                    <a:pt x="105" y="425"/>
                  </a:lnTo>
                  <a:lnTo>
                    <a:pt x="79" y="443"/>
                  </a:lnTo>
                  <a:lnTo>
                    <a:pt x="68" y="453"/>
                  </a:lnTo>
                  <a:lnTo>
                    <a:pt x="56" y="463"/>
                  </a:lnTo>
                  <a:lnTo>
                    <a:pt x="37" y="487"/>
                  </a:lnTo>
                  <a:lnTo>
                    <a:pt x="29" y="499"/>
                  </a:lnTo>
                  <a:lnTo>
                    <a:pt x="21" y="513"/>
                  </a:lnTo>
                  <a:lnTo>
                    <a:pt x="16" y="526"/>
                  </a:lnTo>
                  <a:lnTo>
                    <a:pt x="6" y="554"/>
                  </a:lnTo>
                  <a:lnTo>
                    <a:pt x="3" y="566"/>
                  </a:lnTo>
                  <a:lnTo>
                    <a:pt x="0" y="593"/>
                  </a:lnTo>
                  <a:lnTo>
                    <a:pt x="0" y="608"/>
                  </a:lnTo>
                  <a:lnTo>
                    <a:pt x="3" y="636"/>
                  </a:lnTo>
                  <a:lnTo>
                    <a:pt x="11" y="661"/>
                  </a:lnTo>
                  <a:lnTo>
                    <a:pt x="24" y="689"/>
                  </a:lnTo>
                  <a:lnTo>
                    <a:pt x="43" y="712"/>
                  </a:lnTo>
                  <a:lnTo>
                    <a:pt x="56" y="724"/>
                  </a:lnTo>
                  <a:lnTo>
                    <a:pt x="69" y="735"/>
                  </a:lnTo>
                  <a:lnTo>
                    <a:pt x="83" y="745"/>
                  </a:lnTo>
                  <a:lnTo>
                    <a:pt x="98" y="754"/>
                  </a:lnTo>
                  <a:lnTo>
                    <a:pt x="115" y="764"/>
                  </a:lnTo>
                  <a:lnTo>
                    <a:pt x="139" y="773"/>
                  </a:lnTo>
                  <a:lnTo>
                    <a:pt x="160" y="782"/>
                  </a:lnTo>
                  <a:lnTo>
                    <a:pt x="178" y="789"/>
                  </a:lnTo>
                  <a:lnTo>
                    <a:pt x="194" y="793"/>
                  </a:lnTo>
                  <a:lnTo>
                    <a:pt x="207" y="791"/>
                  </a:lnTo>
                  <a:lnTo>
                    <a:pt x="207" y="793"/>
                  </a:lnTo>
                  <a:lnTo>
                    <a:pt x="211" y="793"/>
                  </a:lnTo>
                  <a:lnTo>
                    <a:pt x="213" y="791"/>
                  </a:lnTo>
                  <a:lnTo>
                    <a:pt x="155" y="847"/>
                  </a:lnTo>
                  <a:lnTo>
                    <a:pt x="128" y="876"/>
                  </a:lnTo>
                  <a:lnTo>
                    <a:pt x="108" y="906"/>
                  </a:lnTo>
                  <a:lnTo>
                    <a:pt x="93" y="935"/>
                  </a:lnTo>
                  <a:lnTo>
                    <a:pt x="86" y="962"/>
                  </a:lnTo>
                  <a:lnTo>
                    <a:pt x="85" y="989"/>
                  </a:lnTo>
                  <a:lnTo>
                    <a:pt x="88" y="1015"/>
                  </a:lnTo>
                  <a:lnTo>
                    <a:pt x="95" y="1041"/>
                  </a:lnTo>
                  <a:lnTo>
                    <a:pt x="109" y="1064"/>
                  </a:lnTo>
                  <a:lnTo>
                    <a:pt x="127" y="1086"/>
                  </a:lnTo>
                  <a:lnTo>
                    <a:pt x="150" y="1109"/>
                  </a:lnTo>
                  <a:lnTo>
                    <a:pt x="175" y="1130"/>
                  </a:lnTo>
                  <a:lnTo>
                    <a:pt x="206" y="1148"/>
                  </a:lnTo>
                  <a:lnTo>
                    <a:pt x="237" y="1165"/>
                  </a:lnTo>
                  <a:lnTo>
                    <a:pt x="273" y="1182"/>
                  </a:lnTo>
                  <a:lnTo>
                    <a:pt x="311" y="1196"/>
                  </a:lnTo>
                  <a:lnTo>
                    <a:pt x="350" y="1209"/>
                  </a:lnTo>
                  <a:lnTo>
                    <a:pt x="391" y="1220"/>
                  </a:lnTo>
                  <a:lnTo>
                    <a:pt x="434" y="1228"/>
                  </a:lnTo>
                  <a:lnTo>
                    <a:pt x="479" y="1236"/>
                  </a:lnTo>
                  <a:lnTo>
                    <a:pt x="522" y="1241"/>
                  </a:lnTo>
                  <a:lnTo>
                    <a:pt x="568" y="1243"/>
                  </a:lnTo>
                  <a:lnTo>
                    <a:pt x="614" y="1245"/>
                  </a:lnTo>
                  <a:lnTo>
                    <a:pt x="659" y="1243"/>
                  </a:lnTo>
                  <a:lnTo>
                    <a:pt x="703" y="1239"/>
                  </a:lnTo>
                  <a:lnTo>
                    <a:pt x="747" y="1234"/>
                  </a:lnTo>
                  <a:lnTo>
                    <a:pt x="790" y="1224"/>
                  </a:lnTo>
                  <a:lnTo>
                    <a:pt x="830" y="1213"/>
                  </a:lnTo>
                  <a:lnTo>
                    <a:pt x="868" y="1198"/>
                  </a:lnTo>
                  <a:lnTo>
                    <a:pt x="905" y="1182"/>
                  </a:lnTo>
                  <a:lnTo>
                    <a:pt x="939" y="1163"/>
                  </a:lnTo>
                  <a:lnTo>
                    <a:pt x="970" y="1141"/>
                  </a:lnTo>
                  <a:lnTo>
                    <a:pt x="997" y="1116"/>
                  </a:lnTo>
                  <a:lnTo>
                    <a:pt x="1013" y="1129"/>
                  </a:lnTo>
                  <a:lnTo>
                    <a:pt x="1029" y="1140"/>
                  </a:lnTo>
                  <a:lnTo>
                    <a:pt x="1063" y="1160"/>
                  </a:lnTo>
                  <a:lnTo>
                    <a:pt x="1083" y="1171"/>
                  </a:lnTo>
                  <a:lnTo>
                    <a:pt x="1102" y="1178"/>
                  </a:lnTo>
                  <a:lnTo>
                    <a:pt x="1122" y="1187"/>
                  </a:lnTo>
                  <a:lnTo>
                    <a:pt x="1145" y="1194"/>
                  </a:lnTo>
                  <a:lnTo>
                    <a:pt x="1188" y="1206"/>
                  </a:lnTo>
                  <a:lnTo>
                    <a:pt x="1236" y="1215"/>
                  </a:lnTo>
                  <a:lnTo>
                    <a:pt x="1259" y="1219"/>
                  </a:lnTo>
                  <a:lnTo>
                    <a:pt x="1285" y="1221"/>
                  </a:lnTo>
                  <a:lnTo>
                    <a:pt x="1309" y="1223"/>
                  </a:lnTo>
                  <a:lnTo>
                    <a:pt x="1337" y="1223"/>
                  </a:lnTo>
                  <a:lnTo>
                    <a:pt x="1378" y="1221"/>
                  </a:lnTo>
                  <a:lnTo>
                    <a:pt x="1421" y="1219"/>
                  </a:lnTo>
                  <a:lnTo>
                    <a:pt x="1462" y="1211"/>
                  </a:lnTo>
                  <a:lnTo>
                    <a:pt x="1501" y="1202"/>
                  </a:lnTo>
                  <a:lnTo>
                    <a:pt x="1539" y="1190"/>
                  </a:lnTo>
                  <a:lnTo>
                    <a:pt x="1574" y="1176"/>
                  </a:lnTo>
                  <a:lnTo>
                    <a:pt x="1607" y="1161"/>
                  </a:lnTo>
                  <a:lnTo>
                    <a:pt x="1636" y="1144"/>
                  </a:lnTo>
                  <a:lnTo>
                    <a:pt x="1650" y="1134"/>
                  </a:lnTo>
                  <a:lnTo>
                    <a:pt x="1665" y="1124"/>
                  </a:lnTo>
                  <a:lnTo>
                    <a:pt x="1678" y="1114"/>
                  </a:lnTo>
                  <a:lnTo>
                    <a:pt x="1699" y="1093"/>
                  </a:lnTo>
                  <a:lnTo>
                    <a:pt x="1711" y="1081"/>
                  </a:lnTo>
                  <a:lnTo>
                    <a:pt x="1719" y="1068"/>
                  </a:lnTo>
                  <a:lnTo>
                    <a:pt x="1744" y="1033"/>
                  </a:lnTo>
                  <a:lnTo>
                    <a:pt x="1757" y="993"/>
                  </a:lnTo>
                  <a:lnTo>
                    <a:pt x="1762" y="952"/>
                  </a:lnTo>
                  <a:lnTo>
                    <a:pt x="1761" y="932"/>
                  </a:lnTo>
                  <a:lnTo>
                    <a:pt x="1757" y="913"/>
                  </a:lnTo>
                  <a:lnTo>
                    <a:pt x="1751" y="895"/>
                  </a:lnTo>
                  <a:lnTo>
                    <a:pt x="1745" y="875"/>
                  </a:lnTo>
                  <a:lnTo>
                    <a:pt x="1735" y="857"/>
                  </a:lnTo>
                  <a:lnTo>
                    <a:pt x="1724" y="840"/>
                  </a:lnTo>
                  <a:lnTo>
                    <a:pt x="1711" y="823"/>
                  </a:lnTo>
                  <a:lnTo>
                    <a:pt x="1696" y="808"/>
                  </a:lnTo>
                  <a:lnTo>
                    <a:pt x="1691" y="790"/>
                  </a:lnTo>
                  <a:lnTo>
                    <a:pt x="1686" y="773"/>
                  </a:lnTo>
                  <a:lnTo>
                    <a:pt x="1680" y="756"/>
                  </a:lnTo>
                  <a:lnTo>
                    <a:pt x="1673" y="737"/>
                  </a:lnTo>
                  <a:lnTo>
                    <a:pt x="1709" y="726"/>
                  </a:lnTo>
                  <a:lnTo>
                    <a:pt x="1739" y="713"/>
                  </a:lnTo>
                  <a:lnTo>
                    <a:pt x="1771" y="701"/>
                  </a:lnTo>
                  <a:lnTo>
                    <a:pt x="1800" y="686"/>
                  </a:lnTo>
                  <a:lnTo>
                    <a:pt x="1827" y="670"/>
                  </a:lnTo>
                  <a:lnTo>
                    <a:pt x="1853" y="652"/>
                  </a:lnTo>
                  <a:lnTo>
                    <a:pt x="1876" y="633"/>
                  </a:lnTo>
                  <a:lnTo>
                    <a:pt x="1898" y="614"/>
                  </a:lnTo>
                  <a:lnTo>
                    <a:pt x="1916" y="593"/>
                  </a:lnTo>
                  <a:lnTo>
                    <a:pt x="1932" y="573"/>
                  </a:lnTo>
                  <a:lnTo>
                    <a:pt x="1944" y="549"/>
                  </a:lnTo>
                  <a:lnTo>
                    <a:pt x="1955" y="528"/>
                  </a:lnTo>
                  <a:lnTo>
                    <a:pt x="1962" y="506"/>
                  </a:lnTo>
                  <a:lnTo>
                    <a:pt x="1968" y="481"/>
                  </a:lnTo>
                  <a:lnTo>
                    <a:pt x="1968" y="447"/>
                  </a:lnTo>
                  <a:lnTo>
                    <a:pt x="1967" y="436"/>
                  </a:lnTo>
                  <a:lnTo>
                    <a:pt x="1964" y="425"/>
                  </a:lnTo>
                  <a:lnTo>
                    <a:pt x="1960" y="413"/>
                  </a:lnTo>
                  <a:lnTo>
                    <a:pt x="1957" y="402"/>
                  </a:lnTo>
                  <a:lnTo>
                    <a:pt x="1945" y="381"/>
                  </a:lnTo>
                  <a:lnTo>
                    <a:pt x="1929" y="361"/>
                  </a:lnTo>
                  <a:lnTo>
                    <a:pt x="1922" y="351"/>
                  </a:lnTo>
                  <a:lnTo>
                    <a:pt x="1903" y="335"/>
                  </a:lnTo>
                  <a:lnTo>
                    <a:pt x="1883" y="320"/>
                  </a:lnTo>
                  <a:lnTo>
                    <a:pt x="1859" y="306"/>
                  </a:lnTo>
                  <a:lnTo>
                    <a:pt x="1833" y="295"/>
                  </a:lnTo>
                  <a:lnTo>
                    <a:pt x="1804" y="285"/>
                  </a:lnTo>
                  <a:lnTo>
                    <a:pt x="1774" y="276"/>
                  </a:lnTo>
                  <a:lnTo>
                    <a:pt x="1744" y="272"/>
                  </a:lnTo>
                  <a:lnTo>
                    <a:pt x="1709" y="268"/>
                  </a:lnTo>
                  <a:lnTo>
                    <a:pt x="1676" y="268"/>
                  </a:lnTo>
                  <a:lnTo>
                    <a:pt x="1639" y="269"/>
                  </a:lnTo>
                  <a:lnTo>
                    <a:pt x="1603" y="272"/>
                  </a:lnTo>
                  <a:lnTo>
                    <a:pt x="1565" y="280"/>
                  </a:lnTo>
                  <a:lnTo>
                    <a:pt x="1552" y="282"/>
                  </a:lnTo>
                  <a:lnTo>
                    <a:pt x="1541" y="286"/>
                  </a:lnTo>
                  <a:lnTo>
                    <a:pt x="1545" y="248"/>
                  </a:lnTo>
                  <a:lnTo>
                    <a:pt x="1545" y="211"/>
                  </a:lnTo>
                  <a:lnTo>
                    <a:pt x="1538" y="178"/>
                  </a:lnTo>
                  <a:lnTo>
                    <a:pt x="1525" y="147"/>
                  </a:lnTo>
                  <a:lnTo>
                    <a:pt x="1509" y="121"/>
                  </a:lnTo>
                  <a:lnTo>
                    <a:pt x="1488" y="96"/>
                  </a:lnTo>
                  <a:lnTo>
                    <a:pt x="1462" y="76"/>
                  </a:lnTo>
                  <a:lnTo>
                    <a:pt x="1433" y="56"/>
                  </a:lnTo>
                  <a:lnTo>
                    <a:pt x="1401" y="40"/>
                  </a:lnTo>
                  <a:lnTo>
                    <a:pt x="1365" y="28"/>
                  </a:lnTo>
                  <a:lnTo>
                    <a:pt x="1328" y="17"/>
                  </a:lnTo>
                  <a:lnTo>
                    <a:pt x="1289" y="9"/>
                  </a:lnTo>
                  <a:lnTo>
                    <a:pt x="1247" y="5"/>
                  </a:lnTo>
                  <a:lnTo>
                    <a:pt x="1204" y="0"/>
                  </a:lnTo>
                  <a:lnTo>
                    <a:pt x="1162" y="0"/>
                  </a:lnTo>
                  <a:lnTo>
                    <a:pt x="1116" y="5"/>
                  </a:lnTo>
                  <a:lnTo>
                    <a:pt x="1072" y="9"/>
                  </a:lnTo>
                  <a:lnTo>
                    <a:pt x="1029" y="15"/>
                  </a:lnTo>
                  <a:lnTo>
                    <a:pt x="985" y="26"/>
                  </a:lnTo>
                  <a:lnTo>
                    <a:pt x="942" y="39"/>
                  </a:lnTo>
                  <a:lnTo>
                    <a:pt x="901" y="54"/>
                  </a:lnTo>
                  <a:lnTo>
                    <a:pt x="862" y="71"/>
                  </a:lnTo>
                  <a:lnTo>
                    <a:pt x="824" y="91"/>
                  </a:lnTo>
                  <a:lnTo>
                    <a:pt x="790" y="112"/>
                  </a:lnTo>
                  <a:lnTo>
                    <a:pt x="758" y="137"/>
                  </a:lnTo>
                  <a:lnTo>
                    <a:pt x="729" y="163"/>
                  </a:lnTo>
                  <a:lnTo>
                    <a:pt x="705" y="192"/>
                  </a:lnTo>
                  <a:lnTo>
                    <a:pt x="685" y="223"/>
                  </a:lnTo>
                  <a:lnTo>
                    <a:pt x="668" y="256"/>
                  </a:lnTo>
                  <a:lnTo>
                    <a:pt x="656" y="291"/>
                  </a:lnTo>
                  <a:lnTo>
                    <a:pt x="650" y="330"/>
                  </a:lnTo>
                  <a:lnTo>
                    <a:pt x="649" y="368"/>
                  </a:lnTo>
                  <a:close/>
                </a:path>
              </a:pathLst>
            </a:custGeom>
            <a:solidFill>
              <a:srgbClr val="d0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50040" y="1643040"/>
              <a:ext cx="1066680" cy="673200"/>
            </a:xfrm>
            <a:custGeom>
              <a:avLst/>
              <a:gdLst/>
              <a:ahLst/>
              <a:rect l="l" t="t" r="r" b="b"/>
              <a:pathLst>
                <a:path w="2015" h="1272">
                  <a:moveTo>
                    <a:pt x="396" y="357"/>
                  </a:moveTo>
                  <a:lnTo>
                    <a:pt x="347" y="362"/>
                  </a:lnTo>
                  <a:lnTo>
                    <a:pt x="291" y="373"/>
                  </a:lnTo>
                  <a:lnTo>
                    <a:pt x="232" y="387"/>
                  </a:lnTo>
                  <a:lnTo>
                    <a:pt x="169" y="405"/>
                  </a:lnTo>
                  <a:lnTo>
                    <a:pt x="137" y="416"/>
                  </a:lnTo>
                  <a:lnTo>
                    <a:pt x="121" y="424"/>
                  </a:lnTo>
                  <a:lnTo>
                    <a:pt x="94" y="441"/>
                  </a:lnTo>
                  <a:lnTo>
                    <a:pt x="81" y="452"/>
                  </a:lnTo>
                  <a:lnTo>
                    <a:pt x="59" y="473"/>
                  </a:lnTo>
                  <a:lnTo>
                    <a:pt x="48" y="485"/>
                  </a:lnTo>
                  <a:lnTo>
                    <a:pt x="39" y="496"/>
                  </a:lnTo>
                  <a:lnTo>
                    <a:pt x="23" y="523"/>
                  </a:lnTo>
                  <a:lnTo>
                    <a:pt x="16" y="537"/>
                  </a:lnTo>
                  <a:lnTo>
                    <a:pt x="8" y="564"/>
                  </a:lnTo>
                  <a:lnTo>
                    <a:pt x="5" y="577"/>
                  </a:lnTo>
                  <a:lnTo>
                    <a:pt x="0" y="592"/>
                  </a:lnTo>
                  <a:lnTo>
                    <a:pt x="0" y="634"/>
                  </a:lnTo>
                  <a:lnTo>
                    <a:pt x="5" y="649"/>
                  </a:lnTo>
                  <a:lnTo>
                    <a:pt x="8" y="663"/>
                  </a:lnTo>
                  <a:lnTo>
                    <a:pt x="12" y="675"/>
                  </a:lnTo>
                  <a:lnTo>
                    <a:pt x="18" y="689"/>
                  </a:lnTo>
                  <a:lnTo>
                    <a:pt x="26" y="702"/>
                  </a:lnTo>
                  <a:lnTo>
                    <a:pt x="35" y="715"/>
                  </a:lnTo>
                  <a:lnTo>
                    <a:pt x="46" y="728"/>
                  </a:lnTo>
                  <a:lnTo>
                    <a:pt x="58" y="739"/>
                  </a:lnTo>
                  <a:lnTo>
                    <a:pt x="85" y="761"/>
                  </a:lnTo>
                  <a:lnTo>
                    <a:pt x="101" y="771"/>
                  </a:lnTo>
                  <a:lnTo>
                    <a:pt x="143" y="791"/>
                  </a:lnTo>
                  <a:lnTo>
                    <a:pt x="164" y="798"/>
                  </a:lnTo>
                  <a:lnTo>
                    <a:pt x="183" y="805"/>
                  </a:lnTo>
                  <a:lnTo>
                    <a:pt x="200" y="810"/>
                  </a:lnTo>
                  <a:lnTo>
                    <a:pt x="212" y="809"/>
                  </a:lnTo>
                  <a:lnTo>
                    <a:pt x="213" y="810"/>
                  </a:lnTo>
                  <a:lnTo>
                    <a:pt x="218" y="810"/>
                  </a:lnTo>
                  <a:lnTo>
                    <a:pt x="219" y="809"/>
                  </a:lnTo>
                  <a:lnTo>
                    <a:pt x="203" y="821"/>
                  </a:lnTo>
                  <a:lnTo>
                    <a:pt x="160" y="865"/>
                  </a:lnTo>
                  <a:lnTo>
                    <a:pt x="131" y="895"/>
                  </a:lnTo>
                  <a:lnTo>
                    <a:pt x="111" y="925"/>
                  </a:lnTo>
                  <a:lnTo>
                    <a:pt x="97" y="955"/>
                  </a:lnTo>
                  <a:lnTo>
                    <a:pt x="88" y="982"/>
                  </a:lnTo>
                  <a:lnTo>
                    <a:pt x="87" y="1011"/>
                  </a:lnTo>
                  <a:lnTo>
                    <a:pt x="91" y="1038"/>
                  </a:lnTo>
                  <a:lnTo>
                    <a:pt x="100" y="1063"/>
                  </a:lnTo>
                  <a:lnTo>
                    <a:pt x="113" y="1087"/>
                  </a:lnTo>
                  <a:lnTo>
                    <a:pt x="131" y="1111"/>
                  </a:lnTo>
                  <a:lnTo>
                    <a:pt x="153" y="1134"/>
                  </a:lnTo>
                  <a:lnTo>
                    <a:pt x="180" y="1154"/>
                  </a:lnTo>
                  <a:lnTo>
                    <a:pt x="210" y="1174"/>
                  </a:lnTo>
                  <a:lnTo>
                    <a:pt x="242" y="1191"/>
                  </a:lnTo>
                  <a:lnTo>
                    <a:pt x="279" y="1208"/>
                  </a:lnTo>
                  <a:lnTo>
                    <a:pt x="318" y="1221"/>
                  </a:lnTo>
                  <a:lnTo>
                    <a:pt x="359" y="1235"/>
                  </a:lnTo>
                  <a:lnTo>
                    <a:pt x="402" y="1247"/>
                  </a:lnTo>
                  <a:lnTo>
                    <a:pt x="445" y="1255"/>
                  </a:lnTo>
                  <a:lnTo>
                    <a:pt x="491" y="1264"/>
                  </a:lnTo>
                  <a:lnTo>
                    <a:pt x="537" y="1268"/>
                  </a:lnTo>
                  <a:lnTo>
                    <a:pt x="582" y="1271"/>
                  </a:lnTo>
                  <a:lnTo>
                    <a:pt x="629" y="1272"/>
                  </a:lnTo>
                  <a:lnTo>
                    <a:pt x="675" y="1271"/>
                  </a:lnTo>
                  <a:lnTo>
                    <a:pt x="720" y="1266"/>
                  </a:lnTo>
                  <a:lnTo>
                    <a:pt x="764" y="1261"/>
                  </a:lnTo>
                  <a:lnTo>
                    <a:pt x="809" y="1251"/>
                  </a:lnTo>
                  <a:lnTo>
                    <a:pt x="851" y="1239"/>
                  </a:lnTo>
                  <a:lnTo>
                    <a:pt x="890" y="1225"/>
                  </a:lnTo>
                  <a:lnTo>
                    <a:pt x="927" y="1208"/>
                  </a:lnTo>
                  <a:lnTo>
                    <a:pt x="963" y="1189"/>
                  </a:lnTo>
                  <a:lnTo>
                    <a:pt x="993" y="1167"/>
                  </a:lnTo>
                  <a:lnTo>
                    <a:pt x="1022" y="1141"/>
                  </a:lnTo>
                  <a:lnTo>
                    <a:pt x="1054" y="1165"/>
                  </a:lnTo>
                  <a:lnTo>
                    <a:pt x="1071" y="1175"/>
                  </a:lnTo>
                  <a:lnTo>
                    <a:pt x="1090" y="1186"/>
                  </a:lnTo>
                  <a:lnTo>
                    <a:pt x="1108" y="1195"/>
                  </a:lnTo>
                  <a:lnTo>
                    <a:pt x="1149" y="1213"/>
                  </a:lnTo>
                  <a:lnTo>
                    <a:pt x="1172" y="1220"/>
                  </a:lnTo>
                  <a:lnTo>
                    <a:pt x="1195" y="1228"/>
                  </a:lnTo>
                  <a:lnTo>
                    <a:pt x="1216" y="1234"/>
                  </a:lnTo>
                  <a:lnTo>
                    <a:pt x="1241" y="1238"/>
                  </a:lnTo>
                  <a:lnTo>
                    <a:pt x="1265" y="1242"/>
                  </a:lnTo>
                  <a:lnTo>
                    <a:pt x="1315" y="1249"/>
                  </a:lnTo>
                  <a:lnTo>
                    <a:pt x="1341" y="1250"/>
                  </a:lnTo>
                  <a:lnTo>
                    <a:pt x="1367" y="1250"/>
                  </a:lnTo>
                  <a:lnTo>
                    <a:pt x="1412" y="1249"/>
                  </a:lnTo>
                  <a:lnTo>
                    <a:pt x="1455" y="1245"/>
                  </a:lnTo>
                  <a:lnTo>
                    <a:pt x="1497" y="1238"/>
                  </a:lnTo>
                  <a:lnTo>
                    <a:pt x="1537" y="1228"/>
                  </a:lnTo>
                  <a:lnTo>
                    <a:pt x="1574" y="1217"/>
                  </a:lnTo>
                  <a:lnTo>
                    <a:pt x="1610" y="1202"/>
                  </a:lnTo>
                  <a:lnTo>
                    <a:pt x="1643" y="1187"/>
                  </a:lnTo>
                  <a:lnTo>
                    <a:pt x="1675" y="1168"/>
                  </a:lnTo>
                  <a:lnTo>
                    <a:pt x="1690" y="1159"/>
                  </a:lnTo>
                  <a:lnTo>
                    <a:pt x="1704" y="1149"/>
                  </a:lnTo>
                  <a:lnTo>
                    <a:pt x="1728" y="1127"/>
                  </a:lnTo>
                  <a:lnTo>
                    <a:pt x="1740" y="1116"/>
                  </a:lnTo>
                  <a:lnTo>
                    <a:pt x="1751" y="1105"/>
                  </a:lnTo>
                  <a:lnTo>
                    <a:pt x="1760" y="1093"/>
                  </a:lnTo>
                  <a:lnTo>
                    <a:pt x="1770" y="1079"/>
                  </a:lnTo>
                  <a:lnTo>
                    <a:pt x="1777" y="1068"/>
                  </a:lnTo>
                  <a:lnTo>
                    <a:pt x="1790" y="1041"/>
                  </a:lnTo>
                  <a:lnTo>
                    <a:pt x="1795" y="1029"/>
                  </a:lnTo>
                  <a:lnTo>
                    <a:pt x="1797" y="1014"/>
                  </a:lnTo>
                  <a:lnTo>
                    <a:pt x="1802" y="1001"/>
                  </a:lnTo>
                  <a:lnTo>
                    <a:pt x="1803" y="988"/>
                  </a:lnTo>
                  <a:lnTo>
                    <a:pt x="1805" y="973"/>
                  </a:lnTo>
                  <a:lnTo>
                    <a:pt x="1803" y="955"/>
                  </a:lnTo>
                  <a:lnTo>
                    <a:pt x="1799" y="937"/>
                  </a:lnTo>
                  <a:lnTo>
                    <a:pt x="1795" y="918"/>
                  </a:lnTo>
                  <a:lnTo>
                    <a:pt x="1789" y="900"/>
                  </a:lnTo>
                  <a:lnTo>
                    <a:pt x="1780" y="884"/>
                  </a:lnTo>
                  <a:lnTo>
                    <a:pt x="1772" y="868"/>
                  </a:lnTo>
                  <a:lnTo>
                    <a:pt x="1760" y="851"/>
                  </a:lnTo>
                  <a:lnTo>
                    <a:pt x="1747" y="836"/>
                  </a:lnTo>
                  <a:lnTo>
                    <a:pt x="1754" y="853"/>
                  </a:lnTo>
                  <a:lnTo>
                    <a:pt x="1759" y="869"/>
                  </a:lnTo>
                  <a:lnTo>
                    <a:pt x="1761" y="888"/>
                  </a:lnTo>
                  <a:lnTo>
                    <a:pt x="1761" y="918"/>
                  </a:lnTo>
                  <a:lnTo>
                    <a:pt x="1760" y="930"/>
                  </a:lnTo>
                  <a:lnTo>
                    <a:pt x="1757" y="944"/>
                  </a:lnTo>
                  <a:lnTo>
                    <a:pt x="1754" y="956"/>
                  </a:lnTo>
                  <a:lnTo>
                    <a:pt x="1744" y="980"/>
                  </a:lnTo>
                  <a:lnTo>
                    <a:pt x="1738" y="992"/>
                  </a:lnTo>
                  <a:lnTo>
                    <a:pt x="1730" y="1004"/>
                  </a:lnTo>
                  <a:lnTo>
                    <a:pt x="1723" y="1014"/>
                  </a:lnTo>
                  <a:lnTo>
                    <a:pt x="1714" y="1026"/>
                  </a:lnTo>
                  <a:lnTo>
                    <a:pt x="1705" y="1037"/>
                  </a:lnTo>
                  <a:lnTo>
                    <a:pt x="1694" y="1045"/>
                  </a:lnTo>
                  <a:lnTo>
                    <a:pt x="1671" y="1067"/>
                  </a:lnTo>
                  <a:lnTo>
                    <a:pt x="1645" y="1085"/>
                  </a:lnTo>
                  <a:lnTo>
                    <a:pt x="1618" y="1101"/>
                  </a:lnTo>
                  <a:lnTo>
                    <a:pt x="1587" y="1115"/>
                  </a:lnTo>
                  <a:lnTo>
                    <a:pt x="1554" y="1127"/>
                  </a:lnTo>
                  <a:lnTo>
                    <a:pt x="1520" y="1138"/>
                  </a:lnTo>
                  <a:lnTo>
                    <a:pt x="1482" y="1148"/>
                  </a:lnTo>
                  <a:lnTo>
                    <a:pt x="1445" y="1153"/>
                  </a:lnTo>
                  <a:lnTo>
                    <a:pt x="1405" y="1156"/>
                  </a:lnTo>
                  <a:lnTo>
                    <a:pt x="1364" y="1157"/>
                  </a:lnTo>
                  <a:lnTo>
                    <a:pt x="1341" y="1157"/>
                  </a:lnTo>
                  <a:lnTo>
                    <a:pt x="1317" y="1156"/>
                  </a:lnTo>
                  <a:lnTo>
                    <a:pt x="1295" y="1154"/>
                  </a:lnTo>
                  <a:lnTo>
                    <a:pt x="1272" y="1152"/>
                  </a:lnTo>
                  <a:lnTo>
                    <a:pt x="1228" y="1142"/>
                  </a:lnTo>
                  <a:lnTo>
                    <a:pt x="1166" y="1124"/>
                  </a:lnTo>
                  <a:lnTo>
                    <a:pt x="1147" y="1116"/>
                  </a:lnTo>
                  <a:lnTo>
                    <a:pt x="1128" y="1108"/>
                  </a:lnTo>
                  <a:lnTo>
                    <a:pt x="1094" y="1090"/>
                  </a:lnTo>
                  <a:lnTo>
                    <a:pt x="1078" y="1079"/>
                  </a:lnTo>
                  <a:lnTo>
                    <a:pt x="1051" y="1059"/>
                  </a:lnTo>
                  <a:lnTo>
                    <a:pt x="1023" y="1082"/>
                  </a:lnTo>
                  <a:lnTo>
                    <a:pt x="995" y="1103"/>
                  </a:lnTo>
                  <a:lnTo>
                    <a:pt x="964" y="1120"/>
                  </a:lnTo>
                  <a:lnTo>
                    <a:pt x="930" y="1135"/>
                  </a:lnTo>
                  <a:lnTo>
                    <a:pt x="892" y="1149"/>
                  </a:lnTo>
                  <a:lnTo>
                    <a:pt x="855" y="1159"/>
                  </a:lnTo>
                  <a:lnTo>
                    <a:pt x="816" y="1167"/>
                  </a:lnTo>
                  <a:lnTo>
                    <a:pt x="776" y="1172"/>
                  </a:lnTo>
                  <a:lnTo>
                    <a:pt x="734" y="1176"/>
                  </a:lnTo>
                  <a:lnTo>
                    <a:pt x="692" y="1178"/>
                  </a:lnTo>
                  <a:lnTo>
                    <a:pt x="649" y="1176"/>
                  </a:lnTo>
                  <a:lnTo>
                    <a:pt x="608" y="1174"/>
                  </a:lnTo>
                  <a:lnTo>
                    <a:pt x="566" y="1169"/>
                  </a:lnTo>
                  <a:lnTo>
                    <a:pt x="524" y="1164"/>
                  </a:lnTo>
                  <a:lnTo>
                    <a:pt x="485" y="1154"/>
                  </a:lnTo>
                  <a:lnTo>
                    <a:pt x="445" y="1143"/>
                  </a:lnTo>
                  <a:lnTo>
                    <a:pt x="409" y="1133"/>
                  </a:lnTo>
                  <a:lnTo>
                    <a:pt x="373" y="1119"/>
                  </a:lnTo>
                  <a:lnTo>
                    <a:pt x="340" y="1105"/>
                  </a:lnTo>
                  <a:lnTo>
                    <a:pt x="310" y="1089"/>
                  </a:lnTo>
                  <a:lnTo>
                    <a:pt x="284" y="1071"/>
                  </a:lnTo>
                  <a:lnTo>
                    <a:pt x="258" y="1052"/>
                  </a:lnTo>
                  <a:lnTo>
                    <a:pt x="238" y="1031"/>
                  </a:lnTo>
                  <a:lnTo>
                    <a:pt x="222" y="1010"/>
                  </a:lnTo>
                  <a:lnTo>
                    <a:pt x="210" y="988"/>
                  </a:lnTo>
                  <a:lnTo>
                    <a:pt x="200" y="965"/>
                  </a:lnTo>
                  <a:lnTo>
                    <a:pt x="197" y="940"/>
                  </a:lnTo>
                  <a:lnTo>
                    <a:pt x="199" y="914"/>
                  </a:lnTo>
                  <a:lnTo>
                    <a:pt x="206" y="889"/>
                  </a:lnTo>
                  <a:lnTo>
                    <a:pt x="219" y="862"/>
                  </a:lnTo>
                  <a:lnTo>
                    <a:pt x="238" y="835"/>
                  </a:lnTo>
                  <a:lnTo>
                    <a:pt x="265" y="808"/>
                  </a:lnTo>
                  <a:lnTo>
                    <a:pt x="304" y="768"/>
                  </a:lnTo>
                  <a:lnTo>
                    <a:pt x="318" y="756"/>
                  </a:lnTo>
                  <a:lnTo>
                    <a:pt x="317" y="758"/>
                  </a:lnTo>
                  <a:lnTo>
                    <a:pt x="313" y="756"/>
                  </a:lnTo>
                  <a:lnTo>
                    <a:pt x="301" y="758"/>
                  </a:lnTo>
                  <a:lnTo>
                    <a:pt x="285" y="753"/>
                  </a:lnTo>
                  <a:lnTo>
                    <a:pt x="268" y="746"/>
                  </a:lnTo>
                  <a:lnTo>
                    <a:pt x="249" y="738"/>
                  </a:lnTo>
                  <a:lnTo>
                    <a:pt x="229" y="730"/>
                  </a:lnTo>
                  <a:lnTo>
                    <a:pt x="212" y="721"/>
                  </a:lnTo>
                  <a:lnTo>
                    <a:pt x="197" y="712"/>
                  </a:lnTo>
                  <a:lnTo>
                    <a:pt x="183" y="702"/>
                  </a:lnTo>
                  <a:lnTo>
                    <a:pt x="161" y="682"/>
                  </a:lnTo>
                  <a:lnTo>
                    <a:pt x="151" y="671"/>
                  </a:lnTo>
                  <a:lnTo>
                    <a:pt x="143" y="659"/>
                  </a:lnTo>
                  <a:lnTo>
                    <a:pt x="130" y="635"/>
                  </a:lnTo>
                  <a:lnTo>
                    <a:pt x="127" y="622"/>
                  </a:lnTo>
                  <a:lnTo>
                    <a:pt x="121" y="609"/>
                  </a:lnTo>
                  <a:lnTo>
                    <a:pt x="120" y="597"/>
                  </a:lnTo>
                  <a:lnTo>
                    <a:pt x="118" y="585"/>
                  </a:lnTo>
                  <a:lnTo>
                    <a:pt x="118" y="571"/>
                  </a:lnTo>
                  <a:lnTo>
                    <a:pt x="120" y="558"/>
                  </a:lnTo>
                  <a:lnTo>
                    <a:pt x="121" y="545"/>
                  </a:lnTo>
                  <a:lnTo>
                    <a:pt x="126" y="533"/>
                  </a:lnTo>
                  <a:lnTo>
                    <a:pt x="130" y="521"/>
                  </a:lnTo>
                  <a:lnTo>
                    <a:pt x="134" y="507"/>
                  </a:lnTo>
                  <a:lnTo>
                    <a:pt x="138" y="495"/>
                  </a:lnTo>
                  <a:lnTo>
                    <a:pt x="154" y="472"/>
                  </a:lnTo>
                  <a:lnTo>
                    <a:pt x="163" y="461"/>
                  </a:lnTo>
                  <a:lnTo>
                    <a:pt x="182" y="440"/>
                  </a:lnTo>
                  <a:lnTo>
                    <a:pt x="193" y="431"/>
                  </a:lnTo>
                  <a:lnTo>
                    <a:pt x="205" y="421"/>
                  </a:lnTo>
                  <a:lnTo>
                    <a:pt x="231" y="406"/>
                  </a:lnTo>
                  <a:lnTo>
                    <a:pt x="245" y="398"/>
                  </a:lnTo>
                  <a:lnTo>
                    <a:pt x="272" y="387"/>
                  </a:lnTo>
                  <a:lnTo>
                    <a:pt x="305" y="377"/>
                  </a:lnTo>
                  <a:lnTo>
                    <a:pt x="337" y="369"/>
                  </a:lnTo>
                  <a:lnTo>
                    <a:pt x="396" y="357"/>
                  </a:lnTo>
                  <a:close/>
                  <a:moveTo>
                    <a:pt x="1731" y="809"/>
                  </a:moveTo>
                  <a:lnTo>
                    <a:pt x="1728" y="795"/>
                  </a:lnTo>
                  <a:lnTo>
                    <a:pt x="1724" y="782"/>
                  </a:lnTo>
                  <a:lnTo>
                    <a:pt x="1714" y="752"/>
                  </a:lnTo>
                  <a:lnTo>
                    <a:pt x="1749" y="742"/>
                  </a:lnTo>
                  <a:lnTo>
                    <a:pt x="1782" y="730"/>
                  </a:lnTo>
                  <a:lnTo>
                    <a:pt x="1813" y="716"/>
                  </a:lnTo>
                  <a:lnTo>
                    <a:pt x="1843" y="700"/>
                  </a:lnTo>
                  <a:lnTo>
                    <a:pt x="1872" y="683"/>
                  </a:lnTo>
                  <a:lnTo>
                    <a:pt x="1897" y="665"/>
                  </a:lnTo>
                  <a:lnTo>
                    <a:pt x="1920" y="646"/>
                  </a:lnTo>
                  <a:lnTo>
                    <a:pt x="1943" y="626"/>
                  </a:lnTo>
                  <a:lnTo>
                    <a:pt x="1961" y="605"/>
                  </a:lnTo>
                  <a:lnTo>
                    <a:pt x="1977" y="584"/>
                  </a:lnTo>
                  <a:lnTo>
                    <a:pt x="1992" y="560"/>
                  </a:lnTo>
                  <a:lnTo>
                    <a:pt x="2002" y="538"/>
                  </a:lnTo>
                  <a:lnTo>
                    <a:pt x="2010" y="515"/>
                  </a:lnTo>
                  <a:lnTo>
                    <a:pt x="2015" y="491"/>
                  </a:lnTo>
                  <a:lnTo>
                    <a:pt x="2015" y="456"/>
                  </a:lnTo>
                  <a:lnTo>
                    <a:pt x="2013" y="444"/>
                  </a:lnTo>
                  <a:lnTo>
                    <a:pt x="2009" y="428"/>
                  </a:lnTo>
                  <a:lnTo>
                    <a:pt x="2003" y="410"/>
                  </a:lnTo>
                  <a:lnTo>
                    <a:pt x="1996" y="395"/>
                  </a:lnTo>
                  <a:lnTo>
                    <a:pt x="1986" y="380"/>
                  </a:lnTo>
                  <a:lnTo>
                    <a:pt x="1976" y="365"/>
                  </a:lnTo>
                  <a:lnTo>
                    <a:pt x="1949" y="340"/>
                  </a:lnTo>
                  <a:lnTo>
                    <a:pt x="1933" y="329"/>
                  </a:lnTo>
                  <a:lnTo>
                    <a:pt x="1915" y="319"/>
                  </a:lnTo>
                  <a:lnTo>
                    <a:pt x="1897" y="309"/>
                  </a:lnTo>
                  <a:lnTo>
                    <a:pt x="1878" y="301"/>
                  </a:lnTo>
                  <a:lnTo>
                    <a:pt x="1858" y="294"/>
                  </a:lnTo>
                  <a:lnTo>
                    <a:pt x="1836" y="286"/>
                  </a:lnTo>
                  <a:lnTo>
                    <a:pt x="1813" y="282"/>
                  </a:lnTo>
                  <a:lnTo>
                    <a:pt x="1790" y="278"/>
                  </a:lnTo>
                  <a:lnTo>
                    <a:pt x="1767" y="275"/>
                  </a:lnTo>
                  <a:lnTo>
                    <a:pt x="1786" y="279"/>
                  </a:lnTo>
                  <a:lnTo>
                    <a:pt x="1803" y="283"/>
                  </a:lnTo>
                  <a:lnTo>
                    <a:pt x="1820" y="290"/>
                  </a:lnTo>
                  <a:lnTo>
                    <a:pt x="1836" y="295"/>
                  </a:lnTo>
                  <a:lnTo>
                    <a:pt x="1851" y="302"/>
                  </a:lnTo>
                  <a:lnTo>
                    <a:pt x="1865" y="310"/>
                  </a:lnTo>
                  <a:lnTo>
                    <a:pt x="1879" y="319"/>
                  </a:lnTo>
                  <a:lnTo>
                    <a:pt x="1905" y="338"/>
                  </a:lnTo>
                  <a:lnTo>
                    <a:pt x="1914" y="349"/>
                  </a:lnTo>
                  <a:lnTo>
                    <a:pt x="1924" y="360"/>
                  </a:lnTo>
                  <a:lnTo>
                    <a:pt x="1933" y="372"/>
                  </a:lnTo>
                  <a:lnTo>
                    <a:pt x="1940" y="383"/>
                  </a:lnTo>
                  <a:lnTo>
                    <a:pt x="1946" y="396"/>
                  </a:lnTo>
                  <a:lnTo>
                    <a:pt x="1950" y="410"/>
                  </a:lnTo>
                  <a:lnTo>
                    <a:pt x="1953" y="424"/>
                  </a:lnTo>
                  <a:lnTo>
                    <a:pt x="1956" y="435"/>
                  </a:lnTo>
                  <a:lnTo>
                    <a:pt x="1956" y="456"/>
                  </a:lnTo>
                  <a:lnTo>
                    <a:pt x="1950" y="488"/>
                  </a:lnTo>
                  <a:lnTo>
                    <a:pt x="1943" y="508"/>
                  </a:lnTo>
                  <a:lnTo>
                    <a:pt x="1933" y="529"/>
                  </a:lnTo>
                  <a:lnTo>
                    <a:pt x="1920" y="551"/>
                  </a:lnTo>
                  <a:lnTo>
                    <a:pt x="1907" y="570"/>
                  </a:lnTo>
                  <a:lnTo>
                    <a:pt x="1890" y="589"/>
                  </a:lnTo>
                  <a:lnTo>
                    <a:pt x="1868" y="608"/>
                  </a:lnTo>
                  <a:lnTo>
                    <a:pt x="1846" y="624"/>
                  </a:lnTo>
                  <a:lnTo>
                    <a:pt x="1823" y="641"/>
                  </a:lnTo>
                  <a:lnTo>
                    <a:pt x="1797" y="656"/>
                  </a:lnTo>
                  <a:lnTo>
                    <a:pt x="1772" y="671"/>
                  </a:lnTo>
                  <a:lnTo>
                    <a:pt x="1743" y="683"/>
                  </a:lnTo>
                  <a:lnTo>
                    <a:pt x="1711" y="696"/>
                  </a:lnTo>
                  <a:lnTo>
                    <a:pt x="1679" y="704"/>
                  </a:lnTo>
                  <a:lnTo>
                    <a:pt x="1687" y="721"/>
                  </a:lnTo>
                  <a:lnTo>
                    <a:pt x="1692" y="738"/>
                  </a:lnTo>
                  <a:lnTo>
                    <a:pt x="1695" y="754"/>
                  </a:lnTo>
                  <a:lnTo>
                    <a:pt x="1701" y="771"/>
                  </a:lnTo>
                  <a:lnTo>
                    <a:pt x="1718" y="788"/>
                  </a:lnTo>
                  <a:lnTo>
                    <a:pt x="1731" y="809"/>
                  </a:lnTo>
                  <a:close/>
                  <a:moveTo>
                    <a:pt x="1580" y="278"/>
                  </a:moveTo>
                  <a:lnTo>
                    <a:pt x="1583" y="241"/>
                  </a:lnTo>
                  <a:lnTo>
                    <a:pt x="1580" y="205"/>
                  </a:lnTo>
                  <a:lnTo>
                    <a:pt x="1572" y="175"/>
                  </a:lnTo>
                  <a:lnTo>
                    <a:pt x="1559" y="145"/>
                  </a:lnTo>
                  <a:lnTo>
                    <a:pt x="1541" y="118"/>
                  </a:lnTo>
                  <a:lnTo>
                    <a:pt x="1520" y="95"/>
                  </a:lnTo>
                  <a:lnTo>
                    <a:pt x="1495" y="73"/>
                  </a:lnTo>
                  <a:lnTo>
                    <a:pt x="1465" y="55"/>
                  </a:lnTo>
                  <a:lnTo>
                    <a:pt x="1433" y="40"/>
                  </a:lnTo>
                  <a:lnTo>
                    <a:pt x="1399" y="26"/>
                  </a:lnTo>
                  <a:lnTo>
                    <a:pt x="1361" y="17"/>
                  </a:lnTo>
                  <a:lnTo>
                    <a:pt x="1324" y="7"/>
                  </a:lnTo>
                  <a:lnTo>
                    <a:pt x="1282" y="3"/>
                  </a:lnTo>
                  <a:lnTo>
                    <a:pt x="1241" y="0"/>
                  </a:lnTo>
                  <a:lnTo>
                    <a:pt x="1196" y="0"/>
                  </a:lnTo>
                  <a:lnTo>
                    <a:pt x="1154" y="2"/>
                  </a:lnTo>
                  <a:lnTo>
                    <a:pt x="1110" y="6"/>
                  </a:lnTo>
                  <a:lnTo>
                    <a:pt x="1067" y="11"/>
                  </a:lnTo>
                  <a:lnTo>
                    <a:pt x="1022" y="22"/>
                  </a:lnTo>
                  <a:lnTo>
                    <a:pt x="980" y="33"/>
                  </a:lnTo>
                  <a:lnTo>
                    <a:pt x="938" y="48"/>
                  </a:lnTo>
                  <a:lnTo>
                    <a:pt x="900" y="65"/>
                  </a:lnTo>
                  <a:lnTo>
                    <a:pt x="862" y="82"/>
                  </a:lnTo>
                  <a:lnTo>
                    <a:pt x="826" y="103"/>
                  </a:lnTo>
                  <a:lnTo>
                    <a:pt x="793" y="125"/>
                  </a:lnTo>
                  <a:lnTo>
                    <a:pt x="763" y="151"/>
                  </a:lnTo>
                  <a:lnTo>
                    <a:pt x="736" y="179"/>
                  </a:lnTo>
                  <a:lnTo>
                    <a:pt x="713" y="208"/>
                  </a:lnTo>
                  <a:lnTo>
                    <a:pt x="694" y="238"/>
                  </a:lnTo>
                  <a:lnTo>
                    <a:pt x="679" y="273"/>
                  </a:lnTo>
                  <a:lnTo>
                    <a:pt x="669" y="309"/>
                  </a:lnTo>
                  <a:lnTo>
                    <a:pt x="665" y="346"/>
                  </a:lnTo>
                  <a:lnTo>
                    <a:pt x="692" y="351"/>
                  </a:lnTo>
                  <a:lnTo>
                    <a:pt x="711" y="358"/>
                  </a:lnTo>
                  <a:lnTo>
                    <a:pt x="721" y="361"/>
                  </a:lnTo>
                  <a:lnTo>
                    <a:pt x="726" y="361"/>
                  </a:lnTo>
                  <a:lnTo>
                    <a:pt x="726" y="324"/>
                  </a:lnTo>
                  <a:lnTo>
                    <a:pt x="731" y="290"/>
                  </a:lnTo>
                  <a:lnTo>
                    <a:pt x="743" y="257"/>
                  </a:lnTo>
                  <a:lnTo>
                    <a:pt x="756" y="226"/>
                  </a:lnTo>
                  <a:lnTo>
                    <a:pt x="777" y="197"/>
                  </a:lnTo>
                  <a:lnTo>
                    <a:pt x="800" y="170"/>
                  </a:lnTo>
                  <a:lnTo>
                    <a:pt x="828" y="145"/>
                  </a:lnTo>
                  <a:lnTo>
                    <a:pt x="856" y="122"/>
                  </a:lnTo>
                  <a:lnTo>
                    <a:pt x="888" y="101"/>
                  </a:lnTo>
                  <a:lnTo>
                    <a:pt x="923" y="84"/>
                  </a:lnTo>
                  <a:lnTo>
                    <a:pt x="960" y="67"/>
                  </a:lnTo>
                  <a:lnTo>
                    <a:pt x="999" y="54"/>
                  </a:lnTo>
                  <a:lnTo>
                    <a:pt x="1038" y="41"/>
                  </a:lnTo>
                  <a:lnTo>
                    <a:pt x="1078" y="33"/>
                  </a:lnTo>
                  <a:lnTo>
                    <a:pt x="1120" y="25"/>
                  </a:lnTo>
                  <a:lnTo>
                    <a:pt x="1161" y="21"/>
                  </a:lnTo>
                  <a:lnTo>
                    <a:pt x="1203" y="18"/>
                  </a:lnTo>
                  <a:lnTo>
                    <a:pt x="1243" y="18"/>
                  </a:lnTo>
                  <a:lnTo>
                    <a:pt x="1282" y="21"/>
                  </a:lnTo>
                  <a:lnTo>
                    <a:pt x="1323" y="25"/>
                  </a:lnTo>
                  <a:lnTo>
                    <a:pt x="1359" y="33"/>
                  </a:lnTo>
                  <a:lnTo>
                    <a:pt x="1393" y="43"/>
                  </a:lnTo>
                  <a:lnTo>
                    <a:pt x="1426" y="55"/>
                  </a:lnTo>
                  <a:lnTo>
                    <a:pt x="1455" y="70"/>
                  </a:lnTo>
                  <a:lnTo>
                    <a:pt x="1482" y="88"/>
                  </a:lnTo>
                  <a:lnTo>
                    <a:pt x="1505" y="107"/>
                  </a:lnTo>
                  <a:lnTo>
                    <a:pt x="1526" y="130"/>
                  </a:lnTo>
                  <a:lnTo>
                    <a:pt x="1541" y="155"/>
                  </a:lnTo>
                  <a:lnTo>
                    <a:pt x="1553" y="183"/>
                  </a:lnTo>
                  <a:lnTo>
                    <a:pt x="1559" y="213"/>
                  </a:lnTo>
                  <a:lnTo>
                    <a:pt x="1560" y="248"/>
                  </a:lnTo>
                  <a:lnTo>
                    <a:pt x="1556" y="283"/>
                  </a:lnTo>
                  <a:lnTo>
                    <a:pt x="1569" y="280"/>
                  </a:lnTo>
                  <a:lnTo>
                    <a:pt x="1580" y="278"/>
                  </a:lnTo>
                  <a:close/>
                </a:path>
              </a:pathLst>
            </a:custGeom>
            <a:solidFill>
              <a:srgbClr val="808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891480" y="164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33" y="627"/>
                </a:lnTo>
                <a:lnTo>
                  <a:pt x="49" y="647"/>
                </a:lnTo>
                <a:lnTo>
                  <a:pt x="56" y="658"/>
                </a:lnTo>
                <a:lnTo>
                  <a:pt x="65" y="668"/>
                </a:lnTo>
                <a:lnTo>
                  <a:pt x="75" y="676"/>
                </a:lnTo>
                <a:lnTo>
                  <a:pt x="94" y="694"/>
                </a:lnTo>
                <a:lnTo>
                  <a:pt x="114" y="711"/>
                </a:lnTo>
                <a:lnTo>
                  <a:pt x="134" y="727"/>
                </a:lnTo>
                <a:lnTo>
                  <a:pt x="154" y="742"/>
                </a:lnTo>
                <a:lnTo>
                  <a:pt x="193" y="768"/>
                </a:lnTo>
                <a:lnTo>
                  <a:pt x="228" y="791"/>
                </a:lnTo>
                <a:lnTo>
                  <a:pt x="241" y="801"/>
                </a:lnTo>
                <a:lnTo>
                  <a:pt x="251" y="810"/>
                </a:lnTo>
                <a:lnTo>
                  <a:pt x="255" y="814"/>
                </a:lnTo>
                <a:lnTo>
                  <a:pt x="259" y="819"/>
                </a:lnTo>
                <a:lnTo>
                  <a:pt x="261" y="823"/>
                </a:lnTo>
                <a:lnTo>
                  <a:pt x="262" y="827"/>
                </a:lnTo>
                <a:lnTo>
                  <a:pt x="268" y="824"/>
                </a:lnTo>
                <a:lnTo>
                  <a:pt x="272" y="820"/>
                </a:lnTo>
                <a:lnTo>
                  <a:pt x="274" y="817"/>
                </a:lnTo>
                <a:lnTo>
                  <a:pt x="275" y="814"/>
                </a:lnTo>
                <a:lnTo>
                  <a:pt x="274" y="810"/>
                </a:lnTo>
                <a:lnTo>
                  <a:pt x="272" y="806"/>
                </a:lnTo>
                <a:lnTo>
                  <a:pt x="268" y="801"/>
                </a:lnTo>
                <a:lnTo>
                  <a:pt x="264" y="797"/>
                </a:lnTo>
                <a:lnTo>
                  <a:pt x="252" y="787"/>
                </a:lnTo>
                <a:lnTo>
                  <a:pt x="236" y="777"/>
                </a:lnTo>
                <a:lnTo>
                  <a:pt x="216" y="765"/>
                </a:lnTo>
                <a:lnTo>
                  <a:pt x="196" y="752"/>
                </a:lnTo>
                <a:lnTo>
                  <a:pt x="172" y="738"/>
                </a:lnTo>
                <a:lnTo>
                  <a:pt x="149" y="722"/>
                </a:lnTo>
                <a:lnTo>
                  <a:pt x="126" y="708"/>
                </a:lnTo>
                <a:lnTo>
                  <a:pt x="103" y="689"/>
                </a:lnTo>
                <a:lnTo>
                  <a:pt x="92" y="681"/>
                </a:lnTo>
                <a:lnTo>
                  <a:pt x="71" y="662"/>
                </a:lnTo>
                <a:lnTo>
                  <a:pt x="62" y="652"/>
                </a:lnTo>
                <a:lnTo>
                  <a:pt x="54" y="640"/>
                </a:lnTo>
                <a:lnTo>
                  <a:pt x="45" y="629"/>
                </a:lnTo>
                <a:lnTo>
                  <a:pt x="39" y="617"/>
                </a:lnTo>
                <a:lnTo>
                  <a:pt x="33" y="607"/>
                </a:lnTo>
                <a:lnTo>
                  <a:pt x="25" y="584"/>
                </a:lnTo>
                <a:lnTo>
                  <a:pt x="19" y="563"/>
                </a:lnTo>
                <a:lnTo>
                  <a:pt x="16" y="542"/>
                </a:lnTo>
                <a:lnTo>
                  <a:pt x="18" y="524"/>
                </a:lnTo>
                <a:lnTo>
                  <a:pt x="20" y="505"/>
                </a:lnTo>
                <a:lnTo>
                  <a:pt x="26" y="488"/>
                </a:lnTo>
                <a:lnTo>
                  <a:pt x="33" y="472"/>
                </a:lnTo>
                <a:lnTo>
                  <a:pt x="44" y="456"/>
                </a:lnTo>
                <a:lnTo>
                  <a:pt x="56" y="442"/>
                </a:lnTo>
                <a:lnTo>
                  <a:pt x="71" y="429"/>
                </a:lnTo>
                <a:lnTo>
                  <a:pt x="85" y="416"/>
                </a:lnTo>
                <a:lnTo>
                  <a:pt x="104" y="404"/>
                </a:lnTo>
                <a:lnTo>
                  <a:pt x="123" y="394"/>
                </a:lnTo>
                <a:lnTo>
                  <a:pt x="143" y="384"/>
                </a:lnTo>
                <a:lnTo>
                  <a:pt x="166" y="376"/>
                </a:lnTo>
                <a:lnTo>
                  <a:pt x="187" y="368"/>
                </a:lnTo>
                <a:lnTo>
                  <a:pt x="236" y="357"/>
                </a:lnTo>
                <a:lnTo>
                  <a:pt x="261" y="351"/>
                </a:lnTo>
                <a:lnTo>
                  <a:pt x="287" y="348"/>
                </a:lnTo>
                <a:lnTo>
                  <a:pt x="311" y="344"/>
                </a:lnTo>
                <a:lnTo>
                  <a:pt x="337" y="343"/>
                </a:lnTo>
                <a:lnTo>
                  <a:pt x="364" y="343"/>
                </a:lnTo>
                <a:lnTo>
                  <a:pt x="390" y="341"/>
                </a:lnTo>
                <a:lnTo>
                  <a:pt x="416" y="343"/>
                </a:lnTo>
                <a:lnTo>
                  <a:pt x="441" y="344"/>
                </a:lnTo>
                <a:lnTo>
                  <a:pt x="464" y="347"/>
                </a:lnTo>
                <a:lnTo>
                  <a:pt x="488" y="350"/>
                </a:lnTo>
                <a:lnTo>
                  <a:pt x="511" y="353"/>
                </a:lnTo>
                <a:lnTo>
                  <a:pt x="533" y="358"/>
                </a:lnTo>
                <a:lnTo>
                  <a:pt x="553" y="364"/>
                </a:lnTo>
                <a:lnTo>
                  <a:pt x="572" y="371"/>
                </a:lnTo>
                <a:lnTo>
                  <a:pt x="575" y="345"/>
                </a:lnTo>
                <a:lnTo>
                  <a:pt x="576" y="321"/>
                </a:lnTo>
                <a:lnTo>
                  <a:pt x="582" y="298"/>
                </a:lnTo>
                <a:lnTo>
                  <a:pt x="589" y="275"/>
                </a:lnTo>
                <a:lnTo>
                  <a:pt x="598" y="253"/>
                </a:lnTo>
                <a:lnTo>
                  <a:pt x="608" y="232"/>
                </a:lnTo>
                <a:lnTo>
                  <a:pt x="621" y="213"/>
                </a:lnTo>
                <a:lnTo>
                  <a:pt x="634" y="194"/>
                </a:lnTo>
                <a:lnTo>
                  <a:pt x="648" y="177"/>
                </a:lnTo>
                <a:lnTo>
                  <a:pt x="665" y="163"/>
                </a:lnTo>
                <a:lnTo>
                  <a:pt x="682" y="148"/>
                </a:lnTo>
                <a:lnTo>
                  <a:pt x="700" y="134"/>
                </a:lnTo>
                <a:lnTo>
                  <a:pt x="720" y="123"/>
                </a:lnTo>
                <a:lnTo>
                  <a:pt x="740" y="112"/>
                </a:lnTo>
                <a:lnTo>
                  <a:pt x="760" y="104"/>
                </a:lnTo>
                <a:lnTo>
                  <a:pt x="783" y="97"/>
                </a:lnTo>
                <a:lnTo>
                  <a:pt x="805" y="91"/>
                </a:lnTo>
                <a:lnTo>
                  <a:pt x="828" y="87"/>
                </a:lnTo>
                <a:lnTo>
                  <a:pt x="852" y="85"/>
                </a:lnTo>
                <a:lnTo>
                  <a:pt x="875" y="85"/>
                </a:lnTo>
                <a:lnTo>
                  <a:pt x="900" y="87"/>
                </a:lnTo>
                <a:lnTo>
                  <a:pt x="923" y="89"/>
                </a:lnTo>
                <a:lnTo>
                  <a:pt x="949" y="95"/>
                </a:lnTo>
                <a:lnTo>
                  <a:pt x="972" y="101"/>
                </a:lnTo>
                <a:lnTo>
                  <a:pt x="996" y="111"/>
                </a:lnTo>
                <a:lnTo>
                  <a:pt x="1019" y="123"/>
                </a:lnTo>
                <a:lnTo>
                  <a:pt x="1044" y="136"/>
                </a:lnTo>
                <a:lnTo>
                  <a:pt x="1065" y="151"/>
                </a:lnTo>
                <a:lnTo>
                  <a:pt x="1088" y="169"/>
                </a:lnTo>
                <a:lnTo>
                  <a:pt x="1110" y="189"/>
                </a:lnTo>
                <a:lnTo>
                  <a:pt x="1130" y="212"/>
                </a:lnTo>
                <a:lnTo>
                  <a:pt x="1152" y="236"/>
                </a:lnTo>
                <a:lnTo>
                  <a:pt x="1154" y="236"/>
                </a:lnTo>
                <a:lnTo>
                  <a:pt x="1160" y="236"/>
                </a:lnTo>
                <a:lnTo>
                  <a:pt x="1169" y="233"/>
                </a:lnTo>
                <a:lnTo>
                  <a:pt x="1179" y="230"/>
                </a:lnTo>
                <a:lnTo>
                  <a:pt x="1206" y="223"/>
                </a:lnTo>
                <a:lnTo>
                  <a:pt x="1239" y="213"/>
                </a:lnTo>
                <a:lnTo>
                  <a:pt x="1259" y="209"/>
                </a:lnTo>
                <a:lnTo>
                  <a:pt x="1280" y="203"/>
                </a:lnTo>
                <a:lnTo>
                  <a:pt x="1301" y="199"/>
                </a:lnTo>
                <a:lnTo>
                  <a:pt x="1323" y="194"/>
                </a:lnTo>
                <a:lnTo>
                  <a:pt x="1346" y="193"/>
                </a:lnTo>
                <a:lnTo>
                  <a:pt x="1369" y="190"/>
                </a:lnTo>
                <a:lnTo>
                  <a:pt x="1393" y="189"/>
                </a:lnTo>
                <a:lnTo>
                  <a:pt x="1416" y="189"/>
                </a:lnTo>
                <a:lnTo>
                  <a:pt x="1439" y="190"/>
                </a:lnTo>
                <a:lnTo>
                  <a:pt x="1462" y="193"/>
                </a:lnTo>
                <a:lnTo>
                  <a:pt x="1485" y="197"/>
                </a:lnTo>
                <a:lnTo>
                  <a:pt x="1507" y="203"/>
                </a:lnTo>
                <a:lnTo>
                  <a:pt x="1529" y="213"/>
                </a:lnTo>
                <a:lnTo>
                  <a:pt x="1549" y="223"/>
                </a:lnTo>
                <a:lnTo>
                  <a:pt x="1567" y="236"/>
                </a:lnTo>
                <a:lnTo>
                  <a:pt x="1585" y="253"/>
                </a:lnTo>
                <a:lnTo>
                  <a:pt x="1601" y="272"/>
                </a:lnTo>
                <a:lnTo>
                  <a:pt x="1615" y="294"/>
                </a:lnTo>
                <a:lnTo>
                  <a:pt x="1628" y="320"/>
                </a:lnTo>
                <a:lnTo>
                  <a:pt x="1636" y="348"/>
                </a:lnTo>
                <a:lnTo>
                  <a:pt x="1645" y="380"/>
                </a:lnTo>
                <a:lnTo>
                  <a:pt x="1649" y="416"/>
                </a:lnTo>
                <a:lnTo>
                  <a:pt x="1651" y="456"/>
                </a:lnTo>
                <a:lnTo>
                  <a:pt x="1651" y="501"/>
                </a:lnTo>
                <a:lnTo>
                  <a:pt x="1652" y="502"/>
                </a:lnTo>
                <a:lnTo>
                  <a:pt x="1655" y="505"/>
                </a:lnTo>
                <a:lnTo>
                  <a:pt x="1660" y="508"/>
                </a:lnTo>
                <a:lnTo>
                  <a:pt x="1667" y="512"/>
                </a:lnTo>
                <a:lnTo>
                  <a:pt x="1684" y="521"/>
                </a:lnTo>
                <a:lnTo>
                  <a:pt x="1707" y="532"/>
                </a:lnTo>
                <a:lnTo>
                  <a:pt x="1734" y="547"/>
                </a:lnTo>
                <a:lnTo>
                  <a:pt x="1765" y="564"/>
                </a:lnTo>
                <a:lnTo>
                  <a:pt x="1798" y="581"/>
                </a:lnTo>
                <a:lnTo>
                  <a:pt x="1832" y="603"/>
                </a:lnTo>
                <a:lnTo>
                  <a:pt x="1848" y="613"/>
                </a:lnTo>
                <a:lnTo>
                  <a:pt x="1865" y="626"/>
                </a:lnTo>
                <a:lnTo>
                  <a:pt x="1898" y="649"/>
                </a:lnTo>
                <a:lnTo>
                  <a:pt x="1913" y="662"/>
                </a:lnTo>
                <a:lnTo>
                  <a:pt x="1929" y="676"/>
                </a:lnTo>
                <a:lnTo>
                  <a:pt x="1956" y="704"/>
                </a:lnTo>
                <a:lnTo>
                  <a:pt x="1969" y="718"/>
                </a:lnTo>
                <a:lnTo>
                  <a:pt x="1979" y="734"/>
                </a:lnTo>
                <a:lnTo>
                  <a:pt x="1989" y="748"/>
                </a:lnTo>
                <a:lnTo>
                  <a:pt x="1998" y="764"/>
                </a:lnTo>
                <a:lnTo>
                  <a:pt x="2005" y="780"/>
                </a:lnTo>
                <a:lnTo>
                  <a:pt x="2008" y="796"/>
                </a:lnTo>
                <a:lnTo>
                  <a:pt x="2012" y="813"/>
                </a:lnTo>
                <a:lnTo>
                  <a:pt x="2012" y="829"/>
                </a:lnTo>
                <a:lnTo>
                  <a:pt x="2012" y="855"/>
                </a:lnTo>
                <a:lnTo>
                  <a:pt x="2009" y="879"/>
                </a:lnTo>
                <a:lnTo>
                  <a:pt x="2005" y="902"/>
                </a:lnTo>
                <a:lnTo>
                  <a:pt x="1999" y="924"/>
                </a:lnTo>
                <a:lnTo>
                  <a:pt x="1992" y="945"/>
                </a:lnTo>
                <a:lnTo>
                  <a:pt x="1983" y="964"/>
                </a:lnTo>
                <a:lnTo>
                  <a:pt x="1972" y="983"/>
                </a:lnTo>
                <a:lnTo>
                  <a:pt x="1960" y="1000"/>
                </a:lnTo>
                <a:lnTo>
                  <a:pt x="1947" y="1017"/>
                </a:lnTo>
                <a:lnTo>
                  <a:pt x="1934" y="1031"/>
                </a:lnTo>
                <a:lnTo>
                  <a:pt x="1919" y="1046"/>
                </a:lnTo>
                <a:lnTo>
                  <a:pt x="1903" y="1059"/>
                </a:lnTo>
                <a:lnTo>
                  <a:pt x="1885" y="1072"/>
                </a:lnTo>
                <a:lnTo>
                  <a:pt x="1867" y="1085"/>
                </a:lnTo>
                <a:lnTo>
                  <a:pt x="1848" y="1095"/>
                </a:lnTo>
                <a:lnTo>
                  <a:pt x="1828" y="1105"/>
                </a:lnTo>
                <a:lnTo>
                  <a:pt x="1808" y="1113"/>
                </a:lnTo>
                <a:lnTo>
                  <a:pt x="1765" y="1129"/>
                </a:lnTo>
                <a:lnTo>
                  <a:pt x="1742" y="1136"/>
                </a:lnTo>
                <a:lnTo>
                  <a:pt x="1719" y="1142"/>
                </a:lnTo>
                <a:lnTo>
                  <a:pt x="1695" y="1148"/>
                </a:lnTo>
                <a:lnTo>
                  <a:pt x="1672" y="1152"/>
                </a:lnTo>
                <a:lnTo>
                  <a:pt x="1649" y="1155"/>
                </a:lnTo>
                <a:lnTo>
                  <a:pt x="1625" y="1158"/>
                </a:lnTo>
                <a:lnTo>
                  <a:pt x="1602" y="1161"/>
                </a:lnTo>
                <a:lnTo>
                  <a:pt x="1553" y="1165"/>
                </a:lnTo>
                <a:lnTo>
                  <a:pt x="1530" y="1165"/>
                </a:lnTo>
                <a:lnTo>
                  <a:pt x="1484" y="1165"/>
                </a:lnTo>
                <a:lnTo>
                  <a:pt x="1461" y="1165"/>
                </a:lnTo>
                <a:lnTo>
                  <a:pt x="1448" y="1162"/>
                </a:lnTo>
                <a:lnTo>
                  <a:pt x="1434" y="1161"/>
                </a:lnTo>
                <a:lnTo>
                  <a:pt x="1418" y="1158"/>
                </a:lnTo>
                <a:lnTo>
                  <a:pt x="1402" y="1155"/>
                </a:lnTo>
                <a:lnTo>
                  <a:pt x="1367" y="1145"/>
                </a:lnTo>
                <a:lnTo>
                  <a:pt x="1331" y="1135"/>
                </a:lnTo>
                <a:lnTo>
                  <a:pt x="1252" y="1108"/>
                </a:lnTo>
                <a:lnTo>
                  <a:pt x="1170" y="1080"/>
                </a:lnTo>
                <a:lnTo>
                  <a:pt x="1131" y="1066"/>
                </a:lnTo>
                <a:lnTo>
                  <a:pt x="1094" y="1053"/>
                </a:lnTo>
                <a:lnTo>
                  <a:pt x="1058" y="1043"/>
                </a:lnTo>
                <a:lnTo>
                  <a:pt x="1025" y="1034"/>
                </a:lnTo>
                <a:lnTo>
                  <a:pt x="1011" y="1031"/>
                </a:lnTo>
                <a:lnTo>
                  <a:pt x="998" y="1030"/>
                </a:lnTo>
                <a:lnTo>
                  <a:pt x="985" y="1027"/>
                </a:lnTo>
                <a:lnTo>
                  <a:pt x="973" y="1027"/>
                </a:lnTo>
                <a:lnTo>
                  <a:pt x="963" y="1027"/>
                </a:lnTo>
                <a:lnTo>
                  <a:pt x="954" y="1029"/>
                </a:lnTo>
                <a:lnTo>
                  <a:pt x="946" y="1031"/>
                </a:lnTo>
                <a:lnTo>
                  <a:pt x="940" y="1036"/>
                </a:lnTo>
                <a:lnTo>
                  <a:pt x="926" y="1049"/>
                </a:lnTo>
                <a:lnTo>
                  <a:pt x="911" y="1060"/>
                </a:lnTo>
                <a:lnTo>
                  <a:pt x="895" y="1072"/>
                </a:lnTo>
                <a:lnTo>
                  <a:pt x="867" y="1092"/>
                </a:lnTo>
                <a:lnTo>
                  <a:pt x="851" y="1102"/>
                </a:lnTo>
                <a:lnTo>
                  <a:pt x="836" y="1109"/>
                </a:lnTo>
                <a:lnTo>
                  <a:pt x="822" y="1118"/>
                </a:lnTo>
                <a:lnTo>
                  <a:pt x="806" y="1125"/>
                </a:lnTo>
                <a:lnTo>
                  <a:pt x="790" y="1132"/>
                </a:lnTo>
                <a:lnTo>
                  <a:pt x="775" y="1138"/>
                </a:lnTo>
                <a:lnTo>
                  <a:pt x="759" y="1144"/>
                </a:lnTo>
                <a:lnTo>
                  <a:pt x="743" y="1148"/>
                </a:lnTo>
                <a:lnTo>
                  <a:pt x="711" y="1157"/>
                </a:lnTo>
                <a:lnTo>
                  <a:pt x="694" y="1159"/>
                </a:lnTo>
                <a:lnTo>
                  <a:pt x="678" y="1162"/>
                </a:lnTo>
                <a:lnTo>
                  <a:pt x="644" y="1167"/>
                </a:lnTo>
                <a:lnTo>
                  <a:pt x="625" y="1168"/>
                </a:lnTo>
                <a:lnTo>
                  <a:pt x="608" y="1170"/>
                </a:lnTo>
                <a:lnTo>
                  <a:pt x="553" y="1170"/>
                </a:lnTo>
                <a:lnTo>
                  <a:pt x="514" y="1167"/>
                </a:lnTo>
                <a:lnTo>
                  <a:pt x="474" y="1164"/>
                </a:lnTo>
                <a:lnTo>
                  <a:pt x="432" y="1158"/>
                </a:lnTo>
                <a:lnTo>
                  <a:pt x="387" y="1152"/>
                </a:lnTo>
                <a:lnTo>
                  <a:pt x="372" y="1149"/>
                </a:lnTo>
                <a:lnTo>
                  <a:pt x="362" y="1147"/>
                </a:lnTo>
                <a:lnTo>
                  <a:pt x="351" y="1144"/>
                </a:lnTo>
                <a:lnTo>
                  <a:pt x="341" y="1139"/>
                </a:lnTo>
                <a:lnTo>
                  <a:pt x="331" y="1134"/>
                </a:lnTo>
                <a:lnTo>
                  <a:pt x="320" y="1129"/>
                </a:lnTo>
                <a:lnTo>
                  <a:pt x="310" y="1122"/>
                </a:lnTo>
                <a:lnTo>
                  <a:pt x="288" y="1109"/>
                </a:lnTo>
                <a:lnTo>
                  <a:pt x="268" y="1093"/>
                </a:lnTo>
                <a:lnTo>
                  <a:pt x="246" y="1076"/>
                </a:lnTo>
                <a:lnTo>
                  <a:pt x="228" y="1059"/>
                </a:lnTo>
                <a:lnTo>
                  <a:pt x="209" y="1040"/>
                </a:lnTo>
                <a:lnTo>
                  <a:pt x="200" y="1030"/>
                </a:lnTo>
                <a:lnTo>
                  <a:pt x="193" y="1019"/>
                </a:lnTo>
                <a:lnTo>
                  <a:pt x="179" y="998"/>
                </a:lnTo>
                <a:lnTo>
                  <a:pt x="167" y="978"/>
                </a:lnTo>
                <a:lnTo>
                  <a:pt x="163" y="968"/>
                </a:lnTo>
                <a:lnTo>
                  <a:pt x="160" y="958"/>
                </a:lnTo>
                <a:lnTo>
                  <a:pt x="156" y="948"/>
                </a:lnTo>
                <a:lnTo>
                  <a:pt x="154" y="938"/>
                </a:lnTo>
                <a:lnTo>
                  <a:pt x="153" y="928"/>
                </a:lnTo>
                <a:lnTo>
                  <a:pt x="153" y="919"/>
                </a:lnTo>
                <a:lnTo>
                  <a:pt x="154" y="909"/>
                </a:lnTo>
                <a:lnTo>
                  <a:pt x="157" y="901"/>
                </a:lnTo>
                <a:lnTo>
                  <a:pt x="150" y="911"/>
                </a:lnTo>
                <a:lnTo>
                  <a:pt x="144" y="921"/>
                </a:lnTo>
                <a:lnTo>
                  <a:pt x="141" y="932"/>
                </a:lnTo>
                <a:lnTo>
                  <a:pt x="140" y="942"/>
                </a:lnTo>
                <a:lnTo>
                  <a:pt x="138" y="955"/>
                </a:lnTo>
                <a:lnTo>
                  <a:pt x="140" y="967"/>
                </a:lnTo>
                <a:lnTo>
                  <a:pt x="141" y="980"/>
                </a:lnTo>
                <a:lnTo>
                  <a:pt x="144" y="991"/>
                </a:lnTo>
                <a:lnTo>
                  <a:pt x="149" y="1004"/>
                </a:lnTo>
                <a:lnTo>
                  <a:pt x="153" y="1017"/>
                </a:lnTo>
                <a:lnTo>
                  <a:pt x="160" y="1030"/>
                </a:lnTo>
                <a:lnTo>
                  <a:pt x="166" y="1043"/>
                </a:lnTo>
                <a:lnTo>
                  <a:pt x="174" y="1056"/>
                </a:lnTo>
                <a:lnTo>
                  <a:pt x="182" y="1067"/>
                </a:lnTo>
                <a:lnTo>
                  <a:pt x="192" y="1080"/>
                </a:lnTo>
                <a:lnTo>
                  <a:pt x="200" y="1093"/>
                </a:lnTo>
                <a:lnTo>
                  <a:pt x="221" y="1116"/>
                </a:lnTo>
                <a:lnTo>
                  <a:pt x="232" y="1128"/>
                </a:lnTo>
                <a:lnTo>
                  <a:pt x="244" y="1138"/>
                </a:lnTo>
                <a:lnTo>
                  <a:pt x="255" y="1149"/>
                </a:lnTo>
                <a:lnTo>
                  <a:pt x="268" y="1158"/>
                </a:lnTo>
                <a:lnTo>
                  <a:pt x="278" y="1168"/>
                </a:lnTo>
                <a:lnTo>
                  <a:pt x="291" y="1177"/>
                </a:lnTo>
                <a:lnTo>
                  <a:pt x="303" y="1184"/>
                </a:lnTo>
                <a:lnTo>
                  <a:pt x="314" y="1191"/>
                </a:lnTo>
                <a:lnTo>
                  <a:pt x="326" y="1198"/>
                </a:lnTo>
                <a:lnTo>
                  <a:pt x="347" y="1208"/>
                </a:lnTo>
                <a:lnTo>
                  <a:pt x="359" y="1211"/>
                </a:lnTo>
                <a:lnTo>
                  <a:pt x="369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688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30400" y="308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28" y="616"/>
                </a:lnTo>
                <a:lnTo>
                  <a:pt x="33" y="626"/>
                </a:lnTo>
                <a:lnTo>
                  <a:pt x="41" y="637"/>
                </a:lnTo>
                <a:lnTo>
                  <a:pt x="48" y="647"/>
                </a:lnTo>
                <a:lnTo>
                  <a:pt x="56" y="658"/>
                </a:lnTo>
                <a:lnTo>
                  <a:pt x="74" y="676"/>
                </a:lnTo>
                <a:lnTo>
                  <a:pt x="92" y="694"/>
                </a:lnTo>
                <a:lnTo>
                  <a:pt x="113" y="711"/>
                </a:lnTo>
                <a:lnTo>
                  <a:pt x="133" y="725"/>
                </a:lnTo>
                <a:lnTo>
                  <a:pt x="153" y="740"/>
                </a:lnTo>
                <a:lnTo>
                  <a:pt x="192" y="767"/>
                </a:lnTo>
                <a:lnTo>
                  <a:pt x="225" y="790"/>
                </a:lnTo>
                <a:lnTo>
                  <a:pt x="239" y="800"/>
                </a:lnTo>
                <a:lnTo>
                  <a:pt x="251" y="810"/>
                </a:lnTo>
                <a:lnTo>
                  <a:pt x="255" y="814"/>
                </a:lnTo>
                <a:lnTo>
                  <a:pt x="258" y="819"/>
                </a:lnTo>
                <a:lnTo>
                  <a:pt x="261" y="823"/>
                </a:lnTo>
                <a:lnTo>
                  <a:pt x="262" y="826"/>
                </a:lnTo>
                <a:lnTo>
                  <a:pt x="278" y="820"/>
                </a:lnTo>
                <a:lnTo>
                  <a:pt x="285" y="816"/>
                </a:lnTo>
                <a:lnTo>
                  <a:pt x="291" y="813"/>
                </a:lnTo>
                <a:lnTo>
                  <a:pt x="294" y="810"/>
                </a:lnTo>
                <a:lnTo>
                  <a:pt x="295" y="806"/>
                </a:lnTo>
                <a:lnTo>
                  <a:pt x="295" y="801"/>
                </a:lnTo>
                <a:lnTo>
                  <a:pt x="295" y="797"/>
                </a:lnTo>
                <a:lnTo>
                  <a:pt x="292" y="793"/>
                </a:lnTo>
                <a:lnTo>
                  <a:pt x="288" y="788"/>
                </a:lnTo>
                <a:lnTo>
                  <a:pt x="278" y="778"/>
                </a:lnTo>
                <a:lnTo>
                  <a:pt x="264" y="767"/>
                </a:lnTo>
                <a:lnTo>
                  <a:pt x="245" y="755"/>
                </a:lnTo>
                <a:lnTo>
                  <a:pt x="225" y="741"/>
                </a:lnTo>
                <a:lnTo>
                  <a:pt x="203" y="727"/>
                </a:lnTo>
                <a:lnTo>
                  <a:pt x="180" y="711"/>
                </a:lnTo>
                <a:lnTo>
                  <a:pt x="136" y="675"/>
                </a:lnTo>
                <a:lnTo>
                  <a:pt x="115" y="655"/>
                </a:lnTo>
                <a:lnTo>
                  <a:pt x="107" y="645"/>
                </a:lnTo>
                <a:lnTo>
                  <a:pt x="97" y="633"/>
                </a:lnTo>
                <a:lnTo>
                  <a:pt x="88" y="622"/>
                </a:lnTo>
                <a:lnTo>
                  <a:pt x="75" y="599"/>
                </a:lnTo>
                <a:lnTo>
                  <a:pt x="68" y="586"/>
                </a:lnTo>
                <a:lnTo>
                  <a:pt x="61" y="563"/>
                </a:lnTo>
                <a:lnTo>
                  <a:pt x="56" y="540"/>
                </a:lnTo>
                <a:lnTo>
                  <a:pt x="54" y="518"/>
                </a:lnTo>
                <a:lnTo>
                  <a:pt x="54" y="498"/>
                </a:lnTo>
                <a:lnTo>
                  <a:pt x="56" y="479"/>
                </a:lnTo>
                <a:lnTo>
                  <a:pt x="62" y="461"/>
                </a:lnTo>
                <a:lnTo>
                  <a:pt x="69" y="443"/>
                </a:lnTo>
                <a:lnTo>
                  <a:pt x="79" y="427"/>
                </a:lnTo>
                <a:lnTo>
                  <a:pt x="90" y="412"/>
                </a:lnTo>
                <a:lnTo>
                  <a:pt x="104" y="399"/>
                </a:lnTo>
                <a:lnTo>
                  <a:pt x="118" y="386"/>
                </a:lnTo>
                <a:lnTo>
                  <a:pt x="136" y="374"/>
                </a:lnTo>
                <a:lnTo>
                  <a:pt x="153" y="363"/>
                </a:lnTo>
                <a:lnTo>
                  <a:pt x="172" y="353"/>
                </a:lnTo>
                <a:lnTo>
                  <a:pt x="193" y="344"/>
                </a:lnTo>
                <a:lnTo>
                  <a:pt x="215" y="335"/>
                </a:lnTo>
                <a:lnTo>
                  <a:pt x="236" y="330"/>
                </a:lnTo>
                <a:lnTo>
                  <a:pt x="259" y="324"/>
                </a:lnTo>
                <a:lnTo>
                  <a:pt x="282" y="318"/>
                </a:lnTo>
                <a:lnTo>
                  <a:pt x="307" y="314"/>
                </a:lnTo>
                <a:lnTo>
                  <a:pt x="354" y="308"/>
                </a:lnTo>
                <a:lnTo>
                  <a:pt x="379" y="308"/>
                </a:lnTo>
                <a:lnTo>
                  <a:pt x="403" y="307"/>
                </a:lnTo>
                <a:lnTo>
                  <a:pt x="428" y="308"/>
                </a:lnTo>
                <a:lnTo>
                  <a:pt x="451" y="310"/>
                </a:lnTo>
                <a:lnTo>
                  <a:pt x="474" y="312"/>
                </a:lnTo>
                <a:lnTo>
                  <a:pt x="495" y="315"/>
                </a:lnTo>
                <a:lnTo>
                  <a:pt x="517" y="320"/>
                </a:lnTo>
                <a:lnTo>
                  <a:pt x="537" y="325"/>
                </a:lnTo>
                <a:lnTo>
                  <a:pt x="557" y="333"/>
                </a:lnTo>
                <a:lnTo>
                  <a:pt x="575" y="338"/>
                </a:lnTo>
                <a:lnTo>
                  <a:pt x="576" y="312"/>
                </a:lnTo>
                <a:lnTo>
                  <a:pt x="579" y="287"/>
                </a:lnTo>
                <a:lnTo>
                  <a:pt x="583" y="262"/>
                </a:lnTo>
                <a:lnTo>
                  <a:pt x="590" y="238"/>
                </a:lnTo>
                <a:lnTo>
                  <a:pt x="598" y="215"/>
                </a:lnTo>
                <a:lnTo>
                  <a:pt x="608" y="193"/>
                </a:lnTo>
                <a:lnTo>
                  <a:pt x="619" y="173"/>
                </a:lnTo>
                <a:lnTo>
                  <a:pt x="632" y="154"/>
                </a:lnTo>
                <a:lnTo>
                  <a:pt x="646" y="136"/>
                </a:lnTo>
                <a:lnTo>
                  <a:pt x="661" y="118"/>
                </a:lnTo>
                <a:lnTo>
                  <a:pt x="677" y="104"/>
                </a:lnTo>
                <a:lnTo>
                  <a:pt x="695" y="89"/>
                </a:lnTo>
                <a:lnTo>
                  <a:pt x="713" y="78"/>
                </a:lnTo>
                <a:lnTo>
                  <a:pt x="731" y="68"/>
                </a:lnTo>
                <a:lnTo>
                  <a:pt x="752" y="58"/>
                </a:lnTo>
                <a:lnTo>
                  <a:pt x="772" y="51"/>
                </a:lnTo>
                <a:lnTo>
                  <a:pt x="793" y="45"/>
                </a:lnTo>
                <a:lnTo>
                  <a:pt x="815" y="41"/>
                </a:lnTo>
                <a:lnTo>
                  <a:pt x="836" y="38"/>
                </a:lnTo>
                <a:lnTo>
                  <a:pt x="859" y="38"/>
                </a:lnTo>
                <a:lnTo>
                  <a:pt x="881" y="39"/>
                </a:lnTo>
                <a:lnTo>
                  <a:pt x="904" y="42"/>
                </a:lnTo>
                <a:lnTo>
                  <a:pt x="927" y="49"/>
                </a:lnTo>
                <a:lnTo>
                  <a:pt x="949" y="56"/>
                </a:lnTo>
                <a:lnTo>
                  <a:pt x="972" y="65"/>
                </a:lnTo>
                <a:lnTo>
                  <a:pt x="995" y="78"/>
                </a:lnTo>
                <a:lnTo>
                  <a:pt x="1016" y="91"/>
                </a:lnTo>
                <a:lnTo>
                  <a:pt x="1038" y="108"/>
                </a:lnTo>
                <a:lnTo>
                  <a:pt x="1058" y="127"/>
                </a:lnTo>
                <a:lnTo>
                  <a:pt x="1080" y="148"/>
                </a:lnTo>
                <a:lnTo>
                  <a:pt x="1098" y="171"/>
                </a:lnTo>
                <a:lnTo>
                  <a:pt x="1118" y="196"/>
                </a:lnTo>
                <a:lnTo>
                  <a:pt x="1120" y="197"/>
                </a:lnTo>
                <a:lnTo>
                  <a:pt x="1126" y="196"/>
                </a:lnTo>
                <a:lnTo>
                  <a:pt x="1133" y="194"/>
                </a:lnTo>
                <a:lnTo>
                  <a:pt x="1143" y="192"/>
                </a:lnTo>
                <a:lnTo>
                  <a:pt x="1169" y="183"/>
                </a:lnTo>
                <a:lnTo>
                  <a:pt x="1200" y="173"/>
                </a:lnTo>
                <a:lnTo>
                  <a:pt x="1219" y="167"/>
                </a:lnTo>
                <a:lnTo>
                  <a:pt x="1238" y="163"/>
                </a:lnTo>
                <a:lnTo>
                  <a:pt x="1278" y="154"/>
                </a:lnTo>
                <a:lnTo>
                  <a:pt x="1300" y="150"/>
                </a:lnTo>
                <a:lnTo>
                  <a:pt x="1321" y="148"/>
                </a:lnTo>
                <a:lnTo>
                  <a:pt x="1366" y="146"/>
                </a:lnTo>
                <a:lnTo>
                  <a:pt x="1389" y="148"/>
                </a:lnTo>
                <a:lnTo>
                  <a:pt x="1409" y="151"/>
                </a:lnTo>
                <a:lnTo>
                  <a:pt x="1431" y="156"/>
                </a:lnTo>
                <a:lnTo>
                  <a:pt x="1452" y="163"/>
                </a:lnTo>
                <a:lnTo>
                  <a:pt x="1471" y="171"/>
                </a:lnTo>
                <a:lnTo>
                  <a:pt x="1490" y="184"/>
                </a:lnTo>
                <a:lnTo>
                  <a:pt x="1508" y="197"/>
                </a:lnTo>
                <a:lnTo>
                  <a:pt x="1524" y="215"/>
                </a:lnTo>
                <a:lnTo>
                  <a:pt x="1539" y="235"/>
                </a:lnTo>
                <a:lnTo>
                  <a:pt x="1553" y="258"/>
                </a:lnTo>
                <a:lnTo>
                  <a:pt x="1565" y="285"/>
                </a:lnTo>
                <a:lnTo>
                  <a:pt x="1573" y="315"/>
                </a:lnTo>
                <a:lnTo>
                  <a:pt x="1580" y="348"/>
                </a:lnTo>
                <a:lnTo>
                  <a:pt x="1585" y="386"/>
                </a:lnTo>
                <a:lnTo>
                  <a:pt x="1588" y="427"/>
                </a:lnTo>
                <a:lnTo>
                  <a:pt x="1586" y="473"/>
                </a:lnTo>
                <a:lnTo>
                  <a:pt x="1588" y="476"/>
                </a:lnTo>
                <a:lnTo>
                  <a:pt x="1589" y="479"/>
                </a:lnTo>
                <a:lnTo>
                  <a:pt x="1595" y="482"/>
                </a:lnTo>
                <a:lnTo>
                  <a:pt x="1601" y="486"/>
                </a:lnTo>
                <a:lnTo>
                  <a:pt x="1616" y="496"/>
                </a:lnTo>
                <a:lnTo>
                  <a:pt x="1639" y="508"/>
                </a:lnTo>
                <a:lnTo>
                  <a:pt x="1665" y="524"/>
                </a:lnTo>
                <a:lnTo>
                  <a:pt x="1693" y="541"/>
                </a:lnTo>
                <a:lnTo>
                  <a:pt x="1724" y="560"/>
                </a:lnTo>
                <a:lnTo>
                  <a:pt x="1756" y="581"/>
                </a:lnTo>
                <a:lnTo>
                  <a:pt x="1772" y="593"/>
                </a:lnTo>
                <a:lnTo>
                  <a:pt x="1788" y="604"/>
                </a:lnTo>
                <a:lnTo>
                  <a:pt x="1818" y="630"/>
                </a:lnTo>
                <a:lnTo>
                  <a:pt x="1832" y="645"/>
                </a:lnTo>
                <a:lnTo>
                  <a:pt x="1847" y="658"/>
                </a:lnTo>
                <a:lnTo>
                  <a:pt x="1861" y="672"/>
                </a:lnTo>
                <a:lnTo>
                  <a:pt x="1872" y="688"/>
                </a:lnTo>
                <a:lnTo>
                  <a:pt x="1884" y="702"/>
                </a:lnTo>
                <a:lnTo>
                  <a:pt x="1894" y="718"/>
                </a:lnTo>
                <a:lnTo>
                  <a:pt x="1903" y="734"/>
                </a:lnTo>
                <a:lnTo>
                  <a:pt x="1911" y="751"/>
                </a:lnTo>
                <a:lnTo>
                  <a:pt x="1917" y="767"/>
                </a:lnTo>
                <a:lnTo>
                  <a:pt x="1921" y="784"/>
                </a:lnTo>
                <a:lnTo>
                  <a:pt x="1924" y="801"/>
                </a:lnTo>
                <a:lnTo>
                  <a:pt x="1926" y="820"/>
                </a:lnTo>
                <a:lnTo>
                  <a:pt x="1924" y="846"/>
                </a:lnTo>
                <a:lnTo>
                  <a:pt x="1921" y="870"/>
                </a:lnTo>
                <a:lnTo>
                  <a:pt x="1919" y="895"/>
                </a:lnTo>
                <a:lnTo>
                  <a:pt x="1913" y="918"/>
                </a:lnTo>
                <a:lnTo>
                  <a:pt x="1906" y="941"/>
                </a:lnTo>
                <a:lnTo>
                  <a:pt x="1897" y="961"/>
                </a:lnTo>
                <a:lnTo>
                  <a:pt x="1888" y="980"/>
                </a:lnTo>
                <a:lnTo>
                  <a:pt x="1877" y="998"/>
                </a:lnTo>
                <a:lnTo>
                  <a:pt x="1864" y="1016"/>
                </a:lnTo>
                <a:lnTo>
                  <a:pt x="1852" y="1031"/>
                </a:lnTo>
                <a:lnTo>
                  <a:pt x="1837" y="1047"/>
                </a:lnTo>
                <a:lnTo>
                  <a:pt x="1822" y="1062"/>
                </a:lnTo>
                <a:lnTo>
                  <a:pt x="1805" y="1075"/>
                </a:lnTo>
                <a:lnTo>
                  <a:pt x="1789" y="1086"/>
                </a:lnTo>
                <a:lnTo>
                  <a:pt x="1770" y="1098"/>
                </a:lnTo>
                <a:lnTo>
                  <a:pt x="1753" y="1108"/>
                </a:lnTo>
                <a:lnTo>
                  <a:pt x="1733" y="1118"/>
                </a:lnTo>
                <a:lnTo>
                  <a:pt x="1713" y="1126"/>
                </a:lnTo>
                <a:lnTo>
                  <a:pt x="1693" y="1135"/>
                </a:lnTo>
                <a:lnTo>
                  <a:pt x="1672" y="1142"/>
                </a:lnTo>
                <a:lnTo>
                  <a:pt x="1651" y="1148"/>
                </a:lnTo>
                <a:lnTo>
                  <a:pt x="1629" y="1152"/>
                </a:lnTo>
                <a:lnTo>
                  <a:pt x="1606" y="1158"/>
                </a:lnTo>
                <a:lnTo>
                  <a:pt x="1585" y="1162"/>
                </a:lnTo>
                <a:lnTo>
                  <a:pt x="1562" y="1165"/>
                </a:lnTo>
                <a:lnTo>
                  <a:pt x="1540" y="1168"/>
                </a:lnTo>
                <a:lnTo>
                  <a:pt x="1495" y="1171"/>
                </a:lnTo>
                <a:lnTo>
                  <a:pt x="1474" y="1171"/>
                </a:lnTo>
                <a:lnTo>
                  <a:pt x="1451" y="1172"/>
                </a:lnTo>
                <a:lnTo>
                  <a:pt x="1429" y="1171"/>
                </a:lnTo>
                <a:lnTo>
                  <a:pt x="1408" y="1171"/>
                </a:lnTo>
                <a:lnTo>
                  <a:pt x="1395" y="1170"/>
                </a:lnTo>
                <a:lnTo>
                  <a:pt x="1382" y="1168"/>
                </a:lnTo>
                <a:lnTo>
                  <a:pt x="1353" y="1161"/>
                </a:lnTo>
                <a:lnTo>
                  <a:pt x="1321" y="1152"/>
                </a:lnTo>
                <a:lnTo>
                  <a:pt x="1287" y="1139"/>
                </a:lnTo>
                <a:lnTo>
                  <a:pt x="1212" y="1112"/>
                </a:lnTo>
                <a:lnTo>
                  <a:pt x="1136" y="1082"/>
                </a:lnTo>
                <a:lnTo>
                  <a:pt x="1098" y="1067"/>
                </a:lnTo>
                <a:lnTo>
                  <a:pt x="1064" y="1054"/>
                </a:lnTo>
                <a:lnTo>
                  <a:pt x="1031" y="1044"/>
                </a:lnTo>
                <a:lnTo>
                  <a:pt x="999" y="1034"/>
                </a:lnTo>
                <a:lnTo>
                  <a:pt x="986" y="1031"/>
                </a:lnTo>
                <a:lnTo>
                  <a:pt x="973" y="1029"/>
                </a:lnTo>
                <a:lnTo>
                  <a:pt x="962" y="1027"/>
                </a:lnTo>
                <a:lnTo>
                  <a:pt x="950" y="1027"/>
                </a:lnTo>
                <a:lnTo>
                  <a:pt x="940" y="1027"/>
                </a:lnTo>
                <a:lnTo>
                  <a:pt x="933" y="1029"/>
                </a:lnTo>
                <a:lnTo>
                  <a:pt x="926" y="1031"/>
                </a:lnTo>
                <a:lnTo>
                  <a:pt x="920" y="1036"/>
                </a:lnTo>
                <a:lnTo>
                  <a:pt x="907" y="1049"/>
                </a:lnTo>
                <a:lnTo>
                  <a:pt x="878" y="1073"/>
                </a:lnTo>
                <a:lnTo>
                  <a:pt x="864" y="1085"/>
                </a:lnTo>
                <a:lnTo>
                  <a:pt x="851" y="1095"/>
                </a:lnTo>
                <a:lnTo>
                  <a:pt x="836" y="1105"/>
                </a:lnTo>
                <a:lnTo>
                  <a:pt x="822" y="1113"/>
                </a:lnTo>
                <a:lnTo>
                  <a:pt x="793" y="1129"/>
                </a:lnTo>
                <a:lnTo>
                  <a:pt x="779" y="1138"/>
                </a:lnTo>
                <a:lnTo>
                  <a:pt x="764" y="1144"/>
                </a:lnTo>
                <a:lnTo>
                  <a:pt x="750" y="1149"/>
                </a:lnTo>
                <a:lnTo>
                  <a:pt x="734" y="1154"/>
                </a:lnTo>
                <a:lnTo>
                  <a:pt x="704" y="1162"/>
                </a:lnTo>
                <a:lnTo>
                  <a:pt x="688" y="1167"/>
                </a:lnTo>
                <a:lnTo>
                  <a:pt x="674" y="1170"/>
                </a:lnTo>
                <a:lnTo>
                  <a:pt x="657" y="1171"/>
                </a:lnTo>
                <a:lnTo>
                  <a:pt x="625" y="1175"/>
                </a:lnTo>
                <a:lnTo>
                  <a:pt x="608" y="1175"/>
                </a:lnTo>
                <a:lnTo>
                  <a:pt x="556" y="1175"/>
                </a:lnTo>
                <a:lnTo>
                  <a:pt x="520" y="1174"/>
                </a:lnTo>
                <a:lnTo>
                  <a:pt x="482" y="1170"/>
                </a:lnTo>
                <a:lnTo>
                  <a:pt x="444" y="1165"/>
                </a:lnTo>
                <a:lnTo>
                  <a:pt x="402" y="1158"/>
                </a:lnTo>
                <a:lnTo>
                  <a:pt x="393" y="1157"/>
                </a:lnTo>
                <a:lnTo>
                  <a:pt x="383" y="1154"/>
                </a:lnTo>
                <a:lnTo>
                  <a:pt x="374" y="1151"/>
                </a:lnTo>
                <a:lnTo>
                  <a:pt x="364" y="1147"/>
                </a:lnTo>
                <a:lnTo>
                  <a:pt x="354" y="1142"/>
                </a:lnTo>
                <a:lnTo>
                  <a:pt x="343" y="1135"/>
                </a:lnTo>
                <a:lnTo>
                  <a:pt x="333" y="1129"/>
                </a:lnTo>
                <a:lnTo>
                  <a:pt x="310" y="1113"/>
                </a:lnTo>
                <a:lnTo>
                  <a:pt x="300" y="1106"/>
                </a:lnTo>
                <a:lnTo>
                  <a:pt x="288" y="1096"/>
                </a:lnTo>
                <a:lnTo>
                  <a:pt x="278" y="1086"/>
                </a:lnTo>
                <a:lnTo>
                  <a:pt x="268" y="1077"/>
                </a:lnTo>
                <a:lnTo>
                  <a:pt x="256" y="1066"/>
                </a:lnTo>
                <a:lnTo>
                  <a:pt x="248" y="1056"/>
                </a:lnTo>
                <a:lnTo>
                  <a:pt x="238" y="1044"/>
                </a:lnTo>
                <a:lnTo>
                  <a:pt x="229" y="1034"/>
                </a:lnTo>
                <a:lnTo>
                  <a:pt x="221" y="1021"/>
                </a:lnTo>
                <a:lnTo>
                  <a:pt x="213" y="1010"/>
                </a:lnTo>
                <a:lnTo>
                  <a:pt x="200" y="987"/>
                </a:lnTo>
                <a:lnTo>
                  <a:pt x="195" y="975"/>
                </a:lnTo>
                <a:lnTo>
                  <a:pt x="186" y="951"/>
                </a:lnTo>
                <a:lnTo>
                  <a:pt x="183" y="941"/>
                </a:lnTo>
                <a:lnTo>
                  <a:pt x="182" y="928"/>
                </a:lnTo>
                <a:lnTo>
                  <a:pt x="182" y="918"/>
                </a:lnTo>
                <a:lnTo>
                  <a:pt x="183" y="906"/>
                </a:lnTo>
                <a:lnTo>
                  <a:pt x="185" y="896"/>
                </a:lnTo>
                <a:lnTo>
                  <a:pt x="187" y="886"/>
                </a:lnTo>
                <a:lnTo>
                  <a:pt x="192" y="876"/>
                </a:lnTo>
                <a:lnTo>
                  <a:pt x="197" y="866"/>
                </a:lnTo>
                <a:lnTo>
                  <a:pt x="183" y="875"/>
                </a:lnTo>
                <a:lnTo>
                  <a:pt x="172" y="885"/>
                </a:lnTo>
                <a:lnTo>
                  <a:pt x="162" y="895"/>
                </a:lnTo>
                <a:lnTo>
                  <a:pt x="153" y="906"/>
                </a:lnTo>
                <a:lnTo>
                  <a:pt x="147" y="918"/>
                </a:lnTo>
                <a:lnTo>
                  <a:pt x="143" y="931"/>
                </a:lnTo>
                <a:lnTo>
                  <a:pt x="140" y="942"/>
                </a:lnTo>
                <a:lnTo>
                  <a:pt x="138" y="957"/>
                </a:lnTo>
                <a:lnTo>
                  <a:pt x="140" y="970"/>
                </a:lnTo>
                <a:lnTo>
                  <a:pt x="143" y="984"/>
                </a:lnTo>
                <a:lnTo>
                  <a:pt x="146" y="998"/>
                </a:lnTo>
                <a:lnTo>
                  <a:pt x="151" y="1013"/>
                </a:lnTo>
                <a:lnTo>
                  <a:pt x="157" y="1027"/>
                </a:lnTo>
                <a:lnTo>
                  <a:pt x="164" y="1040"/>
                </a:lnTo>
                <a:lnTo>
                  <a:pt x="173" y="1054"/>
                </a:lnTo>
                <a:lnTo>
                  <a:pt x="183" y="1069"/>
                </a:lnTo>
                <a:lnTo>
                  <a:pt x="193" y="1083"/>
                </a:lnTo>
                <a:lnTo>
                  <a:pt x="205" y="1098"/>
                </a:lnTo>
                <a:lnTo>
                  <a:pt x="215" y="1109"/>
                </a:lnTo>
                <a:lnTo>
                  <a:pt x="239" y="1135"/>
                </a:lnTo>
                <a:lnTo>
                  <a:pt x="252" y="1147"/>
                </a:lnTo>
                <a:lnTo>
                  <a:pt x="265" y="1158"/>
                </a:lnTo>
                <a:lnTo>
                  <a:pt x="280" y="1168"/>
                </a:lnTo>
                <a:lnTo>
                  <a:pt x="292" y="1178"/>
                </a:lnTo>
                <a:lnTo>
                  <a:pt x="305" y="1187"/>
                </a:lnTo>
                <a:lnTo>
                  <a:pt x="318" y="1194"/>
                </a:lnTo>
                <a:lnTo>
                  <a:pt x="344" y="1207"/>
                </a:lnTo>
                <a:lnTo>
                  <a:pt x="356" y="1211"/>
                </a:lnTo>
                <a:lnTo>
                  <a:pt x="367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7da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570040" y="3083040"/>
            <a:ext cx="1076400" cy="637920"/>
            <a:chOff x="2570040" y="3083040"/>
            <a:chExt cx="1076400" cy="637920"/>
          </a:xfrm>
        </p:grpSpPr>
        <p:sp>
          <p:nvSpPr>
            <p:cNvPr id="532" name=""/>
            <p:cNvSpPr/>
            <p:nvPr/>
          </p:nvSpPr>
          <p:spPr>
            <a:xfrm>
              <a:off x="2570040" y="3083040"/>
              <a:ext cx="1071720" cy="637920"/>
            </a:xfrm>
            <a:custGeom>
              <a:avLst/>
              <a:gdLst/>
              <a:ahLst/>
              <a:rect l="l" t="t" r="r" b="b"/>
              <a:pathLst>
                <a:path w="2024" h="1206">
                  <a:moveTo>
                    <a:pt x="457" y="107"/>
                  </a:moveTo>
                  <a:lnTo>
                    <a:pt x="468" y="100"/>
                  </a:lnTo>
                  <a:lnTo>
                    <a:pt x="480" y="94"/>
                  </a:lnTo>
                  <a:lnTo>
                    <a:pt x="494" y="88"/>
                  </a:lnTo>
                  <a:lnTo>
                    <a:pt x="509" y="83"/>
                  </a:lnTo>
                  <a:lnTo>
                    <a:pt x="526" y="77"/>
                  </a:lnTo>
                  <a:lnTo>
                    <a:pt x="545" y="70"/>
                  </a:lnTo>
                  <a:lnTo>
                    <a:pt x="563" y="64"/>
                  </a:lnTo>
                  <a:lnTo>
                    <a:pt x="585" y="58"/>
                  </a:lnTo>
                  <a:lnTo>
                    <a:pt x="628" y="47"/>
                  </a:lnTo>
                  <a:lnTo>
                    <a:pt x="676" y="36"/>
                  </a:lnTo>
                  <a:lnTo>
                    <a:pt x="723" y="26"/>
                  </a:lnTo>
                  <a:lnTo>
                    <a:pt x="774" y="18"/>
                  </a:lnTo>
                  <a:lnTo>
                    <a:pt x="824" y="10"/>
                  </a:lnTo>
                  <a:lnTo>
                    <a:pt x="873" y="6"/>
                  </a:lnTo>
                  <a:lnTo>
                    <a:pt x="897" y="3"/>
                  </a:lnTo>
                  <a:lnTo>
                    <a:pt x="921" y="2"/>
                  </a:lnTo>
                  <a:lnTo>
                    <a:pt x="945" y="0"/>
                  </a:lnTo>
                  <a:lnTo>
                    <a:pt x="988" y="0"/>
                  </a:lnTo>
                  <a:lnTo>
                    <a:pt x="1008" y="2"/>
                  </a:lnTo>
                  <a:lnTo>
                    <a:pt x="1029" y="3"/>
                  </a:lnTo>
                  <a:lnTo>
                    <a:pt x="1047" y="5"/>
                  </a:lnTo>
                  <a:lnTo>
                    <a:pt x="1063" y="8"/>
                  </a:lnTo>
                  <a:lnTo>
                    <a:pt x="1079" y="10"/>
                  </a:lnTo>
                  <a:lnTo>
                    <a:pt x="1093" y="15"/>
                  </a:lnTo>
                  <a:lnTo>
                    <a:pt x="1106" y="21"/>
                  </a:lnTo>
                  <a:lnTo>
                    <a:pt x="1170" y="52"/>
                  </a:lnTo>
                  <a:lnTo>
                    <a:pt x="1224" y="78"/>
                  </a:lnTo>
                  <a:lnTo>
                    <a:pt x="1250" y="88"/>
                  </a:lnTo>
                  <a:lnTo>
                    <a:pt x="1273" y="98"/>
                  </a:lnTo>
                  <a:lnTo>
                    <a:pt x="1298" y="106"/>
                  </a:lnTo>
                  <a:lnTo>
                    <a:pt x="1322" y="113"/>
                  </a:lnTo>
                  <a:lnTo>
                    <a:pt x="1347" y="120"/>
                  </a:lnTo>
                  <a:lnTo>
                    <a:pt x="1373" y="124"/>
                  </a:lnTo>
                  <a:lnTo>
                    <a:pt x="1401" y="129"/>
                  </a:lnTo>
                  <a:lnTo>
                    <a:pt x="1432" y="132"/>
                  </a:lnTo>
                  <a:lnTo>
                    <a:pt x="1465" y="133"/>
                  </a:lnTo>
                  <a:lnTo>
                    <a:pt x="1502" y="134"/>
                  </a:lnTo>
                  <a:lnTo>
                    <a:pt x="1543" y="136"/>
                  </a:lnTo>
                  <a:lnTo>
                    <a:pt x="1587" y="136"/>
                  </a:lnTo>
                  <a:lnTo>
                    <a:pt x="1615" y="137"/>
                  </a:lnTo>
                  <a:lnTo>
                    <a:pt x="1642" y="140"/>
                  </a:lnTo>
                  <a:lnTo>
                    <a:pt x="1669" y="147"/>
                  </a:lnTo>
                  <a:lnTo>
                    <a:pt x="1695" y="158"/>
                  </a:lnTo>
                  <a:lnTo>
                    <a:pt x="1720" y="169"/>
                  </a:lnTo>
                  <a:lnTo>
                    <a:pt x="1744" y="182"/>
                  </a:lnTo>
                  <a:lnTo>
                    <a:pt x="1769" y="198"/>
                  </a:lnTo>
                  <a:lnTo>
                    <a:pt x="1792" y="215"/>
                  </a:lnTo>
                  <a:lnTo>
                    <a:pt x="1815" y="234"/>
                  </a:lnTo>
                  <a:lnTo>
                    <a:pt x="1836" y="256"/>
                  </a:lnTo>
                  <a:lnTo>
                    <a:pt x="1857" y="279"/>
                  </a:lnTo>
                  <a:lnTo>
                    <a:pt x="1877" y="302"/>
                  </a:lnTo>
                  <a:lnTo>
                    <a:pt x="1895" y="328"/>
                  </a:lnTo>
                  <a:lnTo>
                    <a:pt x="1913" y="354"/>
                  </a:lnTo>
                  <a:lnTo>
                    <a:pt x="1930" y="380"/>
                  </a:lnTo>
                  <a:lnTo>
                    <a:pt x="1946" y="408"/>
                  </a:lnTo>
                  <a:lnTo>
                    <a:pt x="1960" y="437"/>
                  </a:lnTo>
                  <a:lnTo>
                    <a:pt x="1972" y="467"/>
                  </a:lnTo>
                  <a:lnTo>
                    <a:pt x="1983" y="496"/>
                  </a:lnTo>
                  <a:lnTo>
                    <a:pt x="1995" y="527"/>
                  </a:lnTo>
                  <a:lnTo>
                    <a:pt x="2003" y="558"/>
                  </a:lnTo>
                  <a:lnTo>
                    <a:pt x="2011" y="589"/>
                  </a:lnTo>
                  <a:lnTo>
                    <a:pt x="2016" y="619"/>
                  </a:lnTo>
                  <a:lnTo>
                    <a:pt x="2021" y="649"/>
                  </a:lnTo>
                  <a:lnTo>
                    <a:pt x="2024" y="679"/>
                  </a:lnTo>
                  <a:lnTo>
                    <a:pt x="2024" y="710"/>
                  </a:lnTo>
                  <a:lnTo>
                    <a:pt x="2024" y="739"/>
                  </a:lnTo>
                  <a:lnTo>
                    <a:pt x="2021" y="766"/>
                  </a:lnTo>
                  <a:lnTo>
                    <a:pt x="2016" y="795"/>
                  </a:lnTo>
                  <a:lnTo>
                    <a:pt x="2009" y="821"/>
                  </a:lnTo>
                  <a:lnTo>
                    <a:pt x="2001" y="847"/>
                  </a:lnTo>
                  <a:lnTo>
                    <a:pt x="1990" y="871"/>
                  </a:lnTo>
                  <a:lnTo>
                    <a:pt x="1983" y="883"/>
                  </a:lnTo>
                  <a:lnTo>
                    <a:pt x="1975" y="896"/>
                  </a:lnTo>
                  <a:lnTo>
                    <a:pt x="1966" y="906"/>
                  </a:lnTo>
                  <a:lnTo>
                    <a:pt x="1956" y="917"/>
                  </a:lnTo>
                  <a:lnTo>
                    <a:pt x="1946" y="926"/>
                  </a:lnTo>
                  <a:lnTo>
                    <a:pt x="1923" y="942"/>
                  </a:lnTo>
                  <a:lnTo>
                    <a:pt x="1910" y="949"/>
                  </a:lnTo>
                  <a:lnTo>
                    <a:pt x="1898" y="956"/>
                  </a:lnTo>
                  <a:lnTo>
                    <a:pt x="1884" y="961"/>
                  </a:lnTo>
                  <a:lnTo>
                    <a:pt x="1871" y="966"/>
                  </a:lnTo>
                  <a:lnTo>
                    <a:pt x="1857" y="971"/>
                  </a:lnTo>
                  <a:lnTo>
                    <a:pt x="1842" y="974"/>
                  </a:lnTo>
                  <a:lnTo>
                    <a:pt x="1828" y="978"/>
                  </a:lnTo>
                  <a:lnTo>
                    <a:pt x="1812" y="979"/>
                  </a:lnTo>
                  <a:lnTo>
                    <a:pt x="1796" y="982"/>
                  </a:lnTo>
                  <a:lnTo>
                    <a:pt x="1764" y="985"/>
                  </a:lnTo>
                  <a:lnTo>
                    <a:pt x="1733" y="986"/>
                  </a:lnTo>
                  <a:lnTo>
                    <a:pt x="1702" y="988"/>
                  </a:lnTo>
                  <a:lnTo>
                    <a:pt x="1671" y="988"/>
                  </a:lnTo>
                  <a:lnTo>
                    <a:pt x="1612" y="986"/>
                  </a:lnTo>
                  <a:lnTo>
                    <a:pt x="1558" y="986"/>
                  </a:lnTo>
                  <a:lnTo>
                    <a:pt x="1537" y="986"/>
                  </a:lnTo>
                  <a:lnTo>
                    <a:pt x="1515" y="989"/>
                  </a:lnTo>
                  <a:lnTo>
                    <a:pt x="1495" y="992"/>
                  </a:lnTo>
                  <a:lnTo>
                    <a:pt x="1473" y="997"/>
                  </a:lnTo>
                  <a:lnTo>
                    <a:pt x="1453" y="1004"/>
                  </a:lnTo>
                  <a:lnTo>
                    <a:pt x="1432" y="1011"/>
                  </a:lnTo>
                  <a:lnTo>
                    <a:pt x="1412" y="1018"/>
                  </a:lnTo>
                  <a:lnTo>
                    <a:pt x="1390" y="1027"/>
                  </a:lnTo>
                  <a:lnTo>
                    <a:pt x="1348" y="1047"/>
                  </a:lnTo>
                  <a:lnTo>
                    <a:pt x="1305" y="1069"/>
                  </a:lnTo>
                  <a:lnTo>
                    <a:pt x="1262" y="1092"/>
                  </a:lnTo>
                  <a:lnTo>
                    <a:pt x="1217" y="1115"/>
                  </a:lnTo>
                  <a:lnTo>
                    <a:pt x="1196" y="1126"/>
                  </a:lnTo>
                  <a:lnTo>
                    <a:pt x="1173" y="1136"/>
                  </a:lnTo>
                  <a:lnTo>
                    <a:pt x="1148" y="1147"/>
                  </a:lnTo>
                  <a:lnTo>
                    <a:pt x="1125" y="1158"/>
                  </a:lnTo>
                  <a:lnTo>
                    <a:pt x="1101" y="1167"/>
                  </a:lnTo>
                  <a:lnTo>
                    <a:pt x="1076" y="1175"/>
                  </a:lnTo>
                  <a:lnTo>
                    <a:pt x="1052" y="1183"/>
                  </a:lnTo>
                  <a:lnTo>
                    <a:pt x="1026" y="1190"/>
                  </a:lnTo>
                  <a:lnTo>
                    <a:pt x="1000" y="1196"/>
                  </a:lnTo>
                  <a:lnTo>
                    <a:pt x="972" y="1200"/>
                  </a:lnTo>
                  <a:lnTo>
                    <a:pt x="945" y="1203"/>
                  </a:lnTo>
                  <a:lnTo>
                    <a:pt x="916" y="1204"/>
                  </a:lnTo>
                  <a:lnTo>
                    <a:pt x="887" y="1206"/>
                  </a:lnTo>
                  <a:lnTo>
                    <a:pt x="857" y="1203"/>
                  </a:lnTo>
                  <a:lnTo>
                    <a:pt x="827" y="1200"/>
                  </a:lnTo>
                  <a:lnTo>
                    <a:pt x="795" y="1196"/>
                  </a:lnTo>
                  <a:lnTo>
                    <a:pt x="778" y="1191"/>
                  </a:lnTo>
                  <a:lnTo>
                    <a:pt x="761" y="1187"/>
                  </a:lnTo>
                  <a:lnTo>
                    <a:pt x="722" y="1177"/>
                  </a:lnTo>
                  <a:lnTo>
                    <a:pt x="684" y="1165"/>
                  </a:lnTo>
                  <a:lnTo>
                    <a:pt x="644" y="1149"/>
                  </a:lnTo>
                  <a:lnTo>
                    <a:pt x="605" y="1134"/>
                  </a:lnTo>
                  <a:lnTo>
                    <a:pt x="566" y="1115"/>
                  </a:lnTo>
                  <a:lnTo>
                    <a:pt x="546" y="1106"/>
                  </a:lnTo>
                  <a:lnTo>
                    <a:pt x="526" y="1095"/>
                  </a:lnTo>
                  <a:lnTo>
                    <a:pt x="507" y="1085"/>
                  </a:lnTo>
                  <a:lnTo>
                    <a:pt x="489" y="1073"/>
                  </a:lnTo>
                  <a:lnTo>
                    <a:pt x="470" y="1061"/>
                  </a:lnTo>
                  <a:lnTo>
                    <a:pt x="451" y="1050"/>
                  </a:lnTo>
                  <a:lnTo>
                    <a:pt x="415" y="1025"/>
                  </a:lnTo>
                  <a:lnTo>
                    <a:pt x="398" y="1012"/>
                  </a:lnTo>
                  <a:lnTo>
                    <a:pt x="382" y="999"/>
                  </a:lnTo>
                  <a:lnTo>
                    <a:pt x="366" y="985"/>
                  </a:lnTo>
                  <a:lnTo>
                    <a:pt x="350" y="971"/>
                  </a:lnTo>
                  <a:lnTo>
                    <a:pt x="336" y="956"/>
                  </a:lnTo>
                  <a:lnTo>
                    <a:pt x="323" y="942"/>
                  </a:lnTo>
                  <a:lnTo>
                    <a:pt x="309" y="927"/>
                  </a:lnTo>
                  <a:lnTo>
                    <a:pt x="297" y="912"/>
                  </a:lnTo>
                  <a:lnTo>
                    <a:pt x="284" y="897"/>
                  </a:lnTo>
                  <a:lnTo>
                    <a:pt x="275" y="881"/>
                  </a:lnTo>
                  <a:lnTo>
                    <a:pt x="265" y="865"/>
                  </a:lnTo>
                  <a:lnTo>
                    <a:pt x="257" y="850"/>
                  </a:lnTo>
                  <a:lnTo>
                    <a:pt x="252" y="841"/>
                  </a:lnTo>
                  <a:lnTo>
                    <a:pt x="248" y="834"/>
                  </a:lnTo>
                  <a:lnTo>
                    <a:pt x="244" y="826"/>
                  </a:lnTo>
                  <a:lnTo>
                    <a:pt x="239" y="821"/>
                  </a:lnTo>
                  <a:lnTo>
                    <a:pt x="237" y="816"/>
                  </a:lnTo>
                  <a:lnTo>
                    <a:pt x="232" y="812"/>
                  </a:lnTo>
                  <a:lnTo>
                    <a:pt x="228" y="809"/>
                  </a:lnTo>
                  <a:lnTo>
                    <a:pt x="224" y="806"/>
                  </a:lnTo>
                  <a:lnTo>
                    <a:pt x="215" y="802"/>
                  </a:lnTo>
                  <a:lnTo>
                    <a:pt x="206" y="799"/>
                  </a:lnTo>
                  <a:lnTo>
                    <a:pt x="196" y="798"/>
                  </a:lnTo>
                  <a:lnTo>
                    <a:pt x="186" y="796"/>
                  </a:lnTo>
                  <a:lnTo>
                    <a:pt x="163" y="790"/>
                  </a:lnTo>
                  <a:lnTo>
                    <a:pt x="150" y="788"/>
                  </a:lnTo>
                  <a:lnTo>
                    <a:pt x="136" y="780"/>
                  </a:lnTo>
                  <a:lnTo>
                    <a:pt x="127" y="777"/>
                  </a:lnTo>
                  <a:lnTo>
                    <a:pt x="118" y="773"/>
                  </a:lnTo>
                  <a:lnTo>
                    <a:pt x="110" y="767"/>
                  </a:lnTo>
                  <a:lnTo>
                    <a:pt x="101" y="762"/>
                  </a:lnTo>
                  <a:lnTo>
                    <a:pt x="93" y="754"/>
                  </a:lnTo>
                  <a:lnTo>
                    <a:pt x="82" y="746"/>
                  </a:lnTo>
                  <a:lnTo>
                    <a:pt x="72" y="737"/>
                  </a:lnTo>
                  <a:lnTo>
                    <a:pt x="62" y="727"/>
                  </a:lnTo>
                  <a:lnTo>
                    <a:pt x="44" y="707"/>
                  </a:lnTo>
                  <a:lnTo>
                    <a:pt x="29" y="688"/>
                  </a:lnTo>
                  <a:lnTo>
                    <a:pt x="18" y="672"/>
                  </a:lnTo>
                  <a:lnTo>
                    <a:pt x="10" y="655"/>
                  </a:lnTo>
                  <a:lnTo>
                    <a:pt x="5" y="639"/>
                  </a:lnTo>
                  <a:lnTo>
                    <a:pt x="0" y="622"/>
                  </a:lnTo>
                  <a:lnTo>
                    <a:pt x="0" y="607"/>
                  </a:lnTo>
                  <a:lnTo>
                    <a:pt x="2" y="593"/>
                  </a:lnTo>
                  <a:lnTo>
                    <a:pt x="5" y="580"/>
                  </a:lnTo>
                  <a:lnTo>
                    <a:pt x="12" y="567"/>
                  </a:lnTo>
                  <a:lnTo>
                    <a:pt x="19" y="554"/>
                  </a:lnTo>
                  <a:lnTo>
                    <a:pt x="26" y="541"/>
                  </a:lnTo>
                  <a:lnTo>
                    <a:pt x="38" y="529"/>
                  </a:lnTo>
                  <a:lnTo>
                    <a:pt x="48" y="519"/>
                  </a:lnTo>
                  <a:lnTo>
                    <a:pt x="74" y="498"/>
                  </a:lnTo>
                  <a:lnTo>
                    <a:pt x="101" y="478"/>
                  </a:lnTo>
                  <a:lnTo>
                    <a:pt x="130" y="460"/>
                  </a:lnTo>
                  <a:lnTo>
                    <a:pt x="159" y="443"/>
                  </a:lnTo>
                  <a:lnTo>
                    <a:pt x="185" y="427"/>
                  </a:lnTo>
                  <a:lnTo>
                    <a:pt x="208" y="411"/>
                  </a:lnTo>
                  <a:lnTo>
                    <a:pt x="218" y="404"/>
                  </a:lnTo>
                  <a:lnTo>
                    <a:pt x="225" y="397"/>
                  </a:lnTo>
                  <a:lnTo>
                    <a:pt x="232" y="388"/>
                  </a:lnTo>
                  <a:lnTo>
                    <a:pt x="238" y="381"/>
                  </a:lnTo>
                  <a:lnTo>
                    <a:pt x="241" y="374"/>
                  </a:lnTo>
                  <a:lnTo>
                    <a:pt x="242" y="367"/>
                  </a:lnTo>
                  <a:lnTo>
                    <a:pt x="242" y="345"/>
                  </a:lnTo>
                  <a:lnTo>
                    <a:pt x="244" y="326"/>
                  </a:lnTo>
                  <a:lnTo>
                    <a:pt x="248" y="306"/>
                  </a:lnTo>
                  <a:lnTo>
                    <a:pt x="252" y="289"/>
                  </a:lnTo>
                  <a:lnTo>
                    <a:pt x="258" y="273"/>
                  </a:lnTo>
                  <a:lnTo>
                    <a:pt x="265" y="256"/>
                  </a:lnTo>
                  <a:lnTo>
                    <a:pt x="280" y="225"/>
                  </a:lnTo>
                  <a:lnTo>
                    <a:pt x="297" y="195"/>
                  </a:lnTo>
                  <a:lnTo>
                    <a:pt x="316" y="165"/>
                  </a:lnTo>
                  <a:lnTo>
                    <a:pt x="324" y="149"/>
                  </a:lnTo>
                  <a:lnTo>
                    <a:pt x="333" y="133"/>
                  </a:lnTo>
                  <a:lnTo>
                    <a:pt x="342" y="117"/>
                  </a:lnTo>
                  <a:lnTo>
                    <a:pt x="350" y="100"/>
                  </a:lnTo>
                  <a:lnTo>
                    <a:pt x="353" y="94"/>
                  </a:lnTo>
                  <a:lnTo>
                    <a:pt x="356" y="88"/>
                  </a:lnTo>
                  <a:lnTo>
                    <a:pt x="363" y="81"/>
                  </a:lnTo>
                  <a:lnTo>
                    <a:pt x="368" y="80"/>
                  </a:lnTo>
                  <a:lnTo>
                    <a:pt x="372" y="77"/>
                  </a:lnTo>
                  <a:lnTo>
                    <a:pt x="376" y="74"/>
                  </a:lnTo>
                  <a:lnTo>
                    <a:pt x="381" y="74"/>
                  </a:lnTo>
                  <a:lnTo>
                    <a:pt x="391" y="72"/>
                  </a:lnTo>
                  <a:lnTo>
                    <a:pt x="401" y="74"/>
                  </a:lnTo>
                  <a:lnTo>
                    <a:pt x="409" y="75"/>
                  </a:lnTo>
                  <a:lnTo>
                    <a:pt x="419" y="80"/>
                  </a:lnTo>
                  <a:lnTo>
                    <a:pt x="438" y="88"/>
                  </a:lnTo>
                  <a:lnTo>
                    <a:pt x="445" y="93"/>
                  </a:lnTo>
                  <a:lnTo>
                    <a:pt x="451" y="97"/>
                  </a:lnTo>
                  <a:lnTo>
                    <a:pt x="455" y="100"/>
                  </a:lnTo>
                  <a:lnTo>
                    <a:pt x="458" y="104"/>
                  </a:lnTo>
                  <a:lnTo>
                    <a:pt x="460" y="106"/>
                  </a:lnTo>
                  <a:lnTo>
                    <a:pt x="460" y="106"/>
                  </a:lnTo>
                  <a:lnTo>
                    <a:pt x="458" y="107"/>
                  </a:lnTo>
                  <a:lnTo>
                    <a:pt x="457" y="107"/>
                  </a:lnTo>
                  <a:close/>
                </a:path>
              </a:pathLst>
            </a:custGeom>
            <a:solidFill>
              <a:srgbClr val="bdd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02080" y="3087720"/>
              <a:ext cx="1044360" cy="601560"/>
            </a:xfrm>
            <a:custGeom>
              <a:avLst/>
              <a:gdLst/>
              <a:ahLst/>
              <a:rect l="l" t="t" r="r" b="b"/>
              <a:pathLst>
                <a:path w="1975" h="1138">
                  <a:moveTo>
                    <a:pt x="974" y="38"/>
                  </a:moveTo>
                  <a:lnTo>
                    <a:pt x="994" y="49"/>
                  </a:lnTo>
                  <a:lnTo>
                    <a:pt x="1011" y="61"/>
                  </a:lnTo>
                  <a:lnTo>
                    <a:pt x="1030" y="72"/>
                  </a:lnTo>
                  <a:lnTo>
                    <a:pt x="1047" y="81"/>
                  </a:lnTo>
                  <a:lnTo>
                    <a:pt x="1079" y="98"/>
                  </a:lnTo>
                  <a:lnTo>
                    <a:pt x="1108" y="112"/>
                  </a:lnTo>
                  <a:lnTo>
                    <a:pt x="1135" y="127"/>
                  </a:lnTo>
                  <a:lnTo>
                    <a:pt x="1161" y="141"/>
                  </a:lnTo>
                  <a:lnTo>
                    <a:pt x="1184" y="157"/>
                  </a:lnTo>
                  <a:lnTo>
                    <a:pt x="1196" y="167"/>
                  </a:lnTo>
                  <a:lnTo>
                    <a:pt x="1206" y="177"/>
                  </a:lnTo>
                  <a:lnTo>
                    <a:pt x="1209" y="179"/>
                  </a:lnTo>
                  <a:lnTo>
                    <a:pt x="1213" y="182"/>
                  </a:lnTo>
                  <a:lnTo>
                    <a:pt x="1224" y="182"/>
                  </a:lnTo>
                  <a:lnTo>
                    <a:pt x="1188" y="192"/>
                  </a:lnTo>
                  <a:lnTo>
                    <a:pt x="1161" y="200"/>
                  </a:lnTo>
                  <a:lnTo>
                    <a:pt x="1151" y="203"/>
                  </a:lnTo>
                  <a:lnTo>
                    <a:pt x="1141" y="203"/>
                  </a:lnTo>
                  <a:lnTo>
                    <a:pt x="1137" y="203"/>
                  </a:lnTo>
                  <a:lnTo>
                    <a:pt x="1134" y="203"/>
                  </a:lnTo>
                  <a:lnTo>
                    <a:pt x="1131" y="202"/>
                  </a:lnTo>
                  <a:lnTo>
                    <a:pt x="1129" y="200"/>
                  </a:lnTo>
                  <a:lnTo>
                    <a:pt x="1119" y="190"/>
                  </a:lnTo>
                  <a:lnTo>
                    <a:pt x="1109" y="183"/>
                  </a:lnTo>
                  <a:lnTo>
                    <a:pt x="1089" y="169"/>
                  </a:lnTo>
                  <a:lnTo>
                    <a:pt x="1067" y="156"/>
                  </a:lnTo>
                  <a:lnTo>
                    <a:pt x="1044" y="144"/>
                  </a:lnTo>
                  <a:lnTo>
                    <a:pt x="1018" y="131"/>
                  </a:lnTo>
                  <a:lnTo>
                    <a:pt x="990" y="115"/>
                  </a:lnTo>
                  <a:lnTo>
                    <a:pt x="975" y="108"/>
                  </a:lnTo>
                  <a:lnTo>
                    <a:pt x="959" y="98"/>
                  </a:lnTo>
                  <a:lnTo>
                    <a:pt x="944" y="89"/>
                  </a:lnTo>
                  <a:lnTo>
                    <a:pt x="926" y="78"/>
                  </a:lnTo>
                  <a:lnTo>
                    <a:pt x="916" y="72"/>
                  </a:lnTo>
                  <a:lnTo>
                    <a:pt x="903" y="66"/>
                  </a:lnTo>
                  <a:lnTo>
                    <a:pt x="887" y="62"/>
                  </a:lnTo>
                  <a:lnTo>
                    <a:pt x="869" y="58"/>
                  </a:lnTo>
                  <a:lnTo>
                    <a:pt x="850" y="53"/>
                  </a:lnTo>
                  <a:lnTo>
                    <a:pt x="827" y="50"/>
                  </a:lnTo>
                  <a:lnTo>
                    <a:pt x="804" y="49"/>
                  </a:lnTo>
                  <a:lnTo>
                    <a:pt x="779" y="46"/>
                  </a:lnTo>
                  <a:lnTo>
                    <a:pt x="754" y="46"/>
                  </a:lnTo>
                  <a:lnTo>
                    <a:pt x="699" y="46"/>
                  </a:lnTo>
                  <a:lnTo>
                    <a:pt x="670" y="48"/>
                  </a:lnTo>
                  <a:lnTo>
                    <a:pt x="643" y="49"/>
                  </a:lnTo>
                  <a:lnTo>
                    <a:pt x="614" y="52"/>
                  </a:lnTo>
                  <a:lnTo>
                    <a:pt x="556" y="61"/>
                  </a:lnTo>
                  <a:lnTo>
                    <a:pt x="529" y="66"/>
                  </a:lnTo>
                  <a:lnTo>
                    <a:pt x="502" y="72"/>
                  </a:lnTo>
                  <a:lnTo>
                    <a:pt x="451" y="89"/>
                  </a:lnTo>
                  <a:lnTo>
                    <a:pt x="428" y="98"/>
                  </a:lnTo>
                  <a:lnTo>
                    <a:pt x="408" y="110"/>
                  </a:lnTo>
                  <a:lnTo>
                    <a:pt x="388" y="121"/>
                  </a:lnTo>
                  <a:lnTo>
                    <a:pt x="370" y="134"/>
                  </a:lnTo>
                  <a:lnTo>
                    <a:pt x="355" y="149"/>
                  </a:lnTo>
                  <a:lnTo>
                    <a:pt x="342" y="163"/>
                  </a:lnTo>
                  <a:lnTo>
                    <a:pt x="333" y="179"/>
                  </a:lnTo>
                  <a:lnTo>
                    <a:pt x="326" y="198"/>
                  </a:lnTo>
                  <a:lnTo>
                    <a:pt x="323" y="216"/>
                  </a:lnTo>
                  <a:lnTo>
                    <a:pt x="323" y="236"/>
                  </a:lnTo>
                  <a:lnTo>
                    <a:pt x="326" y="258"/>
                  </a:lnTo>
                  <a:lnTo>
                    <a:pt x="333" y="280"/>
                  </a:lnTo>
                  <a:lnTo>
                    <a:pt x="337" y="290"/>
                  </a:lnTo>
                  <a:lnTo>
                    <a:pt x="339" y="298"/>
                  </a:lnTo>
                  <a:lnTo>
                    <a:pt x="337" y="307"/>
                  </a:lnTo>
                  <a:lnTo>
                    <a:pt x="336" y="314"/>
                  </a:lnTo>
                  <a:lnTo>
                    <a:pt x="333" y="322"/>
                  </a:lnTo>
                  <a:lnTo>
                    <a:pt x="329" y="329"/>
                  </a:lnTo>
                  <a:lnTo>
                    <a:pt x="323" y="333"/>
                  </a:lnTo>
                  <a:lnTo>
                    <a:pt x="309" y="345"/>
                  </a:lnTo>
                  <a:lnTo>
                    <a:pt x="298" y="349"/>
                  </a:lnTo>
                  <a:lnTo>
                    <a:pt x="290" y="353"/>
                  </a:lnTo>
                  <a:lnTo>
                    <a:pt x="278" y="358"/>
                  </a:lnTo>
                  <a:lnTo>
                    <a:pt x="255" y="366"/>
                  </a:lnTo>
                  <a:lnTo>
                    <a:pt x="231" y="376"/>
                  </a:lnTo>
                  <a:lnTo>
                    <a:pt x="206" y="386"/>
                  </a:lnTo>
                  <a:lnTo>
                    <a:pt x="180" y="398"/>
                  </a:lnTo>
                  <a:lnTo>
                    <a:pt x="167" y="404"/>
                  </a:lnTo>
                  <a:lnTo>
                    <a:pt x="144" y="421"/>
                  </a:lnTo>
                  <a:lnTo>
                    <a:pt x="133" y="430"/>
                  </a:lnTo>
                  <a:lnTo>
                    <a:pt x="123" y="440"/>
                  </a:lnTo>
                  <a:lnTo>
                    <a:pt x="113" y="450"/>
                  </a:lnTo>
                  <a:lnTo>
                    <a:pt x="104" y="461"/>
                  </a:lnTo>
                  <a:lnTo>
                    <a:pt x="95" y="474"/>
                  </a:lnTo>
                  <a:lnTo>
                    <a:pt x="90" y="489"/>
                  </a:lnTo>
                  <a:lnTo>
                    <a:pt x="84" y="505"/>
                  </a:lnTo>
                  <a:lnTo>
                    <a:pt x="80" y="520"/>
                  </a:lnTo>
                  <a:lnTo>
                    <a:pt x="77" y="539"/>
                  </a:lnTo>
                  <a:lnTo>
                    <a:pt x="75" y="558"/>
                  </a:lnTo>
                  <a:lnTo>
                    <a:pt x="75" y="577"/>
                  </a:lnTo>
                  <a:lnTo>
                    <a:pt x="78" y="593"/>
                  </a:lnTo>
                  <a:lnTo>
                    <a:pt x="82" y="607"/>
                  </a:lnTo>
                  <a:lnTo>
                    <a:pt x="88" y="620"/>
                  </a:lnTo>
                  <a:lnTo>
                    <a:pt x="95" y="631"/>
                  </a:lnTo>
                  <a:lnTo>
                    <a:pt x="106" y="642"/>
                  </a:lnTo>
                  <a:lnTo>
                    <a:pt x="116" y="650"/>
                  </a:lnTo>
                  <a:lnTo>
                    <a:pt x="126" y="657"/>
                  </a:lnTo>
                  <a:lnTo>
                    <a:pt x="139" y="665"/>
                  </a:lnTo>
                  <a:lnTo>
                    <a:pt x="152" y="670"/>
                  </a:lnTo>
                  <a:lnTo>
                    <a:pt x="165" y="675"/>
                  </a:lnTo>
                  <a:lnTo>
                    <a:pt x="179" y="678"/>
                  </a:lnTo>
                  <a:lnTo>
                    <a:pt x="195" y="679"/>
                  </a:lnTo>
                  <a:lnTo>
                    <a:pt x="209" y="682"/>
                  </a:lnTo>
                  <a:lnTo>
                    <a:pt x="224" y="683"/>
                  </a:lnTo>
                  <a:lnTo>
                    <a:pt x="254" y="683"/>
                  </a:lnTo>
                  <a:lnTo>
                    <a:pt x="283" y="682"/>
                  </a:lnTo>
                  <a:lnTo>
                    <a:pt x="309" y="680"/>
                  </a:lnTo>
                  <a:lnTo>
                    <a:pt x="330" y="678"/>
                  </a:lnTo>
                  <a:lnTo>
                    <a:pt x="349" y="675"/>
                  </a:lnTo>
                  <a:lnTo>
                    <a:pt x="360" y="673"/>
                  </a:lnTo>
                  <a:lnTo>
                    <a:pt x="365" y="672"/>
                  </a:lnTo>
                  <a:lnTo>
                    <a:pt x="366" y="672"/>
                  </a:lnTo>
                  <a:lnTo>
                    <a:pt x="363" y="673"/>
                  </a:lnTo>
                  <a:lnTo>
                    <a:pt x="350" y="679"/>
                  </a:lnTo>
                  <a:lnTo>
                    <a:pt x="337" y="685"/>
                  </a:lnTo>
                  <a:lnTo>
                    <a:pt x="326" y="691"/>
                  </a:lnTo>
                  <a:lnTo>
                    <a:pt x="316" y="696"/>
                  </a:lnTo>
                  <a:lnTo>
                    <a:pt x="306" y="704"/>
                  </a:lnTo>
                  <a:lnTo>
                    <a:pt x="298" y="711"/>
                  </a:lnTo>
                  <a:lnTo>
                    <a:pt x="291" y="718"/>
                  </a:lnTo>
                  <a:lnTo>
                    <a:pt x="286" y="724"/>
                  </a:lnTo>
                  <a:lnTo>
                    <a:pt x="265" y="727"/>
                  </a:lnTo>
                  <a:lnTo>
                    <a:pt x="245" y="730"/>
                  </a:lnTo>
                  <a:lnTo>
                    <a:pt x="221" y="730"/>
                  </a:lnTo>
                  <a:lnTo>
                    <a:pt x="198" y="731"/>
                  </a:lnTo>
                  <a:lnTo>
                    <a:pt x="172" y="730"/>
                  </a:lnTo>
                  <a:lnTo>
                    <a:pt x="147" y="728"/>
                  </a:lnTo>
                  <a:lnTo>
                    <a:pt x="134" y="727"/>
                  </a:lnTo>
                  <a:lnTo>
                    <a:pt x="123" y="724"/>
                  </a:lnTo>
                  <a:lnTo>
                    <a:pt x="110" y="721"/>
                  </a:lnTo>
                  <a:lnTo>
                    <a:pt x="98" y="718"/>
                  </a:lnTo>
                  <a:lnTo>
                    <a:pt x="87" y="714"/>
                  </a:lnTo>
                  <a:lnTo>
                    <a:pt x="77" y="711"/>
                  </a:lnTo>
                  <a:lnTo>
                    <a:pt x="65" y="705"/>
                  </a:lnTo>
                  <a:lnTo>
                    <a:pt x="55" y="699"/>
                  </a:lnTo>
                  <a:lnTo>
                    <a:pt x="38" y="685"/>
                  </a:lnTo>
                  <a:lnTo>
                    <a:pt x="29" y="678"/>
                  </a:lnTo>
                  <a:lnTo>
                    <a:pt x="22" y="669"/>
                  </a:lnTo>
                  <a:lnTo>
                    <a:pt x="16" y="659"/>
                  </a:lnTo>
                  <a:lnTo>
                    <a:pt x="10" y="649"/>
                  </a:lnTo>
                  <a:lnTo>
                    <a:pt x="6" y="637"/>
                  </a:lnTo>
                  <a:lnTo>
                    <a:pt x="3" y="624"/>
                  </a:lnTo>
                  <a:lnTo>
                    <a:pt x="0" y="611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0" y="565"/>
                  </a:lnTo>
                  <a:lnTo>
                    <a:pt x="5" y="544"/>
                  </a:lnTo>
                  <a:lnTo>
                    <a:pt x="10" y="525"/>
                  </a:lnTo>
                  <a:lnTo>
                    <a:pt x="16" y="508"/>
                  </a:lnTo>
                  <a:lnTo>
                    <a:pt x="25" y="492"/>
                  </a:lnTo>
                  <a:lnTo>
                    <a:pt x="34" y="476"/>
                  </a:lnTo>
                  <a:lnTo>
                    <a:pt x="44" y="463"/>
                  </a:lnTo>
                  <a:lnTo>
                    <a:pt x="55" y="450"/>
                  </a:lnTo>
                  <a:lnTo>
                    <a:pt x="67" y="440"/>
                  </a:lnTo>
                  <a:lnTo>
                    <a:pt x="78" y="428"/>
                  </a:lnTo>
                  <a:lnTo>
                    <a:pt x="93" y="420"/>
                  </a:lnTo>
                  <a:lnTo>
                    <a:pt x="107" y="411"/>
                  </a:lnTo>
                  <a:lnTo>
                    <a:pt x="120" y="404"/>
                  </a:lnTo>
                  <a:lnTo>
                    <a:pt x="150" y="391"/>
                  </a:lnTo>
                  <a:lnTo>
                    <a:pt x="179" y="378"/>
                  </a:lnTo>
                  <a:lnTo>
                    <a:pt x="206" y="368"/>
                  </a:lnTo>
                  <a:lnTo>
                    <a:pt x="232" y="358"/>
                  </a:lnTo>
                  <a:lnTo>
                    <a:pt x="257" y="347"/>
                  </a:lnTo>
                  <a:lnTo>
                    <a:pt x="265" y="342"/>
                  </a:lnTo>
                  <a:lnTo>
                    <a:pt x="275" y="336"/>
                  </a:lnTo>
                  <a:lnTo>
                    <a:pt x="283" y="330"/>
                  </a:lnTo>
                  <a:lnTo>
                    <a:pt x="290" y="324"/>
                  </a:lnTo>
                  <a:lnTo>
                    <a:pt x="296" y="317"/>
                  </a:lnTo>
                  <a:lnTo>
                    <a:pt x="298" y="309"/>
                  </a:lnTo>
                  <a:lnTo>
                    <a:pt x="301" y="300"/>
                  </a:lnTo>
                  <a:lnTo>
                    <a:pt x="301" y="291"/>
                  </a:lnTo>
                  <a:lnTo>
                    <a:pt x="298" y="280"/>
                  </a:lnTo>
                  <a:lnTo>
                    <a:pt x="296" y="268"/>
                  </a:lnTo>
                  <a:lnTo>
                    <a:pt x="287" y="242"/>
                  </a:lnTo>
                  <a:lnTo>
                    <a:pt x="283" y="218"/>
                  </a:lnTo>
                  <a:lnTo>
                    <a:pt x="283" y="195"/>
                  </a:lnTo>
                  <a:lnTo>
                    <a:pt x="287" y="173"/>
                  </a:lnTo>
                  <a:lnTo>
                    <a:pt x="294" y="153"/>
                  </a:lnTo>
                  <a:lnTo>
                    <a:pt x="306" y="134"/>
                  </a:lnTo>
                  <a:lnTo>
                    <a:pt x="320" y="117"/>
                  </a:lnTo>
                  <a:lnTo>
                    <a:pt x="337" y="101"/>
                  </a:lnTo>
                  <a:lnTo>
                    <a:pt x="358" y="87"/>
                  </a:lnTo>
                  <a:lnTo>
                    <a:pt x="379" y="74"/>
                  </a:lnTo>
                  <a:lnTo>
                    <a:pt x="404" y="61"/>
                  </a:lnTo>
                  <a:lnTo>
                    <a:pt x="431" y="50"/>
                  </a:lnTo>
                  <a:lnTo>
                    <a:pt x="458" y="40"/>
                  </a:lnTo>
                  <a:lnTo>
                    <a:pt x="489" y="32"/>
                  </a:lnTo>
                  <a:lnTo>
                    <a:pt x="519" y="25"/>
                  </a:lnTo>
                  <a:lnTo>
                    <a:pt x="550" y="17"/>
                  </a:lnTo>
                  <a:lnTo>
                    <a:pt x="584" y="13"/>
                  </a:lnTo>
                  <a:lnTo>
                    <a:pt x="615" y="9"/>
                  </a:lnTo>
                  <a:lnTo>
                    <a:pt x="648" y="4"/>
                  </a:lnTo>
                  <a:lnTo>
                    <a:pt x="680" y="1"/>
                  </a:lnTo>
                  <a:lnTo>
                    <a:pt x="713" y="1"/>
                  </a:lnTo>
                  <a:lnTo>
                    <a:pt x="745" y="0"/>
                  </a:lnTo>
                  <a:lnTo>
                    <a:pt x="777" y="0"/>
                  </a:lnTo>
                  <a:lnTo>
                    <a:pt x="805" y="1"/>
                  </a:lnTo>
                  <a:lnTo>
                    <a:pt x="834" y="4"/>
                  </a:lnTo>
                  <a:lnTo>
                    <a:pt x="862" y="6"/>
                  </a:lnTo>
                  <a:lnTo>
                    <a:pt x="886" y="10"/>
                  </a:lnTo>
                  <a:lnTo>
                    <a:pt x="909" y="13"/>
                  </a:lnTo>
                  <a:lnTo>
                    <a:pt x="929" y="19"/>
                  </a:lnTo>
                  <a:lnTo>
                    <a:pt x="948" y="25"/>
                  </a:lnTo>
                  <a:lnTo>
                    <a:pt x="962" y="30"/>
                  </a:lnTo>
                  <a:lnTo>
                    <a:pt x="974" y="38"/>
                  </a:lnTo>
                  <a:close/>
                  <a:moveTo>
                    <a:pt x="1285" y="164"/>
                  </a:moveTo>
                  <a:lnTo>
                    <a:pt x="1315" y="156"/>
                  </a:lnTo>
                  <a:lnTo>
                    <a:pt x="1348" y="146"/>
                  </a:lnTo>
                  <a:lnTo>
                    <a:pt x="1366" y="141"/>
                  </a:lnTo>
                  <a:lnTo>
                    <a:pt x="1386" y="137"/>
                  </a:lnTo>
                  <a:lnTo>
                    <a:pt x="1404" y="133"/>
                  </a:lnTo>
                  <a:lnTo>
                    <a:pt x="1423" y="130"/>
                  </a:lnTo>
                  <a:lnTo>
                    <a:pt x="1445" y="127"/>
                  </a:lnTo>
                  <a:lnTo>
                    <a:pt x="1465" y="125"/>
                  </a:lnTo>
                  <a:lnTo>
                    <a:pt x="1486" y="124"/>
                  </a:lnTo>
                  <a:lnTo>
                    <a:pt x="1508" y="125"/>
                  </a:lnTo>
                  <a:lnTo>
                    <a:pt x="1530" y="127"/>
                  </a:lnTo>
                  <a:lnTo>
                    <a:pt x="1553" y="131"/>
                  </a:lnTo>
                  <a:lnTo>
                    <a:pt x="1574" y="136"/>
                  </a:lnTo>
                  <a:lnTo>
                    <a:pt x="1597" y="141"/>
                  </a:lnTo>
                  <a:lnTo>
                    <a:pt x="1625" y="151"/>
                  </a:lnTo>
                  <a:lnTo>
                    <a:pt x="1648" y="162"/>
                  </a:lnTo>
                  <a:lnTo>
                    <a:pt x="1669" y="170"/>
                  </a:lnTo>
                  <a:lnTo>
                    <a:pt x="1688" y="180"/>
                  </a:lnTo>
                  <a:lnTo>
                    <a:pt x="1704" y="190"/>
                  </a:lnTo>
                  <a:lnTo>
                    <a:pt x="1717" y="200"/>
                  </a:lnTo>
                  <a:lnTo>
                    <a:pt x="1728" y="211"/>
                  </a:lnTo>
                  <a:lnTo>
                    <a:pt x="1738" y="222"/>
                  </a:lnTo>
                  <a:lnTo>
                    <a:pt x="1747" y="232"/>
                  </a:lnTo>
                  <a:lnTo>
                    <a:pt x="1753" y="242"/>
                  </a:lnTo>
                  <a:lnTo>
                    <a:pt x="1759" y="252"/>
                  </a:lnTo>
                  <a:lnTo>
                    <a:pt x="1762" y="264"/>
                  </a:lnTo>
                  <a:lnTo>
                    <a:pt x="1764" y="274"/>
                  </a:lnTo>
                  <a:lnTo>
                    <a:pt x="1766" y="284"/>
                  </a:lnTo>
                  <a:lnTo>
                    <a:pt x="1766" y="294"/>
                  </a:lnTo>
                  <a:lnTo>
                    <a:pt x="1766" y="304"/>
                  </a:lnTo>
                  <a:lnTo>
                    <a:pt x="1766" y="326"/>
                  </a:lnTo>
                  <a:lnTo>
                    <a:pt x="1763" y="355"/>
                  </a:lnTo>
                  <a:lnTo>
                    <a:pt x="1763" y="373"/>
                  </a:lnTo>
                  <a:lnTo>
                    <a:pt x="1764" y="384"/>
                  </a:lnTo>
                  <a:lnTo>
                    <a:pt x="1766" y="392"/>
                  </a:lnTo>
                  <a:lnTo>
                    <a:pt x="1769" y="399"/>
                  </a:lnTo>
                  <a:lnTo>
                    <a:pt x="1772" y="409"/>
                  </a:lnTo>
                  <a:lnTo>
                    <a:pt x="1777" y="417"/>
                  </a:lnTo>
                  <a:lnTo>
                    <a:pt x="1792" y="433"/>
                  </a:lnTo>
                  <a:lnTo>
                    <a:pt x="1802" y="438"/>
                  </a:lnTo>
                  <a:lnTo>
                    <a:pt x="1815" y="446"/>
                  </a:lnTo>
                  <a:lnTo>
                    <a:pt x="1844" y="461"/>
                  </a:lnTo>
                  <a:lnTo>
                    <a:pt x="1871" y="477"/>
                  </a:lnTo>
                  <a:lnTo>
                    <a:pt x="1893" y="495"/>
                  </a:lnTo>
                  <a:lnTo>
                    <a:pt x="1913" y="510"/>
                  </a:lnTo>
                  <a:lnTo>
                    <a:pt x="1930" y="528"/>
                  </a:lnTo>
                  <a:lnTo>
                    <a:pt x="1943" y="546"/>
                  </a:lnTo>
                  <a:lnTo>
                    <a:pt x="1956" y="564"/>
                  </a:lnTo>
                  <a:lnTo>
                    <a:pt x="1965" y="582"/>
                  </a:lnTo>
                  <a:lnTo>
                    <a:pt x="1970" y="600"/>
                  </a:lnTo>
                  <a:lnTo>
                    <a:pt x="1973" y="617"/>
                  </a:lnTo>
                  <a:lnTo>
                    <a:pt x="1975" y="637"/>
                  </a:lnTo>
                  <a:lnTo>
                    <a:pt x="1973" y="655"/>
                  </a:lnTo>
                  <a:lnTo>
                    <a:pt x="1970" y="672"/>
                  </a:lnTo>
                  <a:lnTo>
                    <a:pt x="1963" y="689"/>
                  </a:lnTo>
                  <a:lnTo>
                    <a:pt x="1956" y="706"/>
                  </a:lnTo>
                  <a:lnTo>
                    <a:pt x="1944" y="724"/>
                  </a:lnTo>
                  <a:lnTo>
                    <a:pt x="1933" y="740"/>
                  </a:lnTo>
                  <a:lnTo>
                    <a:pt x="1918" y="755"/>
                  </a:lnTo>
                  <a:lnTo>
                    <a:pt x="1903" y="771"/>
                  </a:lnTo>
                  <a:lnTo>
                    <a:pt x="1884" y="786"/>
                  </a:lnTo>
                  <a:lnTo>
                    <a:pt x="1865" y="799"/>
                  </a:lnTo>
                  <a:lnTo>
                    <a:pt x="1844" y="812"/>
                  </a:lnTo>
                  <a:lnTo>
                    <a:pt x="1821" y="823"/>
                  </a:lnTo>
                  <a:lnTo>
                    <a:pt x="1796" y="835"/>
                  </a:lnTo>
                  <a:lnTo>
                    <a:pt x="1770" y="845"/>
                  </a:lnTo>
                  <a:lnTo>
                    <a:pt x="1743" y="853"/>
                  </a:lnTo>
                  <a:lnTo>
                    <a:pt x="1714" y="862"/>
                  </a:lnTo>
                  <a:lnTo>
                    <a:pt x="1685" y="868"/>
                  </a:lnTo>
                  <a:lnTo>
                    <a:pt x="1654" y="874"/>
                  </a:lnTo>
                  <a:lnTo>
                    <a:pt x="1622" y="877"/>
                  </a:lnTo>
                  <a:lnTo>
                    <a:pt x="1589" y="879"/>
                  </a:lnTo>
                  <a:lnTo>
                    <a:pt x="1556" y="881"/>
                  </a:lnTo>
                  <a:lnTo>
                    <a:pt x="1525" y="881"/>
                  </a:lnTo>
                  <a:lnTo>
                    <a:pt x="1499" y="881"/>
                  </a:lnTo>
                  <a:lnTo>
                    <a:pt x="1478" y="882"/>
                  </a:lnTo>
                  <a:lnTo>
                    <a:pt x="1458" y="884"/>
                  </a:lnTo>
                  <a:lnTo>
                    <a:pt x="1442" y="885"/>
                  </a:lnTo>
                  <a:lnTo>
                    <a:pt x="1429" y="887"/>
                  </a:lnTo>
                  <a:lnTo>
                    <a:pt x="1419" y="890"/>
                  </a:lnTo>
                  <a:lnTo>
                    <a:pt x="1412" y="892"/>
                  </a:lnTo>
                  <a:lnTo>
                    <a:pt x="1406" y="895"/>
                  </a:lnTo>
                  <a:lnTo>
                    <a:pt x="1402" y="900"/>
                  </a:lnTo>
                  <a:lnTo>
                    <a:pt x="1400" y="903"/>
                  </a:lnTo>
                  <a:lnTo>
                    <a:pt x="1399" y="907"/>
                  </a:lnTo>
                  <a:lnTo>
                    <a:pt x="1400" y="911"/>
                  </a:lnTo>
                  <a:lnTo>
                    <a:pt x="1402" y="917"/>
                  </a:lnTo>
                  <a:lnTo>
                    <a:pt x="1413" y="940"/>
                  </a:lnTo>
                  <a:lnTo>
                    <a:pt x="1419" y="953"/>
                  </a:lnTo>
                  <a:lnTo>
                    <a:pt x="1419" y="962"/>
                  </a:lnTo>
                  <a:lnTo>
                    <a:pt x="1420" y="969"/>
                  </a:lnTo>
                  <a:lnTo>
                    <a:pt x="1419" y="976"/>
                  </a:lnTo>
                  <a:lnTo>
                    <a:pt x="1416" y="985"/>
                  </a:lnTo>
                  <a:lnTo>
                    <a:pt x="1412" y="993"/>
                  </a:lnTo>
                  <a:lnTo>
                    <a:pt x="1406" y="1002"/>
                  </a:lnTo>
                  <a:lnTo>
                    <a:pt x="1397" y="1011"/>
                  </a:lnTo>
                  <a:lnTo>
                    <a:pt x="1386" y="1021"/>
                  </a:lnTo>
                  <a:lnTo>
                    <a:pt x="1371" y="1031"/>
                  </a:lnTo>
                  <a:lnTo>
                    <a:pt x="1354" y="1041"/>
                  </a:lnTo>
                  <a:lnTo>
                    <a:pt x="1334" y="1051"/>
                  </a:lnTo>
                  <a:lnTo>
                    <a:pt x="1311" y="1063"/>
                  </a:lnTo>
                  <a:lnTo>
                    <a:pt x="1258" y="1083"/>
                  </a:lnTo>
                  <a:lnTo>
                    <a:pt x="1203" y="1100"/>
                  </a:lnTo>
                  <a:lnTo>
                    <a:pt x="1148" y="1113"/>
                  </a:lnTo>
                  <a:lnTo>
                    <a:pt x="1093" y="1125"/>
                  </a:lnTo>
                  <a:lnTo>
                    <a:pt x="1040" y="1132"/>
                  </a:lnTo>
                  <a:lnTo>
                    <a:pt x="985" y="1136"/>
                  </a:lnTo>
                  <a:lnTo>
                    <a:pt x="931" y="1138"/>
                  </a:lnTo>
                  <a:lnTo>
                    <a:pt x="876" y="1138"/>
                  </a:lnTo>
                  <a:lnTo>
                    <a:pt x="824" y="1135"/>
                  </a:lnTo>
                  <a:lnTo>
                    <a:pt x="771" y="1127"/>
                  </a:lnTo>
                  <a:lnTo>
                    <a:pt x="720" y="1120"/>
                  </a:lnTo>
                  <a:lnTo>
                    <a:pt x="670" y="1110"/>
                  </a:lnTo>
                  <a:lnTo>
                    <a:pt x="622" y="1099"/>
                  </a:lnTo>
                  <a:lnTo>
                    <a:pt x="576" y="1086"/>
                  </a:lnTo>
                  <a:lnTo>
                    <a:pt x="530" y="1071"/>
                  </a:lnTo>
                  <a:lnTo>
                    <a:pt x="489" y="1055"/>
                  </a:lnTo>
                  <a:lnTo>
                    <a:pt x="450" y="1038"/>
                  </a:lnTo>
                  <a:lnTo>
                    <a:pt x="412" y="1021"/>
                  </a:lnTo>
                  <a:lnTo>
                    <a:pt x="378" y="1001"/>
                  </a:lnTo>
                  <a:lnTo>
                    <a:pt x="346" y="980"/>
                  </a:lnTo>
                  <a:lnTo>
                    <a:pt x="317" y="960"/>
                  </a:lnTo>
                  <a:lnTo>
                    <a:pt x="291" y="940"/>
                  </a:lnTo>
                  <a:lnTo>
                    <a:pt x="271" y="918"/>
                  </a:lnTo>
                  <a:lnTo>
                    <a:pt x="254" y="897"/>
                  </a:lnTo>
                  <a:lnTo>
                    <a:pt x="239" y="877"/>
                  </a:lnTo>
                  <a:lnTo>
                    <a:pt x="231" y="856"/>
                  </a:lnTo>
                  <a:lnTo>
                    <a:pt x="225" y="836"/>
                  </a:lnTo>
                  <a:lnTo>
                    <a:pt x="225" y="816"/>
                  </a:lnTo>
                  <a:lnTo>
                    <a:pt x="231" y="797"/>
                  </a:lnTo>
                  <a:lnTo>
                    <a:pt x="239" y="779"/>
                  </a:lnTo>
                  <a:lnTo>
                    <a:pt x="254" y="763"/>
                  </a:lnTo>
                  <a:lnTo>
                    <a:pt x="275" y="745"/>
                  </a:lnTo>
                  <a:lnTo>
                    <a:pt x="273" y="761"/>
                  </a:lnTo>
                  <a:lnTo>
                    <a:pt x="273" y="777"/>
                  </a:lnTo>
                  <a:lnTo>
                    <a:pt x="275" y="793"/>
                  </a:lnTo>
                  <a:lnTo>
                    <a:pt x="283" y="809"/>
                  </a:lnTo>
                  <a:lnTo>
                    <a:pt x="293" y="825"/>
                  </a:lnTo>
                  <a:lnTo>
                    <a:pt x="306" y="842"/>
                  </a:lnTo>
                  <a:lnTo>
                    <a:pt x="322" y="858"/>
                  </a:lnTo>
                  <a:lnTo>
                    <a:pt x="339" y="874"/>
                  </a:lnTo>
                  <a:lnTo>
                    <a:pt x="360" y="891"/>
                  </a:lnTo>
                  <a:lnTo>
                    <a:pt x="383" y="907"/>
                  </a:lnTo>
                  <a:lnTo>
                    <a:pt x="408" y="921"/>
                  </a:lnTo>
                  <a:lnTo>
                    <a:pt x="437" y="937"/>
                  </a:lnTo>
                  <a:lnTo>
                    <a:pt x="464" y="952"/>
                  </a:lnTo>
                  <a:lnTo>
                    <a:pt x="496" y="965"/>
                  </a:lnTo>
                  <a:lnTo>
                    <a:pt x="529" y="977"/>
                  </a:lnTo>
                  <a:lnTo>
                    <a:pt x="563" y="990"/>
                  </a:lnTo>
                  <a:lnTo>
                    <a:pt x="599" y="1001"/>
                  </a:lnTo>
                  <a:lnTo>
                    <a:pt x="637" y="1011"/>
                  </a:lnTo>
                  <a:lnTo>
                    <a:pt x="674" y="1018"/>
                  </a:lnTo>
                  <a:lnTo>
                    <a:pt x="713" y="1025"/>
                  </a:lnTo>
                  <a:lnTo>
                    <a:pt x="754" y="1032"/>
                  </a:lnTo>
                  <a:lnTo>
                    <a:pt x="795" y="1037"/>
                  </a:lnTo>
                  <a:lnTo>
                    <a:pt x="837" y="1039"/>
                  </a:lnTo>
                  <a:lnTo>
                    <a:pt x="879" y="1039"/>
                  </a:lnTo>
                  <a:lnTo>
                    <a:pt x="922" y="1039"/>
                  </a:lnTo>
                  <a:lnTo>
                    <a:pt x="965" y="1037"/>
                  </a:lnTo>
                  <a:lnTo>
                    <a:pt x="1008" y="1031"/>
                  </a:lnTo>
                  <a:lnTo>
                    <a:pt x="1052" y="1025"/>
                  </a:lnTo>
                  <a:lnTo>
                    <a:pt x="1093" y="1016"/>
                  </a:lnTo>
                  <a:lnTo>
                    <a:pt x="1137" y="1003"/>
                  </a:lnTo>
                  <a:lnTo>
                    <a:pt x="1178" y="990"/>
                  </a:lnTo>
                  <a:lnTo>
                    <a:pt x="1220" y="973"/>
                  </a:lnTo>
                  <a:lnTo>
                    <a:pt x="1240" y="965"/>
                  </a:lnTo>
                  <a:lnTo>
                    <a:pt x="1259" y="954"/>
                  </a:lnTo>
                  <a:lnTo>
                    <a:pt x="1273" y="946"/>
                  </a:lnTo>
                  <a:lnTo>
                    <a:pt x="1286" y="937"/>
                  </a:lnTo>
                  <a:lnTo>
                    <a:pt x="1304" y="921"/>
                  </a:lnTo>
                  <a:lnTo>
                    <a:pt x="1309" y="914"/>
                  </a:lnTo>
                  <a:lnTo>
                    <a:pt x="1312" y="905"/>
                  </a:lnTo>
                  <a:lnTo>
                    <a:pt x="1315" y="898"/>
                  </a:lnTo>
                  <a:lnTo>
                    <a:pt x="1317" y="891"/>
                  </a:lnTo>
                  <a:lnTo>
                    <a:pt x="1314" y="878"/>
                  </a:lnTo>
                  <a:lnTo>
                    <a:pt x="1309" y="866"/>
                  </a:lnTo>
                  <a:lnTo>
                    <a:pt x="1305" y="856"/>
                  </a:lnTo>
                  <a:lnTo>
                    <a:pt x="1302" y="851"/>
                  </a:lnTo>
                  <a:lnTo>
                    <a:pt x="1299" y="846"/>
                  </a:lnTo>
                  <a:lnTo>
                    <a:pt x="1299" y="842"/>
                  </a:lnTo>
                  <a:lnTo>
                    <a:pt x="1298" y="838"/>
                  </a:lnTo>
                  <a:lnTo>
                    <a:pt x="1298" y="835"/>
                  </a:lnTo>
                  <a:lnTo>
                    <a:pt x="1299" y="830"/>
                  </a:lnTo>
                  <a:lnTo>
                    <a:pt x="1304" y="828"/>
                  </a:lnTo>
                  <a:lnTo>
                    <a:pt x="1308" y="825"/>
                  </a:lnTo>
                  <a:lnTo>
                    <a:pt x="1315" y="822"/>
                  </a:lnTo>
                  <a:lnTo>
                    <a:pt x="1324" y="820"/>
                  </a:lnTo>
                  <a:lnTo>
                    <a:pt x="1335" y="819"/>
                  </a:lnTo>
                  <a:lnTo>
                    <a:pt x="1350" y="817"/>
                  </a:lnTo>
                  <a:lnTo>
                    <a:pt x="1386" y="815"/>
                  </a:lnTo>
                  <a:lnTo>
                    <a:pt x="1435" y="815"/>
                  </a:lnTo>
                  <a:lnTo>
                    <a:pt x="1463" y="815"/>
                  </a:lnTo>
                  <a:lnTo>
                    <a:pt x="1492" y="812"/>
                  </a:lnTo>
                  <a:lnTo>
                    <a:pt x="1520" y="809"/>
                  </a:lnTo>
                  <a:lnTo>
                    <a:pt x="1547" y="804"/>
                  </a:lnTo>
                  <a:lnTo>
                    <a:pt x="1573" y="797"/>
                  </a:lnTo>
                  <a:lnTo>
                    <a:pt x="1599" y="792"/>
                  </a:lnTo>
                  <a:lnTo>
                    <a:pt x="1622" y="784"/>
                  </a:lnTo>
                  <a:lnTo>
                    <a:pt x="1645" y="774"/>
                  </a:lnTo>
                  <a:lnTo>
                    <a:pt x="1666" y="766"/>
                  </a:lnTo>
                  <a:lnTo>
                    <a:pt x="1685" y="755"/>
                  </a:lnTo>
                  <a:lnTo>
                    <a:pt x="1704" y="744"/>
                  </a:lnTo>
                  <a:lnTo>
                    <a:pt x="1721" y="731"/>
                  </a:lnTo>
                  <a:lnTo>
                    <a:pt x="1737" y="719"/>
                  </a:lnTo>
                  <a:lnTo>
                    <a:pt x="1751" y="705"/>
                  </a:lnTo>
                  <a:lnTo>
                    <a:pt x="1764" y="692"/>
                  </a:lnTo>
                  <a:lnTo>
                    <a:pt x="1774" y="678"/>
                  </a:lnTo>
                  <a:lnTo>
                    <a:pt x="1783" y="663"/>
                  </a:lnTo>
                  <a:lnTo>
                    <a:pt x="1790" y="649"/>
                  </a:lnTo>
                  <a:lnTo>
                    <a:pt x="1796" y="633"/>
                  </a:lnTo>
                  <a:lnTo>
                    <a:pt x="1799" y="617"/>
                  </a:lnTo>
                  <a:lnTo>
                    <a:pt x="1800" y="601"/>
                  </a:lnTo>
                  <a:lnTo>
                    <a:pt x="1799" y="585"/>
                  </a:lnTo>
                  <a:lnTo>
                    <a:pt x="1798" y="569"/>
                  </a:lnTo>
                  <a:lnTo>
                    <a:pt x="1792" y="554"/>
                  </a:lnTo>
                  <a:lnTo>
                    <a:pt x="1785" y="538"/>
                  </a:lnTo>
                  <a:lnTo>
                    <a:pt x="1773" y="523"/>
                  </a:lnTo>
                  <a:lnTo>
                    <a:pt x="1762" y="506"/>
                  </a:lnTo>
                  <a:lnTo>
                    <a:pt x="1747" y="492"/>
                  </a:lnTo>
                  <a:lnTo>
                    <a:pt x="1730" y="477"/>
                  </a:lnTo>
                  <a:lnTo>
                    <a:pt x="1710" y="463"/>
                  </a:lnTo>
                  <a:lnTo>
                    <a:pt x="1687" y="448"/>
                  </a:lnTo>
                  <a:lnTo>
                    <a:pt x="1661" y="435"/>
                  </a:lnTo>
                  <a:lnTo>
                    <a:pt x="1651" y="428"/>
                  </a:lnTo>
                  <a:lnTo>
                    <a:pt x="1641" y="422"/>
                  </a:lnTo>
                  <a:lnTo>
                    <a:pt x="1633" y="417"/>
                  </a:lnTo>
                  <a:lnTo>
                    <a:pt x="1629" y="409"/>
                  </a:lnTo>
                  <a:lnTo>
                    <a:pt x="1625" y="402"/>
                  </a:lnTo>
                  <a:lnTo>
                    <a:pt x="1620" y="395"/>
                  </a:lnTo>
                  <a:lnTo>
                    <a:pt x="1618" y="388"/>
                  </a:lnTo>
                  <a:lnTo>
                    <a:pt x="1618" y="381"/>
                  </a:lnTo>
                  <a:lnTo>
                    <a:pt x="1616" y="365"/>
                  </a:lnTo>
                  <a:lnTo>
                    <a:pt x="1618" y="330"/>
                  </a:lnTo>
                  <a:lnTo>
                    <a:pt x="1619" y="311"/>
                  </a:lnTo>
                  <a:lnTo>
                    <a:pt x="1619" y="303"/>
                  </a:lnTo>
                  <a:lnTo>
                    <a:pt x="1618" y="294"/>
                  </a:lnTo>
                  <a:lnTo>
                    <a:pt x="1618" y="284"/>
                  </a:lnTo>
                  <a:lnTo>
                    <a:pt x="1615" y="275"/>
                  </a:lnTo>
                  <a:lnTo>
                    <a:pt x="1612" y="267"/>
                  </a:lnTo>
                  <a:lnTo>
                    <a:pt x="1607" y="258"/>
                  </a:lnTo>
                  <a:lnTo>
                    <a:pt x="1602" y="248"/>
                  </a:lnTo>
                  <a:lnTo>
                    <a:pt x="1594" y="238"/>
                  </a:lnTo>
                  <a:lnTo>
                    <a:pt x="1586" y="229"/>
                  </a:lnTo>
                  <a:lnTo>
                    <a:pt x="1576" y="221"/>
                  </a:lnTo>
                  <a:lnTo>
                    <a:pt x="1564" y="212"/>
                  </a:lnTo>
                  <a:lnTo>
                    <a:pt x="1550" y="203"/>
                  </a:lnTo>
                  <a:lnTo>
                    <a:pt x="1534" y="195"/>
                  </a:lnTo>
                  <a:lnTo>
                    <a:pt x="1515" y="186"/>
                  </a:lnTo>
                  <a:lnTo>
                    <a:pt x="1494" y="177"/>
                  </a:lnTo>
                  <a:lnTo>
                    <a:pt x="1471" y="170"/>
                  </a:lnTo>
                  <a:lnTo>
                    <a:pt x="1459" y="166"/>
                  </a:lnTo>
                  <a:lnTo>
                    <a:pt x="1446" y="163"/>
                  </a:lnTo>
                  <a:lnTo>
                    <a:pt x="1435" y="160"/>
                  </a:lnTo>
                  <a:lnTo>
                    <a:pt x="1422" y="157"/>
                  </a:lnTo>
                  <a:lnTo>
                    <a:pt x="1397" y="156"/>
                  </a:lnTo>
                  <a:lnTo>
                    <a:pt x="1374" y="154"/>
                  </a:lnTo>
                  <a:lnTo>
                    <a:pt x="1351" y="156"/>
                  </a:lnTo>
                  <a:lnTo>
                    <a:pt x="1328" y="157"/>
                  </a:lnTo>
                  <a:lnTo>
                    <a:pt x="1306" y="160"/>
                  </a:lnTo>
                  <a:lnTo>
                    <a:pt x="1285" y="164"/>
                  </a:lnTo>
                  <a:close/>
                </a:path>
              </a:pathLst>
            </a:custGeom>
            <a:solidFill>
              <a:srgbClr val="867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010040" y="3083040"/>
            <a:ext cx="1074600" cy="639720"/>
            <a:chOff x="4010040" y="3083040"/>
            <a:chExt cx="1074600" cy="639720"/>
          </a:xfrm>
        </p:grpSpPr>
        <p:sp>
          <p:nvSpPr>
            <p:cNvPr id="535" name=""/>
            <p:cNvSpPr/>
            <p:nvPr/>
          </p:nvSpPr>
          <p:spPr>
            <a:xfrm>
              <a:off x="4017960" y="3125880"/>
              <a:ext cx="1066680" cy="596880"/>
            </a:xfrm>
            <a:custGeom>
              <a:avLst/>
              <a:gdLst/>
              <a:ahLst/>
              <a:rect l="l" t="t" r="r" b="b"/>
              <a:pathLst>
                <a:path w="2017" h="1130">
                  <a:moveTo>
                    <a:pt x="562" y="299"/>
                  </a:moveTo>
                  <a:lnTo>
                    <a:pt x="544" y="292"/>
                  </a:lnTo>
                  <a:lnTo>
                    <a:pt x="522" y="286"/>
                  </a:lnTo>
                  <a:lnTo>
                    <a:pt x="501" y="280"/>
                  </a:lnTo>
                  <a:lnTo>
                    <a:pt x="477" y="276"/>
                  </a:lnTo>
                  <a:lnTo>
                    <a:pt x="453" y="273"/>
                  </a:lnTo>
                  <a:lnTo>
                    <a:pt x="429" y="270"/>
                  </a:lnTo>
                  <a:lnTo>
                    <a:pt x="404" y="269"/>
                  </a:lnTo>
                  <a:lnTo>
                    <a:pt x="352" y="269"/>
                  </a:lnTo>
                  <a:lnTo>
                    <a:pt x="325" y="269"/>
                  </a:lnTo>
                  <a:lnTo>
                    <a:pt x="299" y="272"/>
                  </a:lnTo>
                  <a:lnTo>
                    <a:pt x="273" y="275"/>
                  </a:lnTo>
                  <a:lnTo>
                    <a:pt x="247" y="279"/>
                  </a:lnTo>
                  <a:lnTo>
                    <a:pt x="223" y="283"/>
                  </a:lnTo>
                  <a:lnTo>
                    <a:pt x="198" y="289"/>
                  </a:lnTo>
                  <a:lnTo>
                    <a:pt x="174" y="296"/>
                  </a:lnTo>
                  <a:lnTo>
                    <a:pt x="151" y="305"/>
                  </a:lnTo>
                  <a:lnTo>
                    <a:pt x="129" y="314"/>
                  </a:lnTo>
                  <a:lnTo>
                    <a:pt x="109" y="324"/>
                  </a:lnTo>
                  <a:lnTo>
                    <a:pt x="89" y="334"/>
                  </a:lnTo>
                  <a:lnTo>
                    <a:pt x="70" y="345"/>
                  </a:lnTo>
                  <a:lnTo>
                    <a:pt x="54" y="358"/>
                  </a:lnTo>
                  <a:lnTo>
                    <a:pt x="40" y="373"/>
                  </a:lnTo>
                  <a:lnTo>
                    <a:pt x="29" y="387"/>
                  </a:lnTo>
                  <a:lnTo>
                    <a:pt x="17" y="403"/>
                  </a:lnTo>
                  <a:lnTo>
                    <a:pt x="10" y="420"/>
                  </a:lnTo>
                  <a:lnTo>
                    <a:pt x="4" y="437"/>
                  </a:lnTo>
                  <a:lnTo>
                    <a:pt x="1" y="458"/>
                  </a:lnTo>
                  <a:lnTo>
                    <a:pt x="0" y="478"/>
                  </a:lnTo>
                  <a:lnTo>
                    <a:pt x="3" y="498"/>
                  </a:lnTo>
                  <a:lnTo>
                    <a:pt x="8" y="520"/>
                  </a:lnTo>
                  <a:lnTo>
                    <a:pt x="17" y="544"/>
                  </a:lnTo>
                  <a:lnTo>
                    <a:pt x="24" y="557"/>
                  </a:lnTo>
                  <a:lnTo>
                    <a:pt x="30" y="567"/>
                  </a:lnTo>
                  <a:lnTo>
                    <a:pt x="39" y="580"/>
                  </a:lnTo>
                  <a:lnTo>
                    <a:pt x="49" y="592"/>
                  </a:lnTo>
                  <a:lnTo>
                    <a:pt x="67" y="612"/>
                  </a:lnTo>
                  <a:lnTo>
                    <a:pt x="79" y="623"/>
                  </a:lnTo>
                  <a:lnTo>
                    <a:pt x="90" y="632"/>
                  </a:lnTo>
                  <a:lnTo>
                    <a:pt x="113" y="651"/>
                  </a:lnTo>
                  <a:lnTo>
                    <a:pt x="138" y="668"/>
                  </a:lnTo>
                  <a:lnTo>
                    <a:pt x="162" y="684"/>
                  </a:lnTo>
                  <a:lnTo>
                    <a:pt x="185" y="698"/>
                  </a:lnTo>
                  <a:lnTo>
                    <a:pt x="207" y="711"/>
                  </a:lnTo>
                  <a:lnTo>
                    <a:pt x="226" y="724"/>
                  </a:lnTo>
                  <a:lnTo>
                    <a:pt x="243" y="734"/>
                  </a:lnTo>
                  <a:lnTo>
                    <a:pt x="247" y="740"/>
                  </a:lnTo>
                  <a:lnTo>
                    <a:pt x="253" y="746"/>
                  </a:lnTo>
                  <a:lnTo>
                    <a:pt x="257" y="750"/>
                  </a:lnTo>
                  <a:lnTo>
                    <a:pt x="260" y="754"/>
                  </a:lnTo>
                  <a:lnTo>
                    <a:pt x="262" y="759"/>
                  </a:lnTo>
                  <a:lnTo>
                    <a:pt x="262" y="761"/>
                  </a:lnTo>
                  <a:lnTo>
                    <a:pt x="259" y="766"/>
                  </a:lnTo>
                  <a:lnTo>
                    <a:pt x="256" y="770"/>
                  </a:lnTo>
                  <a:lnTo>
                    <a:pt x="250" y="773"/>
                  </a:lnTo>
                  <a:lnTo>
                    <a:pt x="243" y="776"/>
                  </a:lnTo>
                  <a:lnTo>
                    <a:pt x="210" y="787"/>
                  </a:lnTo>
                  <a:lnTo>
                    <a:pt x="193" y="795"/>
                  </a:lnTo>
                  <a:lnTo>
                    <a:pt x="178" y="805"/>
                  </a:lnTo>
                  <a:lnTo>
                    <a:pt x="167" y="813"/>
                  </a:lnTo>
                  <a:lnTo>
                    <a:pt x="158" y="823"/>
                  </a:lnTo>
                  <a:lnTo>
                    <a:pt x="149" y="833"/>
                  </a:lnTo>
                  <a:lnTo>
                    <a:pt x="144" y="845"/>
                  </a:lnTo>
                  <a:lnTo>
                    <a:pt x="141" y="855"/>
                  </a:lnTo>
                  <a:lnTo>
                    <a:pt x="139" y="868"/>
                  </a:lnTo>
                  <a:lnTo>
                    <a:pt x="139" y="881"/>
                  </a:lnTo>
                  <a:lnTo>
                    <a:pt x="141" y="894"/>
                  </a:lnTo>
                  <a:lnTo>
                    <a:pt x="144" y="907"/>
                  </a:lnTo>
                  <a:lnTo>
                    <a:pt x="148" y="920"/>
                  </a:lnTo>
                  <a:lnTo>
                    <a:pt x="154" y="933"/>
                  </a:lnTo>
                  <a:lnTo>
                    <a:pt x="161" y="946"/>
                  </a:lnTo>
                  <a:lnTo>
                    <a:pt x="170" y="960"/>
                  </a:lnTo>
                  <a:lnTo>
                    <a:pt x="178" y="973"/>
                  </a:lnTo>
                  <a:lnTo>
                    <a:pt x="188" y="986"/>
                  </a:lnTo>
                  <a:lnTo>
                    <a:pt x="200" y="999"/>
                  </a:lnTo>
                  <a:lnTo>
                    <a:pt x="211" y="1012"/>
                  </a:lnTo>
                  <a:lnTo>
                    <a:pt x="223" y="1024"/>
                  </a:lnTo>
                  <a:lnTo>
                    <a:pt x="236" y="1035"/>
                  </a:lnTo>
                  <a:lnTo>
                    <a:pt x="249" y="1047"/>
                  </a:lnTo>
                  <a:lnTo>
                    <a:pt x="263" y="1057"/>
                  </a:lnTo>
                  <a:lnTo>
                    <a:pt x="276" y="1067"/>
                  </a:lnTo>
                  <a:lnTo>
                    <a:pt x="289" y="1075"/>
                  </a:lnTo>
                  <a:lnTo>
                    <a:pt x="303" y="1084"/>
                  </a:lnTo>
                  <a:lnTo>
                    <a:pt x="316" y="1091"/>
                  </a:lnTo>
                  <a:lnTo>
                    <a:pt x="328" y="1099"/>
                  </a:lnTo>
                  <a:lnTo>
                    <a:pt x="341" y="1104"/>
                  </a:lnTo>
                  <a:lnTo>
                    <a:pt x="354" y="1107"/>
                  </a:lnTo>
                  <a:lnTo>
                    <a:pt x="365" y="1111"/>
                  </a:lnTo>
                  <a:lnTo>
                    <a:pt x="377" y="1113"/>
                  </a:lnTo>
                  <a:lnTo>
                    <a:pt x="420" y="1119"/>
                  </a:lnTo>
                  <a:lnTo>
                    <a:pt x="462" y="1124"/>
                  </a:lnTo>
                  <a:lnTo>
                    <a:pt x="502" y="1127"/>
                  </a:lnTo>
                  <a:lnTo>
                    <a:pt x="542" y="1129"/>
                  </a:lnTo>
                  <a:lnTo>
                    <a:pt x="561" y="1129"/>
                  </a:lnTo>
                  <a:lnTo>
                    <a:pt x="580" y="1130"/>
                  </a:lnTo>
                  <a:lnTo>
                    <a:pt x="616" y="1129"/>
                  </a:lnTo>
                  <a:lnTo>
                    <a:pt x="634" y="1127"/>
                  </a:lnTo>
                  <a:lnTo>
                    <a:pt x="652" y="1126"/>
                  </a:lnTo>
                  <a:lnTo>
                    <a:pt x="669" y="1123"/>
                  </a:lnTo>
                  <a:lnTo>
                    <a:pt x="686" y="1120"/>
                  </a:lnTo>
                  <a:lnTo>
                    <a:pt x="702" y="1117"/>
                  </a:lnTo>
                  <a:lnTo>
                    <a:pt x="719" y="1113"/>
                  </a:lnTo>
                  <a:lnTo>
                    <a:pt x="735" y="1109"/>
                  </a:lnTo>
                  <a:lnTo>
                    <a:pt x="767" y="1097"/>
                  </a:lnTo>
                  <a:lnTo>
                    <a:pt x="783" y="1091"/>
                  </a:lnTo>
                  <a:lnTo>
                    <a:pt x="798" y="1084"/>
                  </a:lnTo>
                  <a:lnTo>
                    <a:pt x="829" y="1068"/>
                  </a:lnTo>
                  <a:lnTo>
                    <a:pt x="844" y="1060"/>
                  </a:lnTo>
                  <a:lnTo>
                    <a:pt x="860" y="1050"/>
                  </a:lnTo>
                  <a:lnTo>
                    <a:pt x="875" y="1039"/>
                  </a:lnTo>
                  <a:lnTo>
                    <a:pt x="889" y="1028"/>
                  </a:lnTo>
                  <a:lnTo>
                    <a:pt x="905" y="1015"/>
                  </a:lnTo>
                  <a:lnTo>
                    <a:pt x="919" y="1003"/>
                  </a:lnTo>
                  <a:lnTo>
                    <a:pt x="935" y="990"/>
                  </a:lnTo>
                  <a:lnTo>
                    <a:pt x="941" y="986"/>
                  </a:lnTo>
                  <a:lnTo>
                    <a:pt x="948" y="983"/>
                  </a:lnTo>
                  <a:lnTo>
                    <a:pt x="957" y="982"/>
                  </a:lnTo>
                  <a:lnTo>
                    <a:pt x="967" y="982"/>
                  </a:lnTo>
                  <a:lnTo>
                    <a:pt x="978" y="982"/>
                  </a:lnTo>
                  <a:lnTo>
                    <a:pt x="991" y="983"/>
                  </a:lnTo>
                  <a:lnTo>
                    <a:pt x="1006" y="986"/>
                  </a:lnTo>
                  <a:lnTo>
                    <a:pt x="1020" y="990"/>
                  </a:lnTo>
                  <a:lnTo>
                    <a:pt x="1053" y="998"/>
                  </a:lnTo>
                  <a:lnTo>
                    <a:pt x="1089" y="1009"/>
                  </a:lnTo>
                  <a:lnTo>
                    <a:pt x="1128" y="1022"/>
                  </a:lnTo>
                  <a:lnTo>
                    <a:pt x="1167" y="1037"/>
                  </a:lnTo>
                  <a:lnTo>
                    <a:pt x="1249" y="1067"/>
                  </a:lnTo>
                  <a:lnTo>
                    <a:pt x="1329" y="1094"/>
                  </a:lnTo>
                  <a:lnTo>
                    <a:pt x="1367" y="1106"/>
                  </a:lnTo>
                  <a:lnTo>
                    <a:pt x="1401" y="1114"/>
                  </a:lnTo>
                  <a:lnTo>
                    <a:pt x="1417" y="1119"/>
                  </a:lnTo>
                  <a:lnTo>
                    <a:pt x="1432" y="1122"/>
                  </a:lnTo>
                  <a:lnTo>
                    <a:pt x="1447" y="1124"/>
                  </a:lnTo>
                  <a:lnTo>
                    <a:pt x="1459" y="1124"/>
                  </a:lnTo>
                  <a:lnTo>
                    <a:pt x="1506" y="1126"/>
                  </a:lnTo>
                  <a:lnTo>
                    <a:pt x="1531" y="1126"/>
                  </a:lnTo>
                  <a:lnTo>
                    <a:pt x="1554" y="1124"/>
                  </a:lnTo>
                  <a:lnTo>
                    <a:pt x="1578" y="1124"/>
                  </a:lnTo>
                  <a:lnTo>
                    <a:pt x="1626" y="1119"/>
                  </a:lnTo>
                  <a:lnTo>
                    <a:pt x="1650" y="1116"/>
                  </a:lnTo>
                  <a:lnTo>
                    <a:pt x="1675" y="1111"/>
                  </a:lnTo>
                  <a:lnTo>
                    <a:pt x="1698" y="1107"/>
                  </a:lnTo>
                  <a:lnTo>
                    <a:pt x="1722" y="1101"/>
                  </a:lnTo>
                  <a:lnTo>
                    <a:pt x="1744" y="1096"/>
                  </a:lnTo>
                  <a:lnTo>
                    <a:pt x="1767" y="1088"/>
                  </a:lnTo>
                  <a:lnTo>
                    <a:pt x="1788" y="1081"/>
                  </a:lnTo>
                  <a:lnTo>
                    <a:pt x="1810" y="1073"/>
                  </a:lnTo>
                  <a:lnTo>
                    <a:pt x="1832" y="1063"/>
                  </a:lnTo>
                  <a:lnTo>
                    <a:pt x="1850" y="1052"/>
                  </a:lnTo>
                  <a:lnTo>
                    <a:pt x="1870" y="1041"/>
                  </a:lnTo>
                  <a:lnTo>
                    <a:pt x="1889" y="1028"/>
                  </a:lnTo>
                  <a:lnTo>
                    <a:pt x="1906" y="1015"/>
                  </a:lnTo>
                  <a:lnTo>
                    <a:pt x="1922" y="1002"/>
                  </a:lnTo>
                  <a:lnTo>
                    <a:pt x="1938" y="986"/>
                  </a:lnTo>
                  <a:lnTo>
                    <a:pt x="1952" y="970"/>
                  </a:lnTo>
                  <a:lnTo>
                    <a:pt x="1965" y="953"/>
                  </a:lnTo>
                  <a:lnTo>
                    <a:pt x="1977" y="934"/>
                  </a:lnTo>
                  <a:lnTo>
                    <a:pt x="1987" y="916"/>
                  </a:lnTo>
                  <a:lnTo>
                    <a:pt x="1997" y="895"/>
                  </a:lnTo>
                  <a:lnTo>
                    <a:pt x="2004" y="874"/>
                  </a:lnTo>
                  <a:lnTo>
                    <a:pt x="2010" y="851"/>
                  </a:lnTo>
                  <a:lnTo>
                    <a:pt x="2014" y="828"/>
                  </a:lnTo>
                  <a:lnTo>
                    <a:pt x="2017" y="803"/>
                  </a:lnTo>
                  <a:lnTo>
                    <a:pt x="2017" y="776"/>
                  </a:lnTo>
                  <a:lnTo>
                    <a:pt x="2017" y="759"/>
                  </a:lnTo>
                  <a:lnTo>
                    <a:pt x="2013" y="741"/>
                  </a:lnTo>
                  <a:lnTo>
                    <a:pt x="2009" y="724"/>
                  </a:lnTo>
                  <a:lnTo>
                    <a:pt x="2003" y="707"/>
                  </a:lnTo>
                  <a:lnTo>
                    <a:pt x="1994" y="691"/>
                  </a:lnTo>
                  <a:lnTo>
                    <a:pt x="1984" y="675"/>
                  </a:lnTo>
                  <a:lnTo>
                    <a:pt x="1973" y="659"/>
                  </a:lnTo>
                  <a:lnTo>
                    <a:pt x="1961" y="645"/>
                  </a:lnTo>
                  <a:lnTo>
                    <a:pt x="1947" y="630"/>
                  </a:lnTo>
                  <a:lnTo>
                    <a:pt x="1932" y="616"/>
                  </a:lnTo>
                  <a:lnTo>
                    <a:pt x="1902" y="589"/>
                  </a:lnTo>
                  <a:lnTo>
                    <a:pt x="1886" y="576"/>
                  </a:lnTo>
                  <a:lnTo>
                    <a:pt x="1852" y="551"/>
                  </a:lnTo>
                  <a:lnTo>
                    <a:pt x="1834" y="540"/>
                  </a:lnTo>
                  <a:lnTo>
                    <a:pt x="1800" y="518"/>
                  </a:lnTo>
                  <a:lnTo>
                    <a:pt x="1768" y="499"/>
                  </a:lnTo>
                  <a:lnTo>
                    <a:pt x="1737" y="482"/>
                  </a:lnTo>
                  <a:lnTo>
                    <a:pt x="1709" y="468"/>
                  </a:lnTo>
                  <a:lnTo>
                    <a:pt x="1686" y="455"/>
                  </a:lnTo>
                  <a:lnTo>
                    <a:pt x="1668" y="445"/>
                  </a:lnTo>
                  <a:lnTo>
                    <a:pt x="1662" y="440"/>
                  </a:lnTo>
                  <a:lnTo>
                    <a:pt x="1656" y="437"/>
                  </a:lnTo>
                  <a:lnTo>
                    <a:pt x="1653" y="436"/>
                  </a:lnTo>
                  <a:lnTo>
                    <a:pt x="1652" y="433"/>
                  </a:lnTo>
                  <a:lnTo>
                    <a:pt x="1653" y="387"/>
                  </a:lnTo>
                  <a:lnTo>
                    <a:pt x="1650" y="345"/>
                  </a:lnTo>
                  <a:lnTo>
                    <a:pt x="1646" y="309"/>
                  </a:lnTo>
                  <a:lnTo>
                    <a:pt x="1637" y="275"/>
                  </a:lnTo>
                  <a:lnTo>
                    <a:pt x="1629" y="244"/>
                  </a:lnTo>
                  <a:lnTo>
                    <a:pt x="1616" y="219"/>
                  </a:lnTo>
                  <a:lnTo>
                    <a:pt x="1601" y="195"/>
                  </a:lnTo>
                  <a:lnTo>
                    <a:pt x="1586" y="177"/>
                  </a:lnTo>
                  <a:lnTo>
                    <a:pt x="1568" y="159"/>
                  </a:lnTo>
                  <a:lnTo>
                    <a:pt x="1550" y="145"/>
                  </a:lnTo>
                  <a:lnTo>
                    <a:pt x="1529" y="134"/>
                  </a:lnTo>
                  <a:lnTo>
                    <a:pt x="1508" y="125"/>
                  </a:lnTo>
                  <a:lnTo>
                    <a:pt x="1485" y="118"/>
                  </a:lnTo>
                  <a:lnTo>
                    <a:pt x="1462" y="112"/>
                  </a:lnTo>
                  <a:lnTo>
                    <a:pt x="1439" y="109"/>
                  </a:lnTo>
                  <a:lnTo>
                    <a:pt x="1416" y="109"/>
                  </a:lnTo>
                  <a:lnTo>
                    <a:pt x="1391" y="109"/>
                  </a:lnTo>
                  <a:lnTo>
                    <a:pt x="1368" y="110"/>
                  </a:lnTo>
                  <a:lnTo>
                    <a:pt x="1344" y="112"/>
                  </a:lnTo>
                  <a:lnTo>
                    <a:pt x="1321" y="116"/>
                  </a:lnTo>
                  <a:lnTo>
                    <a:pt x="1298" y="119"/>
                  </a:lnTo>
                  <a:lnTo>
                    <a:pt x="1276" y="125"/>
                  </a:lnTo>
                  <a:lnTo>
                    <a:pt x="1256" y="129"/>
                  </a:lnTo>
                  <a:lnTo>
                    <a:pt x="1237" y="134"/>
                  </a:lnTo>
                  <a:lnTo>
                    <a:pt x="1203" y="144"/>
                  </a:lnTo>
                  <a:lnTo>
                    <a:pt x="1175" y="152"/>
                  </a:lnTo>
                  <a:lnTo>
                    <a:pt x="1164" y="155"/>
                  </a:lnTo>
                  <a:lnTo>
                    <a:pt x="1155" y="158"/>
                  </a:lnTo>
                  <a:lnTo>
                    <a:pt x="1149" y="158"/>
                  </a:lnTo>
                  <a:lnTo>
                    <a:pt x="1148" y="158"/>
                  </a:lnTo>
                  <a:lnTo>
                    <a:pt x="1126" y="132"/>
                  </a:lnTo>
                  <a:lnTo>
                    <a:pt x="1106" y="109"/>
                  </a:lnTo>
                  <a:lnTo>
                    <a:pt x="1083" y="89"/>
                  </a:lnTo>
                  <a:lnTo>
                    <a:pt x="1062" y="70"/>
                  </a:lnTo>
                  <a:lnTo>
                    <a:pt x="1037" y="53"/>
                  </a:lnTo>
                  <a:lnTo>
                    <a:pt x="1014" y="40"/>
                  </a:lnTo>
                  <a:lnTo>
                    <a:pt x="990" y="27"/>
                  </a:lnTo>
                  <a:lnTo>
                    <a:pt x="967" y="18"/>
                  </a:lnTo>
                  <a:lnTo>
                    <a:pt x="942" y="11"/>
                  </a:lnTo>
                  <a:lnTo>
                    <a:pt x="916" y="5"/>
                  </a:lnTo>
                  <a:lnTo>
                    <a:pt x="893" y="2"/>
                  </a:lnTo>
                  <a:lnTo>
                    <a:pt x="869" y="0"/>
                  </a:lnTo>
                  <a:lnTo>
                    <a:pt x="844" y="1"/>
                  </a:lnTo>
                  <a:lnTo>
                    <a:pt x="821" y="4"/>
                  </a:lnTo>
                  <a:lnTo>
                    <a:pt x="798" y="7"/>
                  </a:lnTo>
                  <a:lnTo>
                    <a:pt x="775" y="13"/>
                  </a:lnTo>
                  <a:lnTo>
                    <a:pt x="752" y="20"/>
                  </a:lnTo>
                  <a:lnTo>
                    <a:pt x="732" y="30"/>
                  </a:lnTo>
                  <a:lnTo>
                    <a:pt x="711" y="40"/>
                  </a:lnTo>
                  <a:lnTo>
                    <a:pt x="692" y="51"/>
                  </a:lnTo>
                  <a:lnTo>
                    <a:pt x="673" y="66"/>
                  </a:lnTo>
                  <a:lnTo>
                    <a:pt x="654" y="80"/>
                  </a:lnTo>
                  <a:lnTo>
                    <a:pt x="639" y="98"/>
                  </a:lnTo>
                  <a:lnTo>
                    <a:pt x="624" y="115"/>
                  </a:lnTo>
                  <a:lnTo>
                    <a:pt x="610" y="134"/>
                  </a:lnTo>
                  <a:lnTo>
                    <a:pt x="598" y="154"/>
                  </a:lnTo>
                  <a:lnTo>
                    <a:pt x="587" y="177"/>
                  </a:lnTo>
                  <a:lnTo>
                    <a:pt x="578" y="198"/>
                  </a:lnTo>
                  <a:lnTo>
                    <a:pt x="572" y="223"/>
                  </a:lnTo>
                  <a:lnTo>
                    <a:pt x="567" y="246"/>
                  </a:lnTo>
                  <a:lnTo>
                    <a:pt x="564" y="272"/>
                  </a:lnTo>
                  <a:lnTo>
                    <a:pt x="562" y="299"/>
                  </a:lnTo>
                  <a:close/>
                </a:path>
              </a:pathLst>
            </a:custGeom>
            <a:solidFill>
              <a:srgbClr val="e5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10040" y="3083040"/>
              <a:ext cx="1012680" cy="617400"/>
            </a:xfrm>
            <a:custGeom>
              <a:avLst/>
              <a:gdLst/>
              <a:ahLst/>
              <a:rect l="l" t="t" r="r" b="b"/>
              <a:pathLst>
                <a:path w="1913" h="1166">
                  <a:moveTo>
                    <a:pt x="533" y="307"/>
                  </a:moveTo>
                  <a:lnTo>
                    <a:pt x="514" y="300"/>
                  </a:lnTo>
                  <a:lnTo>
                    <a:pt x="494" y="294"/>
                  </a:lnTo>
                  <a:lnTo>
                    <a:pt x="474" y="288"/>
                  </a:lnTo>
                  <a:lnTo>
                    <a:pt x="452" y="284"/>
                  </a:lnTo>
                  <a:lnTo>
                    <a:pt x="429" y="280"/>
                  </a:lnTo>
                  <a:lnTo>
                    <a:pt x="406" y="278"/>
                  </a:lnTo>
                  <a:lnTo>
                    <a:pt x="382" y="277"/>
                  </a:lnTo>
                  <a:lnTo>
                    <a:pt x="357" y="275"/>
                  </a:lnTo>
                  <a:lnTo>
                    <a:pt x="333" y="275"/>
                  </a:lnTo>
                  <a:lnTo>
                    <a:pt x="308" y="277"/>
                  </a:lnTo>
                  <a:lnTo>
                    <a:pt x="282" y="280"/>
                  </a:lnTo>
                  <a:lnTo>
                    <a:pt x="258" y="283"/>
                  </a:lnTo>
                  <a:lnTo>
                    <a:pt x="233" y="287"/>
                  </a:lnTo>
                  <a:lnTo>
                    <a:pt x="209" y="291"/>
                  </a:lnTo>
                  <a:lnTo>
                    <a:pt x="186" y="299"/>
                  </a:lnTo>
                  <a:lnTo>
                    <a:pt x="164" y="306"/>
                  </a:lnTo>
                  <a:lnTo>
                    <a:pt x="141" y="313"/>
                  </a:lnTo>
                  <a:lnTo>
                    <a:pt x="121" y="323"/>
                  </a:lnTo>
                  <a:lnTo>
                    <a:pt x="101" y="333"/>
                  </a:lnTo>
                  <a:lnTo>
                    <a:pt x="84" y="343"/>
                  </a:lnTo>
                  <a:lnTo>
                    <a:pt x="67" y="356"/>
                  </a:lnTo>
                  <a:lnTo>
                    <a:pt x="51" y="369"/>
                  </a:lnTo>
                  <a:lnTo>
                    <a:pt x="38" y="383"/>
                  </a:lnTo>
                  <a:lnTo>
                    <a:pt x="26" y="399"/>
                  </a:lnTo>
                  <a:lnTo>
                    <a:pt x="16" y="415"/>
                  </a:lnTo>
                  <a:lnTo>
                    <a:pt x="8" y="432"/>
                  </a:lnTo>
                  <a:lnTo>
                    <a:pt x="3" y="451"/>
                  </a:lnTo>
                  <a:lnTo>
                    <a:pt x="0" y="471"/>
                  </a:lnTo>
                  <a:lnTo>
                    <a:pt x="0" y="491"/>
                  </a:lnTo>
                  <a:lnTo>
                    <a:pt x="2" y="513"/>
                  </a:lnTo>
                  <a:lnTo>
                    <a:pt x="8" y="536"/>
                  </a:lnTo>
                  <a:lnTo>
                    <a:pt x="15" y="559"/>
                  </a:lnTo>
                  <a:lnTo>
                    <a:pt x="20" y="571"/>
                  </a:lnTo>
                  <a:lnTo>
                    <a:pt x="26" y="581"/>
                  </a:lnTo>
                  <a:lnTo>
                    <a:pt x="32" y="591"/>
                  </a:lnTo>
                  <a:lnTo>
                    <a:pt x="39" y="601"/>
                  </a:lnTo>
                  <a:lnTo>
                    <a:pt x="46" y="611"/>
                  </a:lnTo>
                  <a:lnTo>
                    <a:pt x="54" y="620"/>
                  </a:lnTo>
                  <a:lnTo>
                    <a:pt x="61" y="630"/>
                  </a:lnTo>
                  <a:lnTo>
                    <a:pt x="71" y="638"/>
                  </a:lnTo>
                  <a:lnTo>
                    <a:pt x="88" y="654"/>
                  </a:lnTo>
                  <a:lnTo>
                    <a:pt x="107" y="672"/>
                  </a:lnTo>
                  <a:lnTo>
                    <a:pt x="126" y="686"/>
                  </a:lnTo>
                  <a:lnTo>
                    <a:pt x="146" y="699"/>
                  </a:lnTo>
                  <a:lnTo>
                    <a:pt x="182" y="725"/>
                  </a:lnTo>
                  <a:lnTo>
                    <a:pt x="213" y="746"/>
                  </a:lnTo>
                  <a:lnTo>
                    <a:pt x="226" y="757"/>
                  </a:lnTo>
                  <a:lnTo>
                    <a:pt x="236" y="765"/>
                  </a:lnTo>
                  <a:lnTo>
                    <a:pt x="241" y="768"/>
                  </a:lnTo>
                  <a:lnTo>
                    <a:pt x="244" y="772"/>
                  </a:lnTo>
                  <a:lnTo>
                    <a:pt x="246" y="777"/>
                  </a:lnTo>
                  <a:lnTo>
                    <a:pt x="246" y="780"/>
                  </a:lnTo>
                  <a:lnTo>
                    <a:pt x="252" y="777"/>
                  </a:lnTo>
                  <a:lnTo>
                    <a:pt x="255" y="774"/>
                  </a:lnTo>
                  <a:lnTo>
                    <a:pt x="258" y="771"/>
                  </a:lnTo>
                  <a:lnTo>
                    <a:pt x="259" y="767"/>
                  </a:lnTo>
                  <a:lnTo>
                    <a:pt x="258" y="764"/>
                  </a:lnTo>
                  <a:lnTo>
                    <a:pt x="255" y="759"/>
                  </a:lnTo>
                  <a:lnTo>
                    <a:pt x="252" y="757"/>
                  </a:lnTo>
                  <a:lnTo>
                    <a:pt x="248" y="752"/>
                  </a:lnTo>
                  <a:lnTo>
                    <a:pt x="238" y="744"/>
                  </a:lnTo>
                  <a:lnTo>
                    <a:pt x="222" y="732"/>
                  </a:lnTo>
                  <a:lnTo>
                    <a:pt x="205" y="721"/>
                  </a:lnTo>
                  <a:lnTo>
                    <a:pt x="185" y="710"/>
                  </a:lnTo>
                  <a:lnTo>
                    <a:pt x="140" y="683"/>
                  </a:lnTo>
                  <a:lnTo>
                    <a:pt x="118" y="667"/>
                  </a:lnTo>
                  <a:lnTo>
                    <a:pt x="97" y="651"/>
                  </a:lnTo>
                  <a:lnTo>
                    <a:pt x="87" y="641"/>
                  </a:lnTo>
                  <a:lnTo>
                    <a:pt x="77" y="633"/>
                  </a:lnTo>
                  <a:lnTo>
                    <a:pt x="67" y="624"/>
                  </a:lnTo>
                  <a:lnTo>
                    <a:pt x="58" y="614"/>
                  </a:lnTo>
                  <a:lnTo>
                    <a:pt x="51" y="604"/>
                  </a:lnTo>
                  <a:lnTo>
                    <a:pt x="44" y="594"/>
                  </a:lnTo>
                  <a:lnTo>
                    <a:pt x="36" y="584"/>
                  </a:lnTo>
                  <a:lnTo>
                    <a:pt x="32" y="572"/>
                  </a:lnTo>
                  <a:lnTo>
                    <a:pt x="23" y="551"/>
                  </a:lnTo>
                  <a:lnTo>
                    <a:pt x="18" y="530"/>
                  </a:lnTo>
                  <a:lnTo>
                    <a:pt x="15" y="512"/>
                  </a:lnTo>
                  <a:lnTo>
                    <a:pt x="16" y="493"/>
                  </a:lnTo>
                  <a:lnTo>
                    <a:pt x="19" y="477"/>
                  </a:lnTo>
                  <a:lnTo>
                    <a:pt x="25" y="460"/>
                  </a:lnTo>
                  <a:lnTo>
                    <a:pt x="32" y="445"/>
                  </a:lnTo>
                  <a:lnTo>
                    <a:pt x="41" y="431"/>
                  </a:lnTo>
                  <a:lnTo>
                    <a:pt x="52" y="417"/>
                  </a:lnTo>
                  <a:lnTo>
                    <a:pt x="67" y="405"/>
                  </a:lnTo>
                  <a:lnTo>
                    <a:pt x="81" y="392"/>
                  </a:lnTo>
                  <a:lnTo>
                    <a:pt x="98" y="382"/>
                  </a:lnTo>
                  <a:lnTo>
                    <a:pt x="115" y="372"/>
                  </a:lnTo>
                  <a:lnTo>
                    <a:pt x="134" y="363"/>
                  </a:lnTo>
                  <a:lnTo>
                    <a:pt x="156" y="356"/>
                  </a:lnTo>
                  <a:lnTo>
                    <a:pt x="177" y="349"/>
                  </a:lnTo>
                  <a:lnTo>
                    <a:pt x="199" y="342"/>
                  </a:lnTo>
                  <a:lnTo>
                    <a:pt x="222" y="337"/>
                  </a:lnTo>
                  <a:lnTo>
                    <a:pt x="245" y="332"/>
                  </a:lnTo>
                  <a:lnTo>
                    <a:pt x="294" y="326"/>
                  </a:lnTo>
                  <a:lnTo>
                    <a:pt x="318" y="324"/>
                  </a:lnTo>
                  <a:lnTo>
                    <a:pt x="343" y="323"/>
                  </a:lnTo>
                  <a:lnTo>
                    <a:pt x="367" y="323"/>
                  </a:lnTo>
                  <a:lnTo>
                    <a:pt x="390" y="323"/>
                  </a:lnTo>
                  <a:lnTo>
                    <a:pt x="415" y="324"/>
                  </a:lnTo>
                  <a:lnTo>
                    <a:pt x="459" y="330"/>
                  </a:lnTo>
                  <a:lnTo>
                    <a:pt x="481" y="333"/>
                  </a:lnTo>
                  <a:lnTo>
                    <a:pt x="501" y="339"/>
                  </a:lnTo>
                  <a:lnTo>
                    <a:pt x="521" y="345"/>
                  </a:lnTo>
                  <a:lnTo>
                    <a:pt x="539" y="350"/>
                  </a:lnTo>
                  <a:lnTo>
                    <a:pt x="540" y="326"/>
                  </a:lnTo>
                  <a:lnTo>
                    <a:pt x="543" y="303"/>
                  </a:lnTo>
                  <a:lnTo>
                    <a:pt x="547" y="281"/>
                  </a:lnTo>
                  <a:lnTo>
                    <a:pt x="554" y="260"/>
                  </a:lnTo>
                  <a:lnTo>
                    <a:pt x="562" y="239"/>
                  </a:lnTo>
                  <a:lnTo>
                    <a:pt x="572" y="219"/>
                  </a:lnTo>
                  <a:lnTo>
                    <a:pt x="583" y="202"/>
                  </a:lnTo>
                  <a:lnTo>
                    <a:pt x="596" y="185"/>
                  </a:lnTo>
                  <a:lnTo>
                    <a:pt x="609" y="169"/>
                  </a:lnTo>
                  <a:lnTo>
                    <a:pt x="625" y="153"/>
                  </a:lnTo>
                  <a:lnTo>
                    <a:pt x="659" y="127"/>
                  </a:lnTo>
                  <a:lnTo>
                    <a:pt x="677" y="117"/>
                  </a:lnTo>
                  <a:lnTo>
                    <a:pt x="697" y="107"/>
                  </a:lnTo>
                  <a:lnTo>
                    <a:pt x="716" y="98"/>
                  </a:lnTo>
                  <a:lnTo>
                    <a:pt x="737" y="91"/>
                  </a:lnTo>
                  <a:lnTo>
                    <a:pt x="757" y="87"/>
                  </a:lnTo>
                  <a:lnTo>
                    <a:pt x="780" y="82"/>
                  </a:lnTo>
                  <a:lnTo>
                    <a:pt x="802" y="81"/>
                  </a:lnTo>
                  <a:lnTo>
                    <a:pt x="823" y="80"/>
                  </a:lnTo>
                  <a:lnTo>
                    <a:pt x="846" y="82"/>
                  </a:lnTo>
                  <a:lnTo>
                    <a:pt x="870" y="85"/>
                  </a:lnTo>
                  <a:lnTo>
                    <a:pt x="891" y="90"/>
                  </a:lnTo>
                  <a:lnTo>
                    <a:pt x="916" y="97"/>
                  </a:lnTo>
                  <a:lnTo>
                    <a:pt x="937" y="106"/>
                  </a:lnTo>
                  <a:lnTo>
                    <a:pt x="960" y="116"/>
                  </a:lnTo>
                  <a:lnTo>
                    <a:pt x="982" y="129"/>
                  </a:lnTo>
                  <a:lnTo>
                    <a:pt x="1003" y="143"/>
                  </a:lnTo>
                  <a:lnTo>
                    <a:pt x="1023" y="160"/>
                  </a:lnTo>
                  <a:lnTo>
                    <a:pt x="1045" y="179"/>
                  </a:lnTo>
                  <a:lnTo>
                    <a:pt x="1064" y="199"/>
                  </a:lnTo>
                  <a:lnTo>
                    <a:pt x="1084" y="224"/>
                  </a:lnTo>
                  <a:lnTo>
                    <a:pt x="1085" y="224"/>
                  </a:lnTo>
                  <a:lnTo>
                    <a:pt x="1091" y="224"/>
                  </a:lnTo>
                  <a:lnTo>
                    <a:pt x="1098" y="221"/>
                  </a:lnTo>
                  <a:lnTo>
                    <a:pt x="1110" y="218"/>
                  </a:lnTo>
                  <a:lnTo>
                    <a:pt x="1134" y="211"/>
                  </a:lnTo>
                  <a:lnTo>
                    <a:pt x="1166" y="202"/>
                  </a:lnTo>
                  <a:lnTo>
                    <a:pt x="1185" y="198"/>
                  </a:lnTo>
                  <a:lnTo>
                    <a:pt x="1203" y="192"/>
                  </a:lnTo>
                  <a:lnTo>
                    <a:pt x="1223" y="189"/>
                  </a:lnTo>
                  <a:lnTo>
                    <a:pt x="1245" y="185"/>
                  </a:lnTo>
                  <a:lnTo>
                    <a:pt x="1288" y="179"/>
                  </a:lnTo>
                  <a:lnTo>
                    <a:pt x="1311" y="178"/>
                  </a:lnTo>
                  <a:lnTo>
                    <a:pt x="1333" y="178"/>
                  </a:lnTo>
                  <a:lnTo>
                    <a:pt x="1356" y="179"/>
                  </a:lnTo>
                  <a:lnTo>
                    <a:pt x="1377" y="182"/>
                  </a:lnTo>
                  <a:lnTo>
                    <a:pt x="1398" y="186"/>
                  </a:lnTo>
                  <a:lnTo>
                    <a:pt x="1419" y="192"/>
                  </a:lnTo>
                  <a:lnTo>
                    <a:pt x="1438" y="201"/>
                  </a:lnTo>
                  <a:lnTo>
                    <a:pt x="1458" y="211"/>
                  </a:lnTo>
                  <a:lnTo>
                    <a:pt x="1475" y="224"/>
                  </a:lnTo>
                  <a:lnTo>
                    <a:pt x="1491" y="239"/>
                  </a:lnTo>
                  <a:lnTo>
                    <a:pt x="1507" y="257"/>
                  </a:lnTo>
                  <a:lnTo>
                    <a:pt x="1520" y="278"/>
                  </a:lnTo>
                  <a:lnTo>
                    <a:pt x="1531" y="303"/>
                  </a:lnTo>
                  <a:lnTo>
                    <a:pt x="1540" y="329"/>
                  </a:lnTo>
                  <a:lnTo>
                    <a:pt x="1547" y="359"/>
                  </a:lnTo>
                  <a:lnTo>
                    <a:pt x="1552" y="394"/>
                  </a:lnTo>
                  <a:lnTo>
                    <a:pt x="1554" y="431"/>
                  </a:lnTo>
                  <a:lnTo>
                    <a:pt x="1553" y="473"/>
                  </a:lnTo>
                  <a:lnTo>
                    <a:pt x="1554" y="474"/>
                  </a:lnTo>
                  <a:lnTo>
                    <a:pt x="1557" y="477"/>
                  </a:lnTo>
                  <a:lnTo>
                    <a:pt x="1562" y="479"/>
                  </a:lnTo>
                  <a:lnTo>
                    <a:pt x="1567" y="483"/>
                  </a:lnTo>
                  <a:lnTo>
                    <a:pt x="1585" y="491"/>
                  </a:lnTo>
                  <a:lnTo>
                    <a:pt x="1606" y="503"/>
                  </a:lnTo>
                  <a:lnTo>
                    <a:pt x="1632" y="516"/>
                  </a:lnTo>
                  <a:lnTo>
                    <a:pt x="1661" y="532"/>
                  </a:lnTo>
                  <a:lnTo>
                    <a:pt x="1693" y="549"/>
                  </a:lnTo>
                  <a:lnTo>
                    <a:pt x="1724" y="569"/>
                  </a:lnTo>
                  <a:lnTo>
                    <a:pt x="1740" y="579"/>
                  </a:lnTo>
                  <a:lnTo>
                    <a:pt x="1754" y="589"/>
                  </a:lnTo>
                  <a:lnTo>
                    <a:pt x="1772" y="601"/>
                  </a:lnTo>
                  <a:lnTo>
                    <a:pt x="1786" y="612"/>
                  </a:lnTo>
                  <a:lnTo>
                    <a:pt x="1801" y="625"/>
                  </a:lnTo>
                  <a:lnTo>
                    <a:pt x="1815" y="637"/>
                  </a:lnTo>
                  <a:lnTo>
                    <a:pt x="1828" y="650"/>
                  </a:lnTo>
                  <a:lnTo>
                    <a:pt x="1852" y="677"/>
                  </a:lnTo>
                  <a:lnTo>
                    <a:pt x="1862" y="692"/>
                  </a:lnTo>
                  <a:lnTo>
                    <a:pt x="1872" y="706"/>
                  </a:lnTo>
                  <a:lnTo>
                    <a:pt x="1880" y="721"/>
                  </a:lnTo>
                  <a:lnTo>
                    <a:pt x="1885" y="736"/>
                  </a:lnTo>
                  <a:lnTo>
                    <a:pt x="1891" y="751"/>
                  </a:lnTo>
                  <a:lnTo>
                    <a:pt x="1893" y="767"/>
                  </a:lnTo>
                  <a:lnTo>
                    <a:pt x="1894" y="782"/>
                  </a:lnTo>
                  <a:lnTo>
                    <a:pt x="1893" y="805"/>
                  </a:lnTo>
                  <a:lnTo>
                    <a:pt x="1891" y="829"/>
                  </a:lnTo>
                  <a:lnTo>
                    <a:pt x="1887" y="850"/>
                  </a:lnTo>
                  <a:lnTo>
                    <a:pt x="1881" y="872"/>
                  </a:lnTo>
                  <a:lnTo>
                    <a:pt x="1874" y="890"/>
                  </a:lnTo>
                  <a:lnTo>
                    <a:pt x="1865" y="909"/>
                  </a:lnTo>
                  <a:lnTo>
                    <a:pt x="1855" y="926"/>
                  </a:lnTo>
                  <a:lnTo>
                    <a:pt x="1845" y="944"/>
                  </a:lnTo>
                  <a:lnTo>
                    <a:pt x="1834" y="958"/>
                  </a:lnTo>
                  <a:lnTo>
                    <a:pt x="1819" y="973"/>
                  </a:lnTo>
                  <a:lnTo>
                    <a:pt x="1805" y="987"/>
                  </a:lnTo>
                  <a:lnTo>
                    <a:pt x="1790" y="1000"/>
                  </a:lnTo>
                  <a:lnTo>
                    <a:pt x="1773" y="1011"/>
                  </a:lnTo>
                  <a:lnTo>
                    <a:pt x="1757" y="1022"/>
                  </a:lnTo>
                  <a:lnTo>
                    <a:pt x="1739" y="1033"/>
                  </a:lnTo>
                  <a:lnTo>
                    <a:pt x="1720" y="1042"/>
                  </a:lnTo>
                  <a:lnTo>
                    <a:pt x="1701" y="1050"/>
                  </a:lnTo>
                  <a:lnTo>
                    <a:pt x="1681" y="1058"/>
                  </a:lnTo>
                  <a:lnTo>
                    <a:pt x="1660" y="1065"/>
                  </a:lnTo>
                  <a:lnTo>
                    <a:pt x="1639" y="1072"/>
                  </a:lnTo>
                  <a:lnTo>
                    <a:pt x="1618" y="1078"/>
                  </a:lnTo>
                  <a:lnTo>
                    <a:pt x="1596" y="1082"/>
                  </a:lnTo>
                  <a:lnTo>
                    <a:pt x="1575" y="1086"/>
                  </a:lnTo>
                  <a:lnTo>
                    <a:pt x="1552" y="1091"/>
                  </a:lnTo>
                  <a:lnTo>
                    <a:pt x="1530" y="1092"/>
                  </a:lnTo>
                  <a:lnTo>
                    <a:pt x="1507" y="1095"/>
                  </a:lnTo>
                  <a:lnTo>
                    <a:pt x="1462" y="1098"/>
                  </a:lnTo>
                  <a:lnTo>
                    <a:pt x="1439" y="1099"/>
                  </a:lnTo>
                  <a:lnTo>
                    <a:pt x="1396" y="1099"/>
                  </a:lnTo>
                  <a:lnTo>
                    <a:pt x="1375" y="1098"/>
                  </a:lnTo>
                  <a:lnTo>
                    <a:pt x="1362" y="1098"/>
                  </a:lnTo>
                  <a:lnTo>
                    <a:pt x="1349" y="1095"/>
                  </a:lnTo>
                  <a:lnTo>
                    <a:pt x="1336" y="1092"/>
                  </a:lnTo>
                  <a:lnTo>
                    <a:pt x="1320" y="1089"/>
                  </a:lnTo>
                  <a:lnTo>
                    <a:pt x="1288" y="1081"/>
                  </a:lnTo>
                  <a:lnTo>
                    <a:pt x="1252" y="1070"/>
                  </a:lnTo>
                  <a:lnTo>
                    <a:pt x="1177" y="1045"/>
                  </a:lnTo>
                  <a:lnTo>
                    <a:pt x="1103" y="1019"/>
                  </a:lnTo>
                  <a:lnTo>
                    <a:pt x="1065" y="1006"/>
                  </a:lnTo>
                  <a:lnTo>
                    <a:pt x="1029" y="994"/>
                  </a:lnTo>
                  <a:lnTo>
                    <a:pt x="996" y="984"/>
                  </a:lnTo>
                  <a:lnTo>
                    <a:pt x="964" y="975"/>
                  </a:lnTo>
                  <a:lnTo>
                    <a:pt x="952" y="973"/>
                  </a:lnTo>
                  <a:lnTo>
                    <a:pt x="939" y="971"/>
                  </a:lnTo>
                  <a:lnTo>
                    <a:pt x="927" y="968"/>
                  </a:lnTo>
                  <a:lnTo>
                    <a:pt x="916" y="968"/>
                  </a:lnTo>
                  <a:lnTo>
                    <a:pt x="897" y="970"/>
                  </a:lnTo>
                  <a:lnTo>
                    <a:pt x="891" y="973"/>
                  </a:lnTo>
                  <a:lnTo>
                    <a:pt x="885" y="977"/>
                  </a:lnTo>
                  <a:lnTo>
                    <a:pt x="871" y="988"/>
                  </a:lnTo>
                  <a:lnTo>
                    <a:pt x="857" y="1000"/>
                  </a:lnTo>
                  <a:lnTo>
                    <a:pt x="829" y="1020"/>
                  </a:lnTo>
                  <a:lnTo>
                    <a:pt x="815" y="1030"/>
                  </a:lnTo>
                  <a:lnTo>
                    <a:pt x="802" y="1039"/>
                  </a:lnTo>
                  <a:lnTo>
                    <a:pt x="773" y="1055"/>
                  </a:lnTo>
                  <a:lnTo>
                    <a:pt x="759" y="1060"/>
                  </a:lnTo>
                  <a:lnTo>
                    <a:pt x="744" y="1068"/>
                  </a:lnTo>
                  <a:lnTo>
                    <a:pt x="728" y="1073"/>
                  </a:lnTo>
                  <a:lnTo>
                    <a:pt x="714" y="1078"/>
                  </a:lnTo>
                  <a:lnTo>
                    <a:pt x="700" y="1082"/>
                  </a:lnTo>
                  <a:lnTo>
                    <a:pt x="684" y="1086"/>
                  </a:lnTo>
                  <a:lnTo>
                    <a:pt x="668" y="1091"/>
                  </a:lnTo>
                  <a:lnTo>
                    <a:pt x="654" y="1094"/>
                  </a:lnTo>
                  <a:lnTo>
                    <a:pt x="638" y="1096"/>
                  </a:lnTo>
                  <a:lnTo>
                    <a:pt x="622" y="1099"/>
                  </a:lnTo>
                  <a:lnTo>
                    <a:pt x="606" y="1101"/>
                  </a:lnTo>
                  <a:lnTo>
                    <a:pt x="554" y="1104"/>
                  </a:lnTo>
                  <a:lnTo>
                    <a:pt x="537" y="1104"/>
                  </a:lnTo>
                  <a:lnTo>
                    <a:pt x="520" y="1102"/>
                  </a:lnTo>
                  <a:lnTo>
                    <a:pt x="484" y="1101"/>
                  </a:lnTo>
                  <a:lnTo>
                    <a:pt x="446" y="1098"/>
                  </a:lnTo>
                  <a:lnTo>
                    <a:pt x="406" y="1092"/>
                  </a:lnTo>
                  <a:lnTo>
                    <a:pt x="366" y="1086"/>
                  </a:lnTo>
                  <a:lnTo>
                    <a:pt x="357" y="1086"/>
                  </a:lnTo>
                  <a:lnTo>
                    <a:pt x="349" y="1083"/>
                  </a:lnTo>
                  <a:lnTo>
                    <a:pt x="340" y="1081"/>
                  </a:lnTo>
                  <a:lnTo>
                    <a:pt x="331" y="1078"/>
                  </a:lnTo>
                  <a:lnTo>
                    <a:pt x="321" y="1073"/>
                  </a:lnTo>
                  <a:lnTo>
                    <a:pt x="301" y="1065"/>
                  </a:lnTo>
                  <a:lnTo>
                    <a:pt x="292" y="1059"/>
                  </a:lnTo>
                  <a:lnTo>
                    <a:pt x="272" y="1046"/>
                  </a:lnTo>
                  <a:lnTo>
                    <a:pt x="252" y="1032"/>
                  </a:lnTo>
                  <a:lnTo>
                    <a:pt x="232" y="1016"/>
                  </a:lnTo>
                  <a:lnTo>
                    <a:pt x="197" y="980"/>
                  </a:lnTo>
                  <a:lnTo>
                    <a:pt x="189" y="971"/>
                  </a:lnTo>
                  <a:lnTo>
                    <a:pt x="182" y="961"/>
                  </a:lnTo>
                  <a:lnTo>
                    <a:pt x="169" y="942"/>
                  </a:lnTo>
                  <a:lnTo>
                    <a:pt x="157" y="924"/>
                  </a:lnTo>
                  <a:lnTo>
                    <a:pt x="153" y="913"/>
                  </a:lnTo>
                  <a:lnTo>
                    <a:pt x="147" y="893"/>
                  </a:lnTo>
                  <a:lnTo>
                    <a:pt x="146" y="885"/>
                  </a:lnTo>
                  <a:lnTo>
                    <a:pt x="144" y="875"/>
                  </a:lnTo>
                  <a:lnTo>
                    <a:pt x="144" y="866"/>
                  </a:lnTo>
                  <a:lnTo>
                    <a:pt x="146" y="857"/>
                  </a:lnTo>
                  <a:lnTo>
                    <a:pt x="147" y="849"/>
                  </a:lnTo>
                  <a:lnTo>
                    <a:pt x="141" y="859"/>
                  </a:lnTo>
                  <a:lnTo>
                    <a:pt x="136" y="867"/>
                  </a:lnTo>
                  <a:lnTo>
                    <a:pt x="133" y="879"/>
                  </a:lnTo>
                  <a:lnTo>
                    <a:pt x="131" y="890"/>
                  </a:lnTo>
                  <a:lnTo>
                    <a:pt x="131" y="901"/>
                  </a:lnTo>
                  <a:lnTo>
                    <a:pt x="131" y="912"/>
                  </a:lnTo>
                  <a:lnTo>
                    <a:pt x="133" y="924"/>
                  </a:lnTo>
                  <a:lnTo>
                    <a:pt x="136" y="935"/>
                  </a:lnTo>
                  <a:lnTo>
                    <a:pt x="140" y="947"/>
                  </a:lnTo>
                  <a:lnTo>
                    <a:pt x="144" y="960"/>
                  </a:lnTo>
                  <a:lnTo>
                    <a:pt x="150" y="971"/>
                  </a:lnTo>
                  <a:lnTo>
                    <a:pt x="157" y="984"/>
                  </a:lnTo>
                  <a:lnTo>
                    <a:pt x="172" y="1007"/>
                  </a:lnTo>
                  <a:lnTo>
                    <a:pt x="189" y="1030"/>
                  </a:lnTo>
                  <a:lnTo>
                    <a:pt x="208" y="1053"/>
                  </a:lnTo>
                  <a:lnTo>
                    <a:pt x="229" y="1073"/>
                  </a:lnTo>
                  <a:lnTo>
                    <a:pt x="241" y="1083"/>
                  </a:lnTo>
                  <a:lnTo>
                    <a:pt x="252" y="1092"/>
                  </a:lnTo>
                  <a:lnTo>
                    <a:pt x="262" y="1101"/>
                  </a:lnTo>
                  <a:lnTo>
                    <a:pt x="274" y="1109"/>
                  </a:lnTo>
                  <a:lnTo>
                    <a:pt x="295" y="1124"/>
                  </a:lnTo>
                  <a:lnTo>
                    <a:pt x="317" y="1135"/>
                  </a:lnTo>
                  <a:lnTo>
                    <a:pt x="327" y="1140"/>
                  </a:lnTo>
                  <a:lnTo>
                    <a:pt x="337" y="1143"/>
                  </a:lnTo>
                  <a:lnTo>
                    <a:pt x="347" y="1145"/>
                  </a:lnTo>
                  <a:lnTo>
                    <a:pt x="356" y="1147"/>
                  </a:lnTo>
                  <a:lnTo>
                    <a:pt x="398" y="1153"/>
                  </a:lnTo>
                  <a:lnTo>
                    <a:pt x="438" y="1158"/>
                  </a:lnTo>
                  <a:lnTo>
                    <a:pt x="477" y="1161"/>
                  </a:lnTo>
                  <a:lnTo>
                    <a:pt x="513" y="1164"/>
                  </a:lnTo>
                  <a:lnTo>
                    <a:pt x="531" y="1166"/>
                  </a:lnTo>
                  <a:lnTo>
                    <a:pt x="549" y="1166"/>
                  </a:lnTo>
                  <a:lnTo>
                    <a:pt x="566" y="1164"/>
                  </a:lnTo>
                  <a:lnTo>
                    <a:pt x="583" y="1164"/>
                  </a:lnTo>
                  <a:lnTo>
                    <a:pt x="600" y="1161"/>
                  </a:lnTo>
                  <a:lnTo>
                    <a:pt x="616" y="1160"/>
                  </a:lnTo>
                  <a:lnTo>
                    <a:pt x="634" y="1158"/>
                  </a:lnTo>
                  <a:lnTo>
                    <a:pt x="665" y="1151"/>
                  </a:lnTo>
                  <a:lnTo>
                    <a:pt x="681" y="1147"/>
                  </a:lnTo>
                  <a:lnTo>
                    <a:pt x="695" y="1143"/>
                  </a:lnTo>
                  <a:lnTo>
                    <a:pt x="727" y="1131"/>
                  </a:lnTo>
                  <a:lnTo>
                    <a:pt x="741" y="1125"/>
                  </a:lnTo>
                  <a:lnTo>
                    <a:pt x="756" y="1118"/>
                  </a:lnTo>
                  <a:lnTo>
                    <a:pt x="785" y="1101"/>
                  </a:lnTo>
                  <a:lnTo>
                    <a:pt x="815" y="1082"/>
                  </a:lnTo>
                  <a:lnTo>
                    <a:pt x="829" y="1072"/>
                  </a:lnTo>
                  <a:lnTo>
                    <a:pt x="842" y="1059"/>
                  </a:lnTo>
                  <a:lnTo>
                    <a:pt x="857" y="1047"/>
                  </a:lnTo>
                  <a:lnTo>
                    <a:pt x="871" y="1034"/>
                  </a:lnTo>
                  <a:lnTo>
                    <a:pt x="885" y="1020"/>
                  </a:lnTo>
                  <a:lnTo>
                    <a:pt x="891" y="1017"/>
                  </a:lnTo>
                  <a:lnTo>
                    <a:pt x="898" y="1014"/>
                  </a:lnTo>
                  <a:lnTo>
                    <a:pt x="907" y="1013"/>
                  </a:lnTo>
                  <a:lnTo>
                    <a:pt x="916" y="1011"/>
                  </a:lnTo>
                  <a:lnTo>
                    <a:pt x="927" y="1013"/>
                  </a:lnTo>
                  <a:lnTo>
                    <a:pt x="939" y="1014"/>
                  </a:lnTo>
                  <a:lnTo>
                    <a:pt x="953" y="1017"/>
                  </a:lnTo>
                  <a:lnTo>
                    <a:pt x="967" y="1020"/>
                  </a:lnTo>
                  <a:lnTo>
                    <a:pt x="998" y="1030"/>
                  </a:lnTo>
                  <a:lnTo>
                    <a:pt x="1032" y="1040"/>
                  </a:lnTo>
                  <a:lnTo>
                    <a:pt x="1068" y="1053"/>
                  </a:lnTo>
                  <a:lnTo>
                    <a:pt x="1105" y="1068"/>
                  </a:lnTo>
                  <a:lnTo>
                    <a:pt x="1183" y="1099"/>
                  </a:lnTo>
                  <a:lnTo>
                    <a:pt x="1259" y="1128"/>
                  </a:lnTo>
                  <a:lnTo>
                    <a:pt x="1295" y="1140"/>
                  </a:lnTo>
                  <a:lnTo>
                    <a:pt x="1329" y="1150"/>
                  </a:lnTo>
                  <a:lnTo>
                    <a:pt x="1343" y="1153"/>
                  </a:lnTo>
                  <a:lnTo>
                    <a:pt x="1357" y="1155"/>
                  </a:lnTo>
                  <a:lnTo>
                    <a:pt x="1372" y="1158"/>
                  </a:lnTo>
                  <a:lnTo>
                    <a:pt x="1383" y="1160"/>
                  </a:lnTo>
                  <a:lnTo>
                    <a:pt x="1405" y="1160"/>
                  </a:lnTo>
                  <a:lnTo>
                    <a:pt x="1428" y="1161"/>
                  </a:lnTo>
                  <a:lnTo>
                    <a:pt x="1472" y="1160"/>
                  </a:lnTo>
                  <a:lnTo>
                    <a:pt x="1497" y="1158"/>
                  </a:lnTo>
                  <a:lnTo>
                    <a:pt x="1518" y="1155"/>
                  </a:lnTo>
                  <a:lnTo>
                    <a:pt x="1543" y="1154"/>
                  </a:lnTo>
                  <a:lnTo>
                    <a:pt x="1588" y="1145"/>
                  </a:lnTo>
                  <a:lnTo>
                    <a:pt x="1611" y="1141"/>
                  </a:lnTo>
                  <a:lnTo>
                    <a:pt x="1654" y="1130"/>
                  </a:lnTo>
                  <a:lnTo>
                    <a:pt x="1675" y="1122"/>
                  </a:lnTo>
                  <a:lnTo>
                    <a:pt x="1695" y="1114"/>
                  </a:lnTo>
                  <a:lnTo>
                    <a:pt x="1717" y="1105"/>
                  </a:lnTo>
                  <a:lnTo>
                    <a:pt x="1736" y="1095"/>
                  </a:lnTo>
                  <a:lnTo>
                    <a:pt x="1754" y="1085"/>
                  </a:lnTo>
                  <a:lnTo>
                    <a:pt x="1773" y="1073"/>
                  </a:lnTo>
                  <a:lnTo>
                    <a:pt x="1790" y="1060"/>
                  </a:lnTo>
                  <a:lnTo>
                    <a:pt x="1806" y="1047"/>
                  </a:lnTo>
                  <a:lnTo>
                    <a:pt x="1824" y="1033"/>
                  </a:lnTo>
                  <a:lnTo>
                    <a:pt x="1838" y="1017"/>
                  </a:lnTo>
                  <a:lnTo>
                    <a:pt x="1851" y="1000"/>
                  </a:lnTo>
                  <a:lnTo>
                    <a:pt x="1864" y="983"/>
                  </a:lnTo>
                  <a:lnTo>
                    <a:pt x="1874" y="964"/>
                  </a:lnTo>
                  <a:lnTo>
                    <a:pt x="1884" y="944"/>
                  </a:lnTo>
                  <a:lnTo>
                    <a:pt x="1893" y="924"/>
                  </a:lnTo>
                  <a:lnTo>
                    <a:pt x="1900" y="901"/>
                  </a:lnTo>
                  <a:lnTo>
                    <a:pt x="1906" y="877"/>
                  </a:lnTo>
                  <a:lnTo>
                    <a:pt x="1910" y="853"/>
                  </a:lnTo>
                  <a:lnTo>
                    <a:pt x="1913" y="827"/>
                  </a:lnTo>
                  <a:lnTo>
                    <a:pt x="1913" y="800"/>
                  </a:lnTo>
                  <a:lnTo>
                    <a:pt x="1913" y="781"/>
                  </a:lnTo>
                  <a:lnTo>
                    <a:pt x="1908" y="764"/>
                  </a:lnTo>
                  <a:lnTo>
                    <a:pt x="1904" y="746"/>
                  </a:lnTo>
                  <a:lnTo>
                    <a:pt x="1898" y="729"/>
                  </a:lnTo>
                  <a:lnTo>
                    <a:pt x="1891" y="712"/>
                  </a:lnTo>
                  <a:lnTo>
                    <a:pt x="1881" y="696"/>
                  </a:lnTo>
                  <a:lnTo>
                    <a:pt x="1871" y="680"/>
                  </a:lnTo>
                  <a:lnTo>
                    <a:pt x="1860" y="664"/>
                  </a:lnTo>
                  <a:lnTo>
                    <a:pt x="1847" y="650"/>
                  </a:lnTo>
                  <a:lnTo>
                    <a:pt x="1832" y="634"/>
                  </a:lnTo>
                  <a:lnTo>
                    <a:pt x="1818" y="620"/>
                  </a:lnTo>
                  <a:lnTo>
                    <a:pt x="1803" y="607"/>
                  </a:lnTo>
                  <a:lnTo>
                    <a:pt x="1788" y="594"/>
                  </a:lnTo>
                  <a:lnTo>
                    <a:pt x="1772" y="581"/>
                  </a:lnTo>
                  <a:lnTo>
                    <a:pt x="1756" y="568"/>
                  </a:lnTo>
                  <a:lnTo>
                    <a:pt x="1740" y="556"/>
                  </a:lnTo>
                  <a:lnTo>
                    <a:pt x="1707" y="533"/>
                  </a:lnTo>
                  <a:lnTo>
                    <a:pt x="1677" y="515"/>
                  </a:lnTo>
                  <a:lnTo>
                    <a:pt x="1647" y="497"/>
                  </a:lnTo>
                  <a:lnTo>
                    <a:pt x="1621" y="481"/>
                  </a:lnTo>
                  <a:lnTo>
                    <a:pt x="1580" y="458"/>
                  </a:lnTo>
                  <a:lnTo>
                    <a:pt x="1575" y="454"/>
                  </a:lnTo>
                  <a:lnTo>
                    <a:pt x="1570" y="451"/>
                  </a:lnTo>
                  <a:lnTo>
                    <a:pt x="1567" y="448"/>
                  </a:lnTo>
                  <a:lnTo>
                    <a:pt x="1566" y="447"/>
                  </a:lnTo>
                  <a:lnTo>
                    <a:pt x="1567" y="399"/>
                  </a:lnTo>
                  <a:lnTo>
                    <a:pt x="1565" y="356"/>
                  </a:lnTo>
                  <a:lnTo>
                    <a:pt x="1560" y="317"/>
                  </a:lnTo>
                  <a:lnTo>
                    <a:pt x="1553" y="283"/>
                  </a:lnTo>
                  <a:lnTo>
                    <a:pt x="1543" y="252"/>
                  </a:lnTo>
                  <a:lnTo>
                    <a:pt x="1531" y="225"/>
                  </a:lnTo>
                  <a:lnTo>
                    <a:pt x="1518" y="202"/>
                  </a:lnTo>
                  <a:lnTo>
                    <a:pt x="1504" y="180"/>
                  </a:lnTo>
                  <a:lnTo>
                    <a:pt x="1487" y="163"/>
                  </a:lnTo>
                  <a:lnTo>
                    <a:pt x="1468" y="149"/>
                  </a:lnTo>
                  <a:lnTo>
                    <a:pt x="1449" y="137"/>
                  </a:lnTo>
                  <a:lnTo>
                    <a:pt x="1429" y="129"/>
                  </a:lnTo>
                  <a:lnTo>
                    <a:pt x="1408" y="120"/>
                  </a:lnTo>
                  <a:lnTo>
                    <a:pt x="1386" y="116"/>
                  </a:lnTo>
                  <a:lnTo>
                    <a:pt x="1365" y="113"/>
                  </a:lnTo>
                  <a:lnTo>
                    <a:pt x="1341" y="111"/>
                  </a:lnTo>
                  <a:lnTo>
                    <a:pt x="1318" y="111"/>
                  </a:lnTo>
                  <a:lnTo>
                    <a:pt x="1297" y="113"/>
                  </a:lnTo>
                  <a:lnTo>
                    <a:pt x="1274" y="116"/>
                  </a:lnTo>
                  <a:lnTo>
                    <a:pt x="1231" y="123"/>
                  </a:lnTo>
                  <a:lnTo>
                    <a:pt x="1211" y="129"/>
                  </a:lnTo>
                  <a:lnTo>
                    <a:pt x="1190" y="133"/>
                  </a:lnTo>
                  <a:lnTo>
                    <a:pt x="1172" y="139"/>
                  </a:lnTo>
                  <a:lnTo>
                    <a:pt x="1139" y="149"/>
                  </a:lnTo>
                  <a:lnTo>
                    <a:pt x="1114" y="157"/>
                  </a:lnTo>
                  <a:lnTo>
                    <a:pt x="1104" y="160"/>
                  </a:lnTo>
                  <a:lnTo>
                    <a:pt x="1095" y="162"/>
                  </a:lnTo>
                  <a:lnTo>
                    <a:pt x="1090" y="163"/>
                  </a:lnTo>
                  <a:lnTo>
                    <a:pt x="1088" y="163"/>
                  </a:lnTo>
                  <a:lnTo>
                    <a:pt x="1068" y="136"/>
                  </a:lnTo>
                  <a:lnTo>
                    <a:pt x="1048" y="111"/>
                  </a:lnTo>
                  <a:lnTo>
                    <a:pt x="1028" y="91"/>
                  </a:lnTo>
                  <a:lnTo>
                    <a:pt x="1005" y="71"/>
                  </a:lnTo>
                  <a:lnTo>
                    <a:pt x="983" y="55"/>
                  </a:lnTo>
                  <a:lnTo>
                    <a:pt x="962" y="41"/>
                  </a:lnTo>
                  <a:lnTo>
                    <a:pt x="939" y="29"/>
                  </a:lnTo>
                  <a:lnTo>
                    <a:pt x="916" y="18"/>
                  </a:lnTo>
                  <a:lnTo>
                    <a:pt x="893" y="10"/>
                  </a:lnTo>
                  <a:lnTo>
                    <a:pt x="870" y="5"/>
                  </a:lnTo>
                  <a:lnTo>
                    <a:pt x="846" y="2"/>
                  </a:lnTo>
                  <a:lnTo>
                    <a:pt x="823" y="0"/>
                  </a:lnTo>
                  <a:lnTo>
                    <a:pt x="800" y="0"/>
                  </a:lnTo>
                  <a:lnTo>
                    <a:pt x="777" y="3"/>
                  </a:lnTo>
                  <a:lnTo>
                    <a:pt x="756" y="6"/>
                  </a:lnTo>
                  <a:lnTo>
                    <a:pt x="734" y="12"/>
                  </a:lnTo>
                  <a:lnTo>
                    <a:pt x="714" y="21"/>
                  </a:lnTo>
                  <a:lnTo>
                    <a:pt x="693" y="29"/>
                  </a:lnTo>
                  <a:lnTo>
                    <a:pt x="674" y="41"/>
                  </a:lnTo>
                  <a:lnTo>
                    <a:pt x="655" y="54"/>
                  </a:lnTo>
                  <a:lnTo>
                    <a:pt x="636" y="67"/>
                  </a:lnTo>
                  <a:lnTo>
                    <a:pt x="621" y="82"/>
                  </a:lnTo>
                  <a:lnTo>
                    <a:pt x="605" y="100"/>
                  </a:lnTo>
                  <a:lnTo>
                    <a:pt x="590" y="118"/>
                  </a:lnTo>
                  <a:lnTo>
                    <a:pt x="579" y="137"/>
                  </a:lnTo>
                  <a:lnTo>
                    <a:pt x="566" y="159"/>
                  </a:lnTo>
                  <a:lnTo>
                    <a:pt x="556" y="180"/>
                  </a:lnTo>
                  <a:lnTo>
                    <a:pt x="549" y="203"/>
                  </a:lnTo>
                  <a:lnTo>
                    <a:pt x="541" y="229"/>
                  </a:lnTo>
                  <a:lnTo>
                    <a:pt x="536" y="254"/>
                  </a:lnTo>
                  <a:lnTo>
                    <a:pt x="534" y="280"/>
                  </a:lnTo>
                  <a:lnTo>
                    <a:pt x="533" y="307"/>
                  </a:lnTo>
                  <a:close/>
                </a:path>
              </a:pathLst>
            </a:custGeom>
            <a:solidFill>
              <a:srgbClr val="647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50040" y="3083040"/>
            <a:ext cx="1074600" cy="642960"/>
            <a:chOff x="5450040" y="3083040"/>
            <a:chExt cx="1074600" cy="642960"/>
          </a:xfrm>
        </p:grpSpPr>
        <p:sp>
          <p:nvSpPr>
            <p:cNvPr id="538" name=""/>
            <p:cNvSpPr/>
            <p:nvPr/>
          </p:nvSpPr>
          <p:spPr>
            <a:xfrm>
              <a:off x="5450040" y="3083040"/>
              <a:ext cx="1074600" cy="642960"/>
            </a:xfrm>
            <a:custGeom>
              <a:avLst/>
              <a:gdLst/>
              <a:ahLst/>
              <a:rect l="l" t="t" r="r" b="b"/>
              <a:pathLst>
                <a:path w="2032" h="1216">
                  <a:moveTo>
                    <a:pt x="676" y="21"/>
                  </a:moveTo>
                  <a:lnTo>
                    <a:pt x="617" y="15"/>
                  </a:lnTo>
                  <a:lnTo>
                    <a:pt x="554" y="6"/>
                  </a:lnTo>
                  <a:lnTo>
                    <a:pt x="522" y="3"/>
                  </a:lnTo>
                  <a:lnTo>
                    <a:pt x="490" y="2"/>
                  </a:lnTo>
                  <a:lnTo>
                    <a:pt x="459" y="0"/>
                  </a:lnTo>
                  <a:lnTo>
                    <a:pt x="427" y="0"/>
                  </a:lnTo>
                  <a:lnTo>
                    <a:pt x="395" y="2"/>
                  </a:lnTo>
                  <a:lnTo>
                    <a:pt x="366" y="5"/>
                  </a:lnTo>
                  <a:lnTo>
                    <a:pt x="351" y="8"/>
                  </a:lnTo>
                  <a:lnTo>
                    <a:pt x="336" y="10"/>
                  </a:lnTo>
                  <a:lnTo>
                    <a:pt x="322" y="15"/>
                  </a:lnTo>
                  <a:lnTo>
                    <a:pt x="307" y="18"/>
                  </a:lnTo>
                  <a:lnTo>
                    <a:pt x="293" y="23"/>
                  </a:lnTo>
                  <a:lnTo>
                    <a:pt x="280" y="29"/>
                  </a:lnTo>
                  <a:lnTo>
                    <a:pt x="267" y="35"/>
                  </a:lnTo>
                  <a:lnTo>
                    <a:pt x="241" y="49"/>
                  </a:lnTo>
                  <a:lnTo>
                    <a:pt x="229" y="58"/>
                  </a:lnTo>
                  <a:lnTo>
                    <a:pt x="218" y="68"/>
                  </a:lnTo>
                  <a:lnTo>
                    <a:pt x="202" y="85"/>
                  </a:lnTo>
                  <a:lnTo>
                    <a:pt x="196" y="93"/>
                  </a:lnTo>
                  <a:lnTo>
                    <a:pt x="192" y="100"/>
                  </a:lnTo>
                  <a:lnTo>
                    <a:pt x="182" y="124"/>
                  </a:lnTo>
                  <a:lnTo>
                    <a:pt x="181" y="134"/>
                  </a:lnTo>
                  <a:lnTo>
                    <a:pt x="179" y="143"/>
                  </a:lnTo>
                  <a:lnTo>
                    <a:pt x="178" y="163"/>
                  </a:lnTo>
                  <a:lnTo>
                    <a:pt x="176" y="185"/>
                  </a:lnTo>
                  <a:lnTo>
                    <a:pt x="176" y="206"/>
                  </a:lnTo>
                  <a:lnTo>
                    <a:pt x="178" y="228"/>
                  </a:lnTo>
                  <a:lnTo>
                    <a:pt x="181" y="270"/>
                  </a:lnTo>
                  <a:lnTo>
                    <a:pt x="181" y="307"/>
                  </a:lnTo>
                  <a:lnTo>
                    <a:pt x="179" y="323"/>
                  </a:lnTo>
                  <a:lnTo>
                    <a:pt x="178" y="337"/>
                  </a:lnTo>
                  <a:lnTo>
                    <a:pt x="175" y="343"/>
                  </a:lnTo>
                  <a:lnTo>
                    <a:pt x="173" y="349"/>
                  </a:lnTo>
                  <a:lnTo>
                    <a:pt x="170" y="355"/>
                  </a:lnTo>
                  <a:lnTo>
                    <a:pt x="150" y="375"/>
                  </a:lnTo>
                  <a:lnTo>
                    <a:pt x="134" y="391"/>
                  </a:lnTo>
                  <a:lnTo>
                    <a:pt x="104" y="427"/>
                  </a:lnTo>
                  <a:lnTo>
                    <a:pt x="77" y="463"/>
                  </a:lnTo>
                  <a:lnTo>
                    <a:pt x="42" y="520"/>
                  </a:lnTo>
                  <a:lnTo>
                    <a:pt x="34" y="539"/>
                  </a:lnTo>
                  <a:lnTo>
                    <a:pt x="25" y="558"/>
                  </a:lnTo>
                  <a:lnTo>
                    <a:pt x="18" y="577"/>
                  </a:lnTo>
                  <a:lnTo>
                    <a:pt x="10" y="597"/>
                  </a:lnTo>
                  <a:lnTo>
                    <a:pt x="6" y="615"/>
                  </a:lnTo>
                  <a:lnTo>
                    <a:pt x="2" y="636"/>
                  </a:lnTo>
                  <a:lnTo>
                    <a:pt x="0" y="654"/>
                  </a:lnTo>
                  <a:lnTo>
                    <a:pt x="0" y="693"/>
                  </a:lnTo>
                  <a:lnTo>
                    <a:pt x="3" y="712"/>
                  </a:lnTo>
                  <a:lnTo>
                    <a:pt x="8" y="731"/>
                  </a:lnTo>
                  <a:lnTo>
                    <a:pt x="13" y="749"/>
                  </a:lnTo>
                  <a:lnTo>
                    <a:pt x="22" y="767"/>
                  </a:lnTo>
                  <a:lnTo>
                    <a:pt x="32" y="785"/>
                  </a:lnTo>
                  <a:lnTo>
                    <a:pt x="45" y="803"/>
                  </a:lnTo>
                  <a:lnTo>
                    <a:pt x="58" y="820"/>
                  </a:lnTo>
                  <a:lnTo>
                    <a:pt x="75" y="837"/>
                  </a:lnTo>
                  <a:lnTo>
                    <a:pt x="94" y="853"/>
                  </a:lnTo>
                  <a:lnTo>
                    <a:pt x="116" y="869"/>
                  </a:lnTo>
                  <a:lnTo>
                    <a:pt x="139" y="885"/>
                  </a:lnTo>
                  <a:lnTo>
                    <a:pt x="165" y="899"/>
                  </a:lnTo>
                  <a:lnTo>
                    <a:pt x="193" y="912"/>
                  </a:lnTo>
                  <a:lnTo>
                    <a:pt x="224" y="927"/>
                  </a:lnTo>
                  <a:lnTo>
                    <a:pt x="257" y="938"/>
                  </a:lnTo>
                  <a:lnTo>
                    <a:pt x="291" y="947"/>
                  </a:lnTo>
                  <a:lnTo>
                    <a:pt x="323" y="953"/>
                  </a:lnTo>
                  <a:lnTo>
                    <a:pt x="356" y="958"/>
                  </a:lnTo>
                  <a:lnTo>
                    <a:pt x="388" y="961"/>
                  </a:lnTo>
                  <a:lnTo>
                    <a:pt x="420" y="963"/>
                  </a:lnTo>
                  <a:lnTo>
                    <a:pt x="451" y="964"/>
                  </a:lnTo>
                  <a:lnTo>
                    <a:pt x="483" y="963"/>
                  </a:lnTo>
                  <a:lnTo>
                    <a:pt x="547" y="961"/>
                  </a:lnTo>
                  <a:lnTo>
                    <a:pt x="611" y="957"/>
                  </a:lnTo>
                  <a:lnTo>
                    <a:pt x="643" y="955"/>
                  </a:lnTo>
                  <a:lnTo>
                    <a:pt x="676" y="953"/>
                  </a:lnTo>
                  <a:lnTo>
                    <a:pt x="709" y="951"/>
                  </a:lnTo>
                  <a:lnTo>
                    <a:pt x="754" y="951"/>
                  </a:lnTo>
                  <a:lnTo>
                    <a:pt x="766" y="954"/>
                  </a:lnTo>
                  <a:lnTo>
                    <a:pt x="777" y="957"/>
                  </a:lnTo>
                  <a:lnTo>
                    <a:pt x="789" y="961"/>
                  </a:lnTo>
                  <a:lnTo>
                    <a:pt x="802" y="967"/>
                  </a:lnTo>
                  <a:lnTo>
                    <a:pt x="813" y="973"/>
                  </a:lnTo>
                  <a:lnTo>
                    <a:pt x="839" y="987"/>
                  </a:lnTo>
                  <a:lnTo>
                    <a:pt x="866" y="1006"/>
                  </a:lnTo>
                  <a:lnTo>
                    <a:pt x="894" y="1026"/>
                  </a:lnTo>
                  <a:lnTo>
                    <a:pt x="950" y="1069"/>
                  </a:lnTo>
                  <a:lnTo>
                    <a:pt x="982" y="1092"/>
                  </a:lnTo>
                  <a:lnTo>
                    <a:pt x="1011" y="1115"/>
                  </a:lnTo>
                  <a:lnTo>
                    <a:pt x="1041" y="1136"/>
                  </a:lnTo>
                  <a:lnTo>
                    <a:pt x="1071" y="1156"/>
                  </a:lnTo>
                  <a:lnTo>
                    <a:pt x="1087" y="1166"/>
                  </a:lnTo>
                  <a:lnTo>
                    <a:pt x="1103" y="1174"/>
                  </a:lnTo>
                  <a:lnTo>
                    <a:pt x="1119" y="1182"/>
                  </a:lnTo>
                  <a:lnTo>
                    <a:pt x="1134" y="1189"/>
                  </a:lnTo>
                  <a:lnTo>
                    <a:pt x="1165" y="1199"/>
                  </a:lnTo>
                  <a:lnTo>
                    <a:pt x="1181" y="1203"/>
                  </a:lnTo>
                  <a:lnTo>
                    <a:pt x="1196" y="1206"/>
                  </a:lnTo>
                  <a:lnTo>
                    <a:pt x="1238" y="1212"/>
                  </a:lnTo>
                  <a:lnTo>
                    <a:pt x="1277" y="1215"/>
                  </a:lnTo>
                  <a:lnTo>
                    <a:pt x="1313" y="1216"/>
                  </a:lnTo>
                  <a:lnTo>
                    <a:pt x="1346" y="1213"/>
                  </a:lnTo>
                  <a:lnTo>
                    <a:pt x="1377" y="1210"/>
                  </a:lnTo>
                  <a:lnTo>
                    <a:pt x="1404" y="1203"/>
                  </a:lnTo>
                  <a:lnTo>
                    <a:pt x="1430" y="1196"/>
                  </a:lnTo>
                  <a:lnTo>
                    <a:pt x="1453" y="1186"/>
                  </a:lnTo>
                  <a:lnTo>
                    <a:pt x="1475" y="1174"/>
                  </a:lnTo>
                  <a:lnTo>
                    <a:pt x="1493" y="1163"/>
                  </a:lnTo>
                  <a:lnTo>
                    <a:pt x="1511" y="1147"/>
                  </a:lnTo>
                  <a:lnTo>
                    <a:pt x="1526" y="1133"/>
                  </a:lnTo>
                  <a:lnTo>
                    <a:pt x="1541" y="1115"/>
                  </a:lnTo>
                  <a:lnTo>
                    <a:pt x="1555" y="1100"/>
                  </a:lnTo>
                  <a:lnTo>
                    <a:pt x="1568" y="1081"/>
                  </a:lnTo>
                  <a:lnTo>
                    <a:pt x="1580" y="1062"/>
                  </a:lnTo>
                  <a:lnTo>
                    <a:pt x="1624" y="984"/>
                  </a:lnTo>
                  <a:lnTo>
                    <a:pt x="1636" y="964"/>
                  </a:lnTo>
                  <a:lnTo>
                    <a:pt x="1659" y="927"/>
                  </a:lnTo>
                  <a:lnTo>
                    <a:pt x="1672" y="908"/>
                  </a:lnTo>
                  <a:lnTo>
                    <a:pt x="1686" y="889"/>
                  </a:lnTo>
                  <a:lnTo>
                    <a:pt x="1701" y="873"/>
                  </a:lnTo>
                  <a:lnTo>
                    <a:pt x="1717" y="857"/>
                  </a:lnTo>
                  <a:lnTo>
                    <a:pt x="1734" y="842"/>
                  </a:lnTo>
                  <a:lnTo>
                    <a:pt x="1753" y="827"/>
                  </a:lnTo>
                  <a:lnTo>
                    <a:pt x="1774" y="814"/>
                  </a:lnTo>
                  <a:lnTo>
                    <a:pt x="1797" y="804"/>
                  </a:lnTo>
                  <a:lnTo>
                    <a:pt x="1822" y="794"/>
                  </a:lnTo>
                  <a:lnTo>
                    <a:pt x="1839" y="788"/>
                  </a:lnTo>
                  <a:lnTo>
                    <a:pt x="1855" y="781"/>
                  </a:lnTo>
                  <a:lnTo>
                    <a:pt x="1872" y="771"/>
                  </a:lnTo>
                  <a:lnTo>
                    <a:pt x="1888" y="760"/>
                  </a:lnTo>
                  <a:lnTo>
                    <a:pt x="1902" y="748"/>
                  </a:lnTo>
                  <a:lnTo>
                    <a:pt x="1918" y="735"/>
                  </a:lnTo>
                  <a:lnTo>
                    <a:pt x="1933" y="721"/>
                  </a:lnTo>
                  <a:lnTo>
                    <a:pt x="1946" y="705"/>
                  </a:lnTo>
                  <a:lnTo>
                    <a:pt x="1972" y="670"/>
                  </a:lnTo>
                  <a:lnTo>
                    <a:pt x="1983" y="653"/>
                  </a:lnTo>
                  <a:lnTo>
                    <a:pt x="2002" y="614"/>
                  </a:lnTo>
                  <a:lnTo>
                    <a:pt x="2011" y="595"/>
                  </a:lnTo>
                  <a:lnTo>
                    <a:pt x="2018" y="575"/>
                  </a:lnTo>
                  <a:lnTo>
                    <a:pt x="2022" y="555"/>
                  </a:lnTo>
                  <a:lnTo>
                    <a:pt x="2026" y="536"/>
                  </a:lnTo>
                  <a:lnTo>
                    <a:pt x="2031" y="516"/>
                  </a:lnTo>
                  <a:lnTo>
                    <a:pt x="2032" y="497"/>
                  </a:lnTo>
                  <a:lnTo>
                    <a:pt x="2032" y="479"/>
                  </a:lnTo>
                  <a:lnTo>
                    <a:pt x="2031" y="460"/>
                  </a:lnTo>
                  <a:lnTo>
                    <a:pt x="2029" y="441"/>
                  </a:lnTo>
                  <a:lnTo>
                    <a:pt x="2024" y="425"/>
                  </a:lnTo>
                  <a:lnTo>
                    <a:pt x="2018" y="408"/>
                  </a:lnTo>
                  <a:lnTo>
                    <a:pt x="2011" y="392"/>
                  </a:lnTo>
                  <a:lnTo>
                    <a:pt x="1999" y="378"/>
                  </a:lnTo>
                  <a:lnTo>
                    <a:pt x="1988" y="363"/>
                  </a:lnTo>
                  <a:lnTo>
                    <a:pt x="1973" y="352"/>
                  </a:lnTo>
                  <a:lnTo>
                    <a:pt x="1957" y="340"/>
                  </a:lnTo>
                  <a:lnTo>
                    <a:pt x="1940" y="332"/>
                  </a:lnTo>
                  <a:lnTo>
                    <a:pt x="1918" y="324"/>
                  </a:lnTo>
                  <a:lnTo>
                    <a:pt x="1897" y="317"/>
                  </a:lnTo>
                  <a:lnTo>
                    <a:pt x="1866" y="309"/>
                  </a:lnTo>
                  <a:lnTo>
                    <a:pt x="1835" y="300"/>
                  </a:lnTo>
                  <a:lnTo>
                    <a:pt x="1802" y="287"/>
                  </a:lnTo>
                  <a:lnTo>
                    <a:pt x="1768" y="273"/>
                  </a:lnTo>
                  <a:lnTo>
                    <a:pt x="1732" y="260"/>
                  </a:lnTo>
                  <a:lnTo>
                    <a:pt x="1698" y="245"/>
                  </a:lnTo>
                  <a:lnTo>
                    <a:pt x="1662" y="231"/>
                  </a:lnTo>
                  <a:lnTo>
                    <a:pt x="1627" y="219"/>
                  </a:lnTo>
                  <a:lnTo>
                    <a:pt x="1591" y="209"/>
                  </a:lnTo>
                  <a:lnTo>
                    <a:pt x="1573" y="205"/>
                  </a:lnTo>
                  <a:lnTo>
                    <a:pt x="1557" y="202"/>
                  </a:lnTo>
                  <a:lnTo>
                    <a:pt x="1539" y="199"/>
                  </a:lnTo>
                  <a:lnTo>
                    <a:pt x="1521" y="198"/>
                  </a:lnTo>
                  <a:lnTo>
                    <a:pt x="1489" y="198"/>
                  </a:lnTo>
                  <a:lnTo>
                    <a:pt x="1472" y="199"/>
                  </a:lnTo>
                  <a:lnTo>
                    <a:pt x="1456" y="202"/>
                  </a:lnTo>
                  <a:lnTo>
                    <a:pt x="1440" y="206"/>
                  </a:lnTo>
                  <a:lnTo>
                    <a:pt x="1426" y="212"/>
                  </a:lnTo>
                  <a:lnTo>
                    <a:pt x="1411" y="219"/>
                  </a:lnTo>
                  <a:lnTo>
                    <a:pt x="1397" y="229"/>
                  </a:lnTo>
                  <a:lnTo>
                    <a:pt x="1382" y="240"/>
                  </a:lnTo>
                  <a:lnTo>
                    <a:pt x="1369" y="251"/>
                  </a:lnTo>
                  <a:lnTo>
                    <a:pt x="1365" y="250"/>
                  </a:lnTo>
                  <a:lnTo>
                    <a:pt x="1356" y="244"/>
                  </a:lnTo>
                  <a:lnTo>
                    <a:pt x="1345" y="234"/>
                  </a:lnTo>
                  <a:lnTo>
                    <a:pt x="1329" y="218"/>
                  </a:lnTo>
                  <a:lnTo>
                    <a:pt x="1290" y="182"/>
                  </a:lnTo>
                  <a:lnTo>
                    <a:pt x="1243" y="140"/>
                  </a:lnTo>
                  <a:lnTo>
                    <a:pt x="1217" y="117"/>
                  </a:lnTo>
                  <a:lnTo>
                    <a:pt x="1189" y="97"/>
                  </a:lnTo>
                  <a:lnTo>
                    <a:pt x="1160" y="77"/>
                  </a:lnTo>
                  <a:lnTo>
                    <a:pt x="1132" y="58"/>
                  </a:lnTo>
                  <a:lnTo>
                    <a:pt x="1117" y="49"/>
                  </a:lnTo>
                  <a:lnTo>
                    <a:pt x="1103" y="42"/>
                  </a:lnTo>
                  <a:lnTo>
                    <a:pt x="1090" y="36"/>
                  </a:lnTo>
                  <a:lnTo>
                    <a:pt x="1075" y="31"/>
                  </a:lnTo>
                  <a:lnTo>
                    <a:pt x="1062" y="26"/>
                  </a:lnTo>
                  <a:lnTo>
                    <a:pt x="1048" y="23"/>
                  </a:lnTo>
                  <a:lnTo>
                    <a:pt x="1036" y="22"/>
                  </a:lnTo>
                  <a:lnTo>
                    <a:pt x="1023" y="21"/>
                  </a:lnTo>
                  <a:lnTo>
                    <a:pt x="1013" y="22"/>
                  </a:lnTo>
                  <a:lnTo>
                    <a:pt x="1005" y="22"/>
                  </a:lnTo>
                  <a:lnTo>
                    <a:pt x="996" y="23"/>
                  </a:lnTo>
                  <a:lnTo>
                    <a:pt x="987" y="26"/>
                  </a:lnTo>
                  <a:lnTo>
                    <a:pt x="970" y="31"/>
                  </a:lnTo>
                  <a:lnTo>
                    <a:pt x="954" y="38"/>
                  </a:lnTo>
                  <a:lnTo>
                    <a:pt x="923" y="54"/>
                  </a:lnTo>
                  <a:lnTo>
                    <a:pt x="908" y="65"/>
                  </a:lnTo>
                  <a:lnTo>
                    <a:pt x="894" y="74"/>
                  </a:lnTo>
                  <a:lnTo>
                    <a:pt x="864" y="94"/>
                  </a:lnTo>
                  <a:lnTo>
                    <a:pt x="836" y="111"/>
                  </a:lnTo>
                  <a:lnTo>
                    <a:pt x="820" y="117"/>
                  </a:lnTo>
                  <a:lnTo>
                    <a:pt x="806" y="123"/>
                  </a:lnTo>
                  <a:lnTo>
                    <a:pt x="791" y="127"/>
                  </a:lnTo>
                  <a:lnTo>
                    <a:pt x="783" y="129"/>
                  </a:lnTo>
                  <a:lnTo>
                    <a:pt x="770" y="129"/>
                  </a:lnTo>
                  <a:lnTo>
                    <a:pt x="763" y="127"/>
                  </a:lnTo>
                  <a:lnTo>
                    <a:pt x="758" y="124"/>
                  </a:lnTo>
                  <a:lnTo>
                    <a:pt x="750" y="120"/>
                  </a:lnTo>
                  <a:lnTo>
                    <a:pt x="742" y="114"/>
                  </a:lnTo>
                  <a:lnTo>
                    <a:pt x="741" y="111"/>
                  </a:lnTo>
                  <a:lnTo>
                    <a:pt x="737" y="103"/>
                  </a:lnTo>
                  <a:lnTo>
                    <a:pt x="734" y="94"/>
                  </a:lnTo>
                  <a:lnTo>
                    <a:pt x="731" y="85"/>
                  </a:lnTo>
                  <a:lnTo>
                    <a:pt x="730" y="74"/>
                  </a:lnTo>
                  <a:lnTo>
                    <a:pt x="727" y="65"/>
                  </a:lnTo>
                  <a:lnTo>
                    <a:pt x="725" y="54"/>
                  </a:lnTo>
                  <a:lnTo>
                    <a:pt x="722" y="45"/>
                  </a:lnTo>
                  <a:lnTo>
                    <a:pt x="717" y="38"/>
                  </a:lnTo>
                  <a:lnTo>
                    <a:pt x="711" y="31"/>
                  </a:lnTo>
                  <a:lnTo>
                    <a:pt x="706" y="28"/>
                  </a:lnTo>
                  <a:lnTo>
                    <a:pt x="702" y="26"/>
                  </a:lnTo>
                  <a:lnTo>
                    <a:pt x="691" y="22"/>
                  </a:lnTo>
                  <a:lnTo>
                    <a:pt x="683" y="22"/>
                  </a:lnTo>
                  <a:lnTo>
                    <a:pt x="676" y="21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77040" y="3087720"/>
              <a:ext cx="1036440" cy="615960"/>
            </a:xfrm>
            <a:custGeom>
              <a:avLst/>
              <a:gdLst/>
              <a:ahLst/>
              <a:rect l="l" t="t" r="r" b="b"/>
              <a:pathLst>
                <a:path w="1957" h="1164">
                  <a:moveTo>
                    <a:pt x="725" y="143"/>
                  </a:moveTo>
                  <a:lnTo>
                    <a:pt x="737" y="130"/>
                  </a:lnTo>
                  <a:lnTo>
                    <a:pt x="751" y="117"/>
                  </a:lnTo>
                  <a:lnTo>
                    <a:pt x="768" y="103"/>
                  </a:lnTo>
                  <a:lnTo>
                    <a:pt x="784" y="91"/>
                  </a:lnTo>
                  <a:lnTo>
                    <a:pt x="804" y="78"/>
                  </a:lnTo>
                  <a:lnTo>
                    <a:pt x="846" y="58"/>
                  </a:lnTo>
                  <a:lnTo>
                    <a:pt x="868" y="48"/>
                  </a:lnTo>
                  <a:lnTo>
                    <a:pt x="889" y="39"/>
                  </a:lnTo>
                  <a:lnTo>
                    <a:pt x="914" y="31"/>
                  </a:lnTo>
                  <a:lnTo>
                    <a:pt x="937" y="24"/>
                  </a:lnTo>
                  <a:lnTo>
                    <a:pt x="960" y="16"/>
                  </a:lnTo>
                  <a:lnTo>
                    <a:pt x="984" y="12"/>
                  </a:lnTo>
                  <a:lnTo>
                    <a:pt x="1008" y="6"/>
                  </a:lnTo>
                  <a:lnTo>
                    <a:pt x="1031" y="3"/>
                  </a:lnTo>
                  <a:lnTo>
                    <a:pt x="1054" y="0"/>
                  </a:lnTo>
                  <a:lnTo>
                    <a:pt x="1075" y="0"/>
                  </a:lnTo>
                  <a:lnTo>
                    <a:pt x="1095" y="0"/>
                  </a:lnTo>
                  <a:lnTo>
                    <a:pt x="1116" y="2"/>
                  </a:lnTo>
                  <a:lnTo>
                    <a:pt x="1134" y="5"/>
                  </a:lnTo>
                  <a:lnTo>
                    <a:pt x="1152" y="9"/>
                  </a:lnTo>
                  <a:lnTo>
                    <a:pt x="1166" y="16"/>
                  </a:lnTo>
                  <a:lnTo>
                    <a:pt x="1179" y="24"/>
                  </a:lnTo>
                  <a:lnTo>
                    <a:pt x="1192" y="32"/>
                  </a:lnTo>
                  <a:lnTo>
                    <a:pt x="1201" y="42"/>
                  </a:lnTo>
                  <a:lnTo>
                    <a:pt x="1208" y="55"/>
                  </a:lnTo>
                  <a:lnTo>
                    <a:pt x="1214" y="70"/>
                  </a:lnTo>
                  <a:lnTo>
                    <a:pt x="1215" y="85"/>
                  </a:lnTo>
                  <a:lnTo>
                    <a:pt x="1215" y="103"/>
                  </a:lnTo>
                  <a:lnTo>
                    <a:pt x="1211" y="123"/>
                  </a:lnTo>
                  <a:lnTo>
                    <a:pt x="1203" y="145"/>
                  </a:lnTo>
                  <a:lnTo>
                    <a:pt x="1193" y="169"/>
                  </a:lnTo>
                  <a:lnTo>
                    <a:pt x="1195" y="172"/>
                  </a:lnTo>
                  <a:lnTo>
                    <a:pt x="1201" y="176"/>
                  </a:lnTo>
                  <a:lnTo>
                    <a:pt x="1212" y="179"/>
                  </a:lnTo>
                  <a:lnTo>
                    <a:pt x="1228" y="182"/>
                  </a:lnTo>
                  <a:lnTo>
                    <a:pt x="1273" y="189"/>
                  </a:lnTo>
                  <a:lnTo>
                    <a:pt x="1329" y="198"/>
                  </a:lnTo>
                  <a:lnTo>
                    <a:pt x="1398" y="208"/>
                  </a:lnTo>
                  <a:lnTo>
                    <a:pt x="1473" y="219"/>
                  </a:lnTo>
                  <a:lnTo>
                    <a:pt x="1512" y="225"/>
                  </a:lnTo>
                  <a:lnTo>
                    <a:pt x="1552" y="232"/>
                  </a:lnTo>
                  <a:lnTo>
                    <a:pt x="1593" y="241"/>
                  </a:lnTo>
                  <a:lnTo>
                    <a:pt x="1673" y="260"/>
                  </a:lnTo>
                  <a:lnTo>
                    <a:pt x="1711" y="271"/>
                  </a:lnTo>
                  <a:lnTo>
                    <a:pt x="1747" y="283"/>
                  </a:lnTo>
                  <a:lnTo>
                    <a:pt x="1783" y="297"/>
                  </a:lnTo>
                  <a:lnTo>
                    <a:pt x="1816" y="312"/>
                  </a:lnTo>
                  <a:lnTo>
                    <a:pt x="1848" y="327"/>
                  </a:lnTo>
                  <a:lnTo>
                    <a:pt x="1875" y="345"/>
                  </a:lnTo>
                  <a:lnTo>
                    <a:pt x="1899" y="362"/>
                  </a:lnTo>
                  <a:lnTo>
                    <a:pt x="1920" y="384"/>
                  </a:lnTo>
                  <a:lnTo>
                    <a:pt x="1936" y="404"/>
                  </a:lnTo>
                  <a:lnTo>
                    <a:pt x="1947" y="428"/>
                  </a:lnTo>
                  <a:lnTo>
                    <a:pt x="1954" y="453"/>
                  </a:lnTo>
                  <a:lnTo>
                    <a:pt x="1957" y="479"/>
                  </a:lnTo>
                  <a:lnTo>
                    <a:pt x="1953" y="508"/>
                  </a:lnTo>
                  <a:lnTo>
                    <a:pt x="1943" y="538"/>
                  </a:lnTo>
                  <a:lnTo>
                    <a:pt x="1925" y="571"/>
                  </a:lnTo>
                  <a:lnTo>
                    <a:pt x="1911" y="595"/>
                  </a:lnTo>
                  <a:lnTo>
                    <a:pt x="1895" y="616"/>
                  </a:lnTo>
                  <a:lnTo>
                    <a:pt x="1878" y="636"/>
                  </a:lnTo>
                  <a:lnTo>
                    <a:pt x="1861" y="652"/>
                  </a:lnTo>
                  <a:lnTo>
                    <a:pt x="1845" y="667"/>
                  </a:lnTo>
                  <a:lnTo>
                    <a:pt x="1826" y="680"/>
                  </a:lnTo>
                  <a:lnTo>
                    <a:pt x="1810" y="690"/>
                  </a:lnTo>
                  <a:lnTo>
                    <a:pt x="1790" y="702"/>
                  </a:lnTo>
                  <a:lnTo>
                    <a:pt x="1773" y="711"/>
                  </a:lnTo>
                  <a:lnTo>
                    <a:pt x="1755" y="718"/>
                  </a:lnTo>
                  <a:lnTo>
                    <a:pt x="1737" y="722"/>
                  </a:lnTo>
                  <a:lnTo>
                    <a:pt x="1718" y="728"/>
                  </a:lnTo>
                  <a:lnTo>
                    <a:pt x="1701" y="732"/>
                  </a:lnTo>
                  <a:lnTo>
                    <a:pt x="1683" y="735"/>
                  </a:lnTo>
                  <a:lnTo>
                    <a:pt x="1665" y="738"/>
                  </a:lnTo>
                  <a:lnTo>
                    <a:pt x="1649" y="738"/>
                  </a:lnTo>
                  <a:lnTo>
                    <a:pt x="1587" y="741"/>
                  </a:lnTo>
                  <a:lnTo>
                    <a:pt x="1536" y="744"/>
                  </a:lnTo>
                  <a:lnTo>
                    <a:pt x="1525" y="745"/>
                  </a:lnTo>
                  <a:lnTo>
                    <a:pt x="1509" y="750"/>
                  </a:lnTo>
                  <a:lnTo>
                    <a:pt x="1502" y="754"/>
                  </a:lnTo>
                  <a:lnTo>
                    <a:pt x="1497" y="757"/>
                  </a:lnTo>
                  <a:lnTo>
                    <a:pt x="1493" y="763"/>
                  </a:lnTo>
                  <a:lnTo>
                    <a:pt x="1490" y="768"/>
                  </a:lnTo>
                  <a:lnTo>
                    <a:pt x="1489" y="777"/>
                  </a:lnTo>
                  <a:lnTo>
                    <a:pt x="1489" y="872"/>
                  </a:lnTo>
                  <a:lnTo>
                    <a:pt x="1489" y="914"/>
                  </a:lnTo>
                  <a:lnTo>
                    <a:pt x="1486" y="953"/>
                  </a:lnTo>
                  <a:lnTo>
                    <a:pt x="1484" y="973"/>
                  </a:lnTo>
                  <a:lnTo>
                    <a:pt x="1477" y="1006"/>
                  </a:lnTo>
                  <a:lnTo>
                    <a:pt x="1473" y="1022"/>
                  </a:lnTo>
                  <a:lnTo>
                    <a:pt x="1469" y="1036"/>
                  </a:lnTo>
                  <a:lnTo>
                    <a:pt x="1463" y="1051"/>
                  </a:lnTo>
                  <a:lnTo>
                    <a:pt x="1456" y="1064"/>
                  </a:lnTo>
                  <a:lnTo>
                    <a:pt x="1447" y="1077"/>
                  </a:lnTo>
                  <a:lnTo>
                    <a:pt x="1438" y="1088"/>
                  </a:lnTo>
                  <a:lnTo>
                    <a:pt x="1427" y="1098"/>
                  </a:lnTo>
                  <a:lnTo>
                    <a:pt x="1415" y="1110"/>
                  </a:lnTo>
                  <a:lnTo>
                    <a:pt x="1402" y="1118"/>
                  </a:lnTo>
                  <a:lnTo>
                    <a:pt x="1386" y="1126"/>
                  </a:lnTo>
                  <a:lnTo>
                    <a:pt x="1371" y="1133"/>
                  </a:lnTo>
                  <a:lnTo>
                    <a:pt x="1352" y="1141"/>
                  </a:lnTo>
                  <a:lnTo>
                    <a:pt x="1332" y="1146"/>
                  </a:lnTo>
                  <a:lnTo>
                    <a:pt x="1309" y="1151"/>
                  </a:lnTo>
                  <a:lnTo>
                    <a:pt x="1286" y="1156"/>
                  </a:lnTo>
                  <a:lnTo>
                    <a:pt x="1258" y="1159"/>
                  </a:lnTo>
                  <a:lnTo>
                    <a:pt x="1231" y="1162"/>
                  </a:lnTo>
                  <a:lnTo>
                    <a:pt x="1199" y="1163"/>
                  </a:lnTo>
                  <a:lnTo>
                    <a:pt x="1167" y="1164"/>
                  </a:lnTo>
                  <a:lnTo>
                    <a:pt x="1094" y="1164"/>
                  </a:lnTo>
                  <a:lnTo>
                    <a:pt x="1072" y="1163"/>
                  </a:lnTo>
                  <a:lnTo>
                    <a:pt x="1051" y="1162"/>
                  </a:lnTo>
                  <a:lnTo>
                    <a:pt x="1010" y="1154"/>
                  </a:lnTo>
                  <a:lnTo>
                    <a:pt x="992" y="1149"/>
                  </a:lnTo>
                  <a:lnTo>
                    <a:pt x="971" y="1146"/>
                  </a:lnTo>
                  <a:lnTo>
                    <a:pt x="954" y="1138"/>
                  </a:lnTo>
                  <a:lnTo>
                    <a:pt x="937" y="1133"/>
                  </a:lnTo>
                  <a:lnTo>
                    <a:pt x="921" y="1126"/>
                  </a:lnTo>
                  <a:lnTo>
                    <a:pt x="905" y="1118"/>
                  </a:lnTo>
                  <a:lnTo>
                    <a:pt x="891" y="1110"/>
                  </a:lnTo>
                  <a:lnTo>
                    <a:pt x="878" y="1102"/>
                  </a:lnTo>
                  <a:lnTo>
                    <a:pt x="863" y="1092"/>
                  </a:lnTo>
                  <a:lnTo>
                    <a:pt x="850" y="1082"/>
                  </a:lnTo>
                  <a:lnTo>
                    <a:pt x="827" y="1064"/>
                  </a:lnTo>
                  <a:lnTo>
                    <a:pt x="807" y="1043"/>
                  </a:lnTo>
                  <a:lnTo>
                    <a:pt x="788" y="1022"/>
                  </a:lnTo>
                  <a:lnTo>
                    <a:pt x="773" y="1000"/>
                  </a:lnTo>
                  <a:lnTo>
                    <a:pt x="758" y="979"/>
                  </a:lnTo>
                  <a:lnTo>
                    <a:pt x="747" y="957"/>
                  </a:lnTo>
                  <a:lnTo>
                    <a:pt x="737" y="937"/>
                  </a:lnTo>
                  <a:lnTo>
                    <a:pt x="729" y="917"/>
                  </a:lnTo>
                  <a:lnTo>
                    <a:pt x="724" y="898"/>
                  </a:lnTo>
                  <a:lnTo>
                    <a:pt x="731" y="914"/>
                  </a:lnTo>
                  <a:lnTo>
                    <a:pt x="741" y="930"/>
                  </a:lnTo>
                  <a:lnTo>
                    <a:pt x="751" y="947"/>
                  </a:lnTo>
                  <a:lnTo>
                    <a:pt x="764" y="964"/>
                  </a:lnTo>
                  <a:lnTo>
                    <a:pt x="777" y="980"/>
                  </a:lnTo>
                  <a:lnTo>
                    <a:pt x="791" y="996"/>
                  </a:lnTo>
                  <a:lnTo>
                    <a:pt x="809" y="1012"/>
                  </a:lnTo>
                  <a:lnTo>
                    <a:pt x="827" y="1028"/>
                  </a:lnTo>
                  <a:lnTo>
                    <a:pt x="848" y="1042"/>
                  </a:lnTo>
                  <a:lnTo>
                    <a:pt x="871" y="1055"/>
                  </a:lnTo>
                  <a:lnTo>
                    <a:pt x="882" y="1061"/>
                  </a:lnTo>
                  <a:lnTo>
                    <a:pt x="907" y="1071"/>
                  </a:lnTo>
                  <a:lnTo>
                    <a:pt x="921" y="1077"/>
                  </a:lnTo>
                  <a:lnTo>
                    <a:pt x="948" y="1085"/>
                  </a:lnTo>
                  <a:lnTo>
                    <a:pt x="963" y="1088"/>
                  </a:lnTo>
                  <a:lnTo>
                    <a:pt x="979" y="1091"/>
                  </a:lnTo>
                  <a:lnTo>
                    <a:pt x="1010" y="1095"/>
                  </a:lnTo>
                  <a:lnTo>
                    <a:pt x="1026" y="1097"/>
                  </a:lnTo>
                  <a:lnTo>
                    <a:pt x="1045" y="1098"/>
                  </a:lnTo>
                  <a:lnTo>
                    <a:pt x="1078" y="1098"/>
                  </a:lnTo>
                  <a:lnTo>
                    <a:pt x="1110" y="1098"/>
                  </a:lnTo>
                  <a:lnTo>
                    <a:pt x="1140" y="1098"/>
                  </a:lnTo>
                  <a:lnTo>
                    <a:pt x="1167" y="1095"/>
                  </a:lnTo>
                  <a:lnTo>
                    <a:pt x="1193" y="1094"/>
                  </a:lnTo>
                  <a:lnTo>
                    <a:pt x="1216" y="1091"/>
                  </a:lnTo>
                  <a:lnTo>
                    <a:pt x="1238" y="1087"/>
                  </a:lnTo>
                  <a:lnTo>
                    <a:pt x="1258" y="1082"/>
                  </a:lnTo>
                  <a:lnTo>
                    <a:pt x="1277" y="1077"/>
                  </a:lnTo>
                  <a:lnTo>
                    <a:pt x="1293" y="1071"/>
                  </a:lnTo>
                  <a:lnTo>
                    <a:pt x="1309" y="1064"/>
                  </a:lnTo>
                  <a:lnTo>
                    <a:pt x="1323" y="1056"/>
                  </a:lnTo>
                  <a:lnTo>
                    <a:pt x="1346" y="1039"/>
                  </a:lnTo>
                  <a:lnTo>
                    <a:pt x="1356" y="1029"/>
                  </a:lnTo>
                  <a:lnTo>
                    <a:pt x="1363" y="1019"/>
                  </a:lnTo>
                  <a:lnTo>
                    <a:pt x="1372" y="1007"/>
                  </a:lnTo>
                  <a:lnTo>
                    <a:pt x="1378" y="996"/>
                  </a:lnTo>
                  <a:lnTo>
                    <a:pt x="1384" y="983"/>
                  </a:lnTo>
                  <a:lnTo>
                    <a:pt x="1388" y="968"/>
                  </a:lnTo>
                  <a:lnTo>
                    <a:pt x="1391" y="956"/>
                  </a:lnTo>
                  <a:lnTo>
                    <a:pt x="1398" y="924"/>
                  </a:lnTo>
                  <a:lnTo>
                    <a:pt x="1399" y="908"/>
                  </a:lnTo>
                  <a:lnTo>
                    <a:pt x="1401" y="872"/>
                  </a:lnTo>
                  <a:lnTo>
                    <a:pt x="1402" y="835"/>
                  </a:lnTo>
                  <a:lnTo>
                    <a:pt x="1402" y="748"/>
                  </a:lnTo>
                  <a:lnTo>
                    <a:pt x="1402" y="741"/>
                  </a:lnTo>
                  <a:lnTo>
                    <a:pt x="1405" y="735"/>
                  </a:lnTo>
                  <a:lnTo>
                    <a:pt x="1408" y="729"/>
                  </a:lnTo>
                  <a:lnTo>
                    <a:pt x="1414" y="725"/>
                  </a:lnTo>
                  <a:lnTo>
                    <a:pt x="1418" y="722"/>
                  </a:lnTo>
                  <a:lnTo>
                    <a:pt x="1427" y="721"/>
                  </a:lnTo>
                  <a:lnTo>
                    <a:pt x="1434" y="718"/>
                  </a:lnTo>
                  <a:lnTo>
                    <a:pt x="1444" y="718"/>
                  </a:lnTo>
                  <a:lnTo>
                    <a:pt x="1489" y="715"/>
                  </a:lnTo>
                  <a:lnTo>
                    <a:pt x="1546" y="714"/>
                  </a:lnTo>
                  <a:lnTo>
                    <a:pt x="1561" y="712"/>
                  </a:lnTo>
                  <a:lnTo>
                    <a:pt x="1577" y="711"/>
                  </a:lnTo>
                  <a:lnTo>
                    <a:pt x="1594" y="706"/>
                  </a:lnTo>
                  <a:lnTo>
                    <a:pt x="1610" y="703"/>
                  </a:lnTo>
                  <a:lnTo>
                    <a:pt x="1626" y="699"/>
                  </a:lnTo>
                  <a:lnTo>
                    <a:pt x="1642" y="695"/>
                  </a:lnTo>
                  <a:lnTo>
                    <a:pt x="1659" y="686"/>
                  </a:lnTo>
                  <a:lnTo>
                    <a:pt x="1675" y="679"/>
                  </a:lnTo>
                  <a:lnTo>
                    <a:pt x="1692" y="670"/>
                  </a:lnTo>
                  <a:lnTo>
                    <a:pt x="1708" y="660"/>
                  </a:lnTo>
                  <a:lnTo>
                    <a:pt x="1724" y="647"/>
                  </a:lnTo>
                  <a:lnTo>
                    <a:pt x="1740" y="634"/>
                  </a:lnTo>
                  <a:lnTo>
                    <a:pt x="1754" y="620"/>
                  </a:lnTo>
                  <a:lnTo>
                    <a:pt x="1768" y="603"/>
                  </a:lnTo>
                  <a:lnTo>
                    <a:pt x="1783" y="582"/>
                  </a:lnTo>
                  <a:lnTo>
                    <a:pt x="1797" y="561"/>
                  </a:lnTo>
                  <a:lnTo>
                    <a:pt x="1812" y="532"/>
                  </a:lnTo>
                  <a:lnTo>
                    <a:pt x="1822" y="505"/>
                  </a:lnTo>
                  <a:lnTo>
                    <a:pt x="1826" y="479"/>
                  </a:lnTo>
                  <a:lnTo>
                    <a:pt x="1823" y="456"/>
                  </a:lnTo>
                  <a:lnTo>
                    <a:pt x="1817" y="431"/>
                  </a:lnTo>
                  <a:lnTo>
                    <a:pt x="1806" y="411"/>
                  </a:lnTo>
                  <a:lnTo>
                    <a:pt x="1791" y="391"/>
                  </a:lnTo>
                  <a:lnTo>
                    <a:pt x="1773" y="374"/>
                  </a:lnTo>
                  <a:lnTo>
                    <a:pt x="1751" y="356"/>
                  </a:lnTo>
                  <a:lnTo>
                    <a:pt x="1725" y="342"/>
                  </a:lnTo>
                  <a:lnTo>
                    <a:pt x="1698" y="326"/>
                  </a:lnTo>
                  <a:lnTo>
                    <a:pt x="1669" y="314"/>
                  </a:lnTo>
                  <a:lnTo>
                    <a:pt x="1636" y="302"/>
                  </a:lnTo>
                  <a:lnTo>
                    <a:pt x="1603" y="290"/>
                  </a:lnTo>
                  <a:lnTo>
                    <a:pt x="1567" y="280"/>
                  </a:lnTo>
                  <a:lnTo>
                    <a:pt x="1496" y="263"/>
                  </a:lnTo>
                  <a:lnTo>
                    <a:pt x="1459" y="255"/>
                  </a:lnTo>
                  <a:lnTo>
                    <a:pt x="1423" y="248"/>
                  </a:lnTo>
                  <a:lnTo>
                    <a:pt x="1386" y="242"/>
                  </a:lnTo>
                  <a:lnTo>
                    <a:pt x="1319" y="232"/>
                  </a:lnTo>
                  <a:lnTo>
                    <a:pt x="1258" y="224"/>
                  </a:lnTo>
                  <a:lnTo>
                    <a:pt x="1205" y="217"/>
                  </a:lnTo>
                  <a:lnTo>
                    <a:pt x="1165" y="209"/>
                  </a:lnTo>
                  <a:lnTo>
                    <a:pt x="1152" y="206"/>
                  </a:lnTo>
                  <a:lnTo>
                    <a:pt x="1140" y="204"/>
                  </a:lnTo>
                  <a:lnTo>
                    <a:pt x="1134" y="201"/>
                  </a:lnTo>
                  <a:lnTo>
                    <a:pt x="1134" y="196"/>
                  </a:lnTo>
                  <a:lnTo>
                    <a:pt x="1144" y="176"/>
                  </a:lnTo>
                  <a:lnTo>
                    <a:pt x="1150" y="156"/>
                  </a:lnTo>
                  <a:lnTo>
                    <a:pt x="1153" y="137"/>
                  </a:lnTo>
                  <a:lnTo>
                    <a:pt x="1153" y="121"/>
                  </a:lnTo>
                  <a:lnTo>
                    <a:pt x="1152" y="107"/>
                  </a:lnTo>
                  <a:lnTo>
                    <a:pt x="1149" y="94"/>
                  </a:lnTo>
                  <a:lnTo>
                    <a:pt x="1140" y="83"/>
                  </a:lnTo>
                  <a:lnTo>
                    <a:pt x="1133" y="74"/>
                  </a:lnTo>
                  <a:lnTo>
                    <a:pt x="1121" y="65"/>
                  </a:lnTo>
                  <a:lnTo>
                    <a:pt x="1110" y="60"/>
                  </a:lnTo>
                  <a:lnTo>
                    <a:pt x="1095" y="54"/>
                  </a:lnTo>
                  <a:lnTo>
                    <a:pt x="1081" y="49"/>
                  </a:lnTo>
                  <a:lnTo>
                    <a:pt x="1064" y="47"/>
                  </a:lnTo>
                  <a:lnTo>
                    <a:pt x="1046" y="45"/>
                  </a:lnTo>
                  <a:lnTo>
                    <a:pt x="1008" y="45"/>
                  </a:lnTo>
                  <a:lnTo>
                    <a:pt x="987" y="48"/>
                  </a:lnTo>
                  <a:lnTo>
                    <a:pt x="966" y="51"/>
                  </a:lnTo>
                  <a:lnTo>
                    <a:pt x="944" y="55"/>
                  </a:lnTo>
                  <a:lnTo>
                    <a:pt x="902" y="65"/>
                  </a:lnTo>
                  <a:lnTo>
                    <a:pt x="881" y="72"/>
                  </a:lnTo>
                  <a:lnTo>
                    <a:pt x="859" y="80"/>
                  </a:lnTo>
                  <a:lnTo>
                    <a:pt x="839" y="87"/>
                  </a:lnTo>
                  <a:lnTo>
                    <a:pt x="819" y="97"/>
                  </a:lnTo>
                  <a:lnTo>
                    <a:pt x="800" y="106"/>
                  </a:lnTo>
                  <a:lnTo>
                    <a:pt x="781" y="117"/>
                  </a:lnTo>
                  <a:lnTo>
                    <a:pt x="764" y="127"/>
                  </a:lnTo>
                  <a:lnTo>
                    <a:pt x="750" y="139"/>
                  </a:lnTo>
                  <a:lnTo>
                    <a:pt x="734" y="150"/>
                  </a:lnTo>
                  <a:lnTo>
                    <a:pt x="721" y="162"/>
                  </a:lnTo>
                  <a:lnTo>
                    <a:pt x="709" y="175"/>
                  </a:lnTo>
                  <a:lnTo>
                    <a:pt x="708" y="165"/>
                  </a:lnTo>
                  <a:lnTo>
                    <a:pt x="703" y="156"/>
                  </a:lnTo>
                  <a:lnTo>
                    <a:pt x="698" y="147"/>
                  </a:lnTo>
                  <a:lnTo>
                    <a:pt x="689" y="139"/>
                  </a:lnTo>
                  <a:lnTo>
                    <a:pt x="678" y="132"/>
                  </a:lnTo>
                  <a:lnTo>
                    <a:pt x="665" y="124"/>
                  </a:lnTo>
                  <a:lnTo>
                    <a:pt x="649" y="119"/>
                  </a:lnTo>
                  <a:lnTo>
                    <a:pt x="633" y="113"/>
                  </a:lnTo>
                  <a:lnTo>
                    <a:pt x="616" y="107"/>
                  </a:lnTo>
                  <a:lnTo>
                    <a:pt x="575" y="98"/>
                  </a:lnTo>
                  <a:lnTo>
                    <a:pt x="554" y="96"/>
                  </a:lnTo>
                  <a:lnTo>
                    <a:pt x="510" y="91"/>
                  </a:lnTo>
                  <a:lnTo>
                    <a:pt x="487" y="91"/>
                  </a:lnTo>
                  <a:lnTo>
                    <a:pt x="463" y="91"/>
                  </a:lnTo>
                  <a:lnTo>
                    <a:pt x="440" y="91"/>
                  </a:lnTo>
                  <a:lnTo>
                    <a:pt x="418" y="94"/>
                  </a:lnTo>
                  <a:lnTo>
                    <a:pt x="395" y="96"/>
                  </a:lnTo>
                  <a:lnTo>
                    <a:pt x="373" y="98"/>
                  </a:lnTo>
                  <a:lnTo>
                    <a:pt x="352" y="103"/>
                  </a:lnTo>
                  <a:lnTo>
                    <a:pt x="332" y="108"/>
                  </a:lnTo>
                  <a:lnTo>
                    <a:pt x="313" y="114"/>
                  </a:lnTo>
                  <a:lnTo>
                    <a:pt x="294" y="121"/>
                  </a:lnTo>
                  <a:lnTo>
                    <a:pt x="278" y="130"/>
                  </a:lnTo>
                  <a:lnTo>
                    <a:pt x="264" y="140"/>
                  </a:lnTo>
                  <a:lnTo>
                    <a:pt x="250" y="150"/>
                  </a:lnTo>
                  <a:lnTo>
                    <a:pt x="239" y="162"/>
                  </a:lnTo>
                  <a:lnTo>
                    <a:pt x="229" y="175"/>
                  </a:lnTo>
                  <a:lnTo>
                    <a:pt x="224" y="189"/>
                  </a:lnTo>
                  <a:lnTo>
                    <a:pt x="219" y="204"/>
                  </a:lnTo>
                  <a:lnTo>
                    <a:pt x="218" y="219"/>
                  </a:lnTo>
                  <a:lnTo>
                    <a:pt x="219" y="228"/>
                  </a:lnTo>
                  <a:lnTo>
                    <a:pt x="224" y="238"/>
                  </a:lnTo>
                  <a:lnTo>
                    <a:pt x="228" y="250"/>
                  </a:lnTo>
                  <a:lnTo>
                    <a:pt x="237" y="263"/>
                  </a:lnTo>
                  <a:lnTo>
                    <a:pt x="255" y="291"/>
                  </a:lnTo>
                  <a:lnTo>
                    <a:pt x="275" y="322"/>
                  </a:lnTo>
                  <a:lnTo>
                    <a:pt x="294" y="351"/>
                  </a:lnTo>
                  <a:lnTo>
                    <a:pt x="309" y="375"/>
                  </a:lnTo>
                  <a:lnTo>
                    <a:pt x="314" y="385"/>
                  </a:lnTo>
                  <a:lnTo>
                    <a:pt x="317" y="392"/>
                  </a:lnTo>
                  <a:lnTo>
                    <a:pt x="317" y="397"/>
                  </a:lnTo>
                  <a:lnTo>
                    <a:pt x="314" y="398"/>
                  </a:lnTo>
                  <a:lnTo>
                    <a:pt x="294" y="398"/>
                  </a:lnTo>
                  <a:lnTo>
                    <a:pt x="273" y="399"/>
                  </a:lnTo>
                  <a:lnTo>
                    <a:pt x="252" y="401"/>
                  </a:lnTo>
                  <a:lnTo>
                    <a:pt x="229" y="404"/>
                  </a:lnTo>
                  <a:lnTo>
                    <a:pt x="206" y="408"/>
                  </a:lnTo>
                  <a:lnTo>
                    <a:pt x="185" y="414"/>
                  </a:lnTo>
                  <a:lnTo>
                    <a:pt x="163" y="420"/>
                  </a:lnTo>
                  <a:lnTo>
                    <a:pt x="143" y="428"/>
                  </a:lnTo>
                  <a:lnTo>
                    <a:pt x="123" y="435"/>
                  </a:lnTo>
                  <a:lnTo>
                    <a:pt x="107" y="446"/>
                  </a:lnTo>
                  <a:lnTo>
                    <a:pt x="98" y="451"/>
                  </a:lnTo>
                  <a:lnTo>
                    <a:pt x="91" y="456"/>
                  </a:lnTo>
                  <a:lnTo>
                    <a:pt x="84" y="463"/>
                  </a:lnTo>
                  <a:lnTo>
                    <a:pt x="77" y="469"/>
                  </a:lnTo>
                  <a:lnTo>
                    <a:pt x="72" y="474"/>
                  </a:lnTo>
                  <a:lnTo>
                    <a:pt x="67" y="483"/>
                  </a:lnTo>
                  <a:lnTo>
                    <a:pt x="62" y="490"/>
                  </a:lnTo>
                  <a:lnTo>
                    <a:pt x="59" y="497"/>
                  </a:lnTo>
                  <a:lnTo>
                    <a:pt x="55" y="513"/>
                  </a:lnTo>
                  <a:lnTo>
                    <a:pt x="54" y="522"/>
                  </a:lnTo>
                  <a:lnTo>
                    <a:pt x="54" y="532"/>
                  </a:lnTo>
                  <a:lnTo>
                    <a:pt x="59" y="580"/>
                  </a:lnTo>
                  <a:lnTo>
                    <a:pt x="68" y="621"/>
                  </a:lnTo>
                  <a:lnTo>
                    <a:pt x="78" y="659"/>
                  </a:lnTo>
                  <a:lnTo>
                    <a:pt x="91" y="693"/>
                  </a:lnTo>
                  <a:lnTo>
                    <a:pt x="107" y="724"/>
                  </a:lnTo>
                  <a:lnTo>
                    <a:pt x="127" y="750"/>
                  </a:lnTo>
                  <a:lnTo>
                    <a:pt x="147" y="773"/>
                  </a:lnTo>
                  <a:lnTo>
                    <a:pt x="169" y="791"/>
                  </a:lnTo>
                  <a:lnTo>
                    <a:pt x="193" y="809"/>
                  </a:lnTo>
                  <a:lnTo>
                    <a:pt x="219" y="820"/>
                  </a:lnTo>
                  <a:lnTo>
                    <a:pt x="247" y="832"/>
                  </a:lnTo>
                  <a:lnTo>
                    <a:pt x="274" y="839"/>
                  </a:lnTo>
                  <a:lnTo>
                    <a:pt x="303" y="846"/>
                  </a:lnTo>
                  <a:lnTo>
                    <a:pt x="332" y="849"/>
                  </a:lnTo>
                  <a:lnTo>
                    <a:pt x="362" y="852"/>
                  </a:lnTo>
                  <a:lnTo>
                    <a:pt x="420" y="852"/>
                  </a:lnTo>
                  <a:lnTo>
                    <a:pt x="450" y="849"/>
                  </a:lnTo>
                  <a:lnTo>
                    <a:pt x="479" y="846"/>
                  </a:lnTo>
                  <a:lnTo>
                    <a:pt x="506" y="842"/>
                  </a:lnTo>
                  <a:lnTo>
                    <a:pt x="558" y="832"/>
                  </a:lnTo>
                  <a:lnTo>
                    <a:pt x="605" y="823"/>
                  </a:lnTo>
                  <a:lnTo>
                    <a:pt x="644" y="814"/>
                  </a:lnTo>
                  <a:lnTo>
                    <a:pt x="675" y="809"/>
                  </a:lnTo>
                  <a:lnTo>
                    <a:pt x="686" y="809"/>
                  </a:lnTo>
                  <a:lnTo>
                    <a:pt x="695" y="809"/>
                  </a:lnTo>
                  <a:lnTo>
                    <a:pt x="701" y="811"/>
                  </a:lnTo>
                  <a:lnTo>
                    <a:pt x="702" y="816"/>
                  </a:lnTo>
                  <a:lnTo>
                    <a:pt x="702" y="827"/>
                  </a:lnTo>
                  <a:lnTo>
                    <a:pt x="706" y="843"/>
                  </a:lnTo>
                  <a:lnTo>
                    <a:pt x="696" y="843"/>
                  </a:lnTo>
                  <a:lnTo>
                    <a:pt x="683" y="845"/>
                  </a:lnTo>
                  <a:lnTo>
                    <a:pt x="669" y="847"/>
                  </a:lnTo>
                  <a:lnTo>
                    <a:pt x="652" y="852"/>
                  </a:lnTo>
                  <a:lnTo>
                    <a:pt x="611" y="859"/>
                  </a:lnTo>
                  <a:lnTo>
                    <a:pt x="538" y="875"/>
                  </a:lnTo>
                  <a:lnTo>
                    <a:pt x="483" y="882"/>
                  </a:lnTo>
                  <a:lnTo>
                    <a:pt x="424" y="889"/>
                  </a:lnTo>
                  <a:lnTo>
                    <a:pt x="395" y="891"/>
                  </a:lnTo>
                  <a:lnTo>
                    <a:pt x="335" y="891"/>
                  </a:lnTo>
                  <a:lnTo>
                    <a:pt x="303" y="889"/>
                  </a:lnTo>
                  <a:lnTo>
                    <a:pt x="274" y="885"/>
                  </a:lnTo>
                  <a:lnTo>
                    <a:pt x="244" y="879"/>
                  </a:lnTo>
                  <a:lnTo>
                    <a:pt x="216" y="871"/>
                  </a:lnTo>
                  <a:lnTo>
                    <a:pt x="189" y="859"/>
                  </a:lnTo>
                  <a:lnTo>
                    <a:pt x="162" y="847"/>
                  </a:lnTo>
                  <a:lnTo>
                    <a:pt x="137" y="832"/>
                  </a:lnTo>
                  <a:lnTo>
                    <a:pt x="113" y="813"/>
                  </a:lnTo>
                  <a:lnTo>
                    <a:pt x="91" y="791"/>
                  </a:lnTo>
                  <a:lnTo>
                    <a:pt x="71" y="767"/>
                  </a:lnTo>
                  <a:lnTo>
                    <a:pt x="52" y="738"/>
                  </a:lnTo>
                  <a:lnTo>
                    <a:pt x="36" y="706"/>
                  </a:lnTo>
                  <a:lnTo>
                    <a:pt x="23" y="670"/>
                  </a:lnTo>
                  <a:lnTo>
                    <a:pt x="13" y="631"/>
                  </a:lnTo>
                  <a:lnTo>
                    <a:pt x="5" y="587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2" y="518"/>
                  </a:lnTo>
                  <a:lnTo>
                    <a:pt x="3" y="509"/>
                  </a:lnTo>
                  <a:lnTo>
                    <a:pt x="5" y="500"/>
                  </a:lnTo>
                  <a:lnTo>
                    <a:pt x="13" y="483"/>
                  </a:lnTo>
                  <a:lnTo>
                    <a:pt x="32" y="461"/>
                  </a:lnTo>
                  <a:lnTo>
                    <a:pt x="41" y="456"/>
                  </a:lnTo>
                  <a:lnTo>
                    <a:pt x="48" y="448"/>
                  </a:lnTo>
                  <a:lnTo>
                    <a:pt x="58" y="443"/>
                  </a:lnTo>
                  <a:lnTo>
                    <a:pt x="77" y="431"/>
                  </a:lnTo>
                  <a:lnTo>
                    <a:pt x="98" y="424"/>
                  </a:lnTo>
                  <a:lnTo>
                    <a:pt x="121" y="415"/>
                  </a:lnTo>
                  <a:lnTo>
                    <a:pt x="144" y="408"/>
                  </a:lnTo>
                  <a:lnTo>
                    <a:pt x="169" y="402"/>
                  </a:lnTo>
                  <a:lnTo>
                    <a:pt x="193" y="398"/>
                  </a:lnTo>
                  <a:lnTo>
                    <a:pt x="242" y="392"/>
                  </a:lnTo>
                  <a:lnTo>
                    <a:pt x="265" y="391"/>
                  </a:lnTo>
                  <a:lnTo>
                    <a:pt x="287" y="391"/>
                  </a:lnTo>
                  <a:lnTo>
                    <a:pt x="290" y="389"/>
                  </a:lnTo>
                  <a:lnTo>
                    <a:pt x="291" y="388"/>
                  </a:lnTo>
                  <a:lnTo>
                    <a:pt x="291" y="384"/>
                  </a:lnTo>
                  <a:lnTo>
                    <a:pt x="287" y="376"/>
                  </a:lnTo>
                  <a:lnTo>
                    <a:pt x="265" y="339"/>
                  </a:lnTo>
                  <a:lnTo>
                    <a:pt x="221" y="274"/>
                  </a:lnTo>
                  <a:lnTo>
                    <a:pt x="201" y="241"/>
                  </a:lnTo>
                  <a:lnTo>
                    <a:pt x="193" y="227"/>
                  </a:lnTo>
                  <a:lnTo>
                    <a:pt x="186" y="212"/>
                  </a:lnTo>
                  <a:lnTo>
                    <a:pt x="182" y="202"/>
                  </a:lnTo>
                  <a:lnTo>
                    <a:pt x="182" y="192"/>
                  </a:lnTo>
                  <a:lnTo>
                    <a:pt x="182" y="175"/>
                  </a:lnTo>
                  <a:lnTo>
                    <a:pt x="188" y="159"/>
                  </a:lnTo>
                  <a:lnTo>
                    <a:pt x="195" y="143"/>
                  </a:lnTo>
                  <a:lnTo>
                    <a:pt x="205" y="130"/>
                  </a:lnTo>
                  <a:lnTo>
                    <a:pt x="216" y="117"/>
                  </a:lnTo>
                  <a:lnTo>
                    <a:pt x="231" y="106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6" y="78"/>
                  </a:lnTo>
                  <a:lnTo>
                    <a:pt x="307" y="71"/>
                  </a:lnTo>
                  <a:lnTo>
                    <a:pt x="353" y="60"/>
                  </a:lnTo>
                  <a:lnTo>
                    <a:pt x="376" y="57"/>
                  </a:lnTo>
                  <a:lnTo>
                    <a:pt x="402" y="54"/>
                  </a:lnTo>
                  <a:lnTo>
                    <a:pt x="428" y="51"/>
                  </a:lnTo>
                  <a:lnTo>
                    <a:pt x="453" y="51"/>
                  </a:lnTo>
                  <a:lnTo>
                    <a:pt x="479" y="51"/>
                  </a:lnTo>
                  <a:lnTo>
                    <a:pt x="503" y="51"/>
                  </a:lnTo>
                  <a:lnTo>
                    <a:pt x="528" y="54"/>
                  </a:lnTo>
                  <a:lnTo>
                    <a:pt x="577" y="60"/>
                  </a:lnTo>
                  <a:lnTo>
                    <a:pt x="598" y="64"/>
                  </a:lnTo>
                  <a:lnTo>
                    <a:pt x="620" y="70"/>
                  </a:lnTo>
                  <a:lnTo>
                    <a:pt x="639" y="75"/>
                  </a:lnTo>
                  <a:lnTo>
                    <a:pt x="657" y="81"/>
                  </a:lnTo>
                  <a:lnTo>
                    <a:pt x="675" y="88"/>
                  </a:lnTo>
                  <a:lnTo>
                    <a:pt x="689" y="96"/>
                  </a:lnTo>
                  <a:lnTo>
                    <a:pt x="701" y="104"/>
                  </a:lnTo>
                  <a:lnTo>
                    <a:pt x="711" y="114"/>
                  </a:lnTo>
                  <a:lnTo>
                    <a:pt x="718" y="123"/>
                  </a:lnTo>
                  <a:lnTo>
                    <a:pt x="722" y="133"/>
                  </a:lnTo>
                  <a:lnTo>
                    <a:pt x="725" y="143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891480" y="3011400"/>
            <a:ext cx="1079280" cy="777960"/>
            <a:chOff x="6891480" y="3011400"/>
            <a:chExt cx="1079280" cy="777960"/>
          </a:xfrm>
        </p:grpSpPr>
        <p:sp>
          <p:nvSpPr>
            <p:cNvPr id="541" name=""/>
            <p:cNvSpPr/>
            <p:nvPr/>
          </p:nvSpPr>
          <p:spPr>
            <a:xfrm>
              <a:off x="6978600" y="3338640"/>
              <a:ext cx="987480" cy="45072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1480" y="3011400"/>
              <a:ext cx="1079280" cy="75420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afb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31840" y="1571760"/>
            <a:ext cx="1077840" cy="747720"/>
            <a:chOff x="1131840" y="1571760"/>
            <a:chExt cx="1077840" cy="747720"/>
          </a:xfrm>
        </p:grpSpPr>
        <p:sp>
          <p:nvSpPr>
            <p:cNvPr id="544" name=""/>
            <p:cNvSpPr/>
            <p:nvPr/>
          </p:nvSpPr>
          <p:spPr>
            <a:xfrm>
              <a:off x="1133640" y="1739880"/>
              <a:ext cx="1014120" cy="579600"/>
            </a:xfrm>
            <a:custGeom>
              <a:avLst/>
              <a:gdLst/>
              <a:ahLst/>
              <a:rect l="l" t="t" r="r" b="b"/>
              <a:pathLst>
                <a:path w="1916" h="1097">
                  <a:moveTo>
                    <a:pt x="676" y="0"/>
                  </a:moveTo>
                  <a:lnTo>
                    <a:pt x="1916" y="395"/>
                  </a:lnTo>
                  <a:lnTo>
                    <a:pt x="1775" y="511"/>
                  </a:lnTo>
                  <a:lnTo>
                    <a:pt x="1763" y="520"/>
                  </a:lnTo>
                  <a:lnTo>
                    <a:pt x="1745" y="531"/>
                  </a:lnTo>
                  <a:lnTo>
                    <a:pt x="1661" y="952"/>
                  </a:lnTo>
                  <a:lnTo>
                    <a:pt x="1552" y="1014"/>
                  </a:lnTo>
                  <a:lnTo>
                    <a:pt x="1538" y="1022"/>
                  </a:lnTo>
                  <a:lnTo>
                    <a:pt x="1520" y="1030"/>
                  </a:lnTo>
                  <a:lnTo>
                    <a:pt x="1505" y="1037"/>
                  </a:lnTo>
                  <a:lnTo>
                    <a:pt x="1470" y="1050"/>
                  </a:lnTo>
                  <a:lnTo>
                    <a:pt x="1453" y="1054"/>
                  </a:lnTo>
                  <a:lnTo>
                    <a:pt x="1433" y="1060"/>
                  </a:lnTo>
                  <a:lnTo>
                    <a:pt x="1395" y="1067"/>
                  </a:lnTo>
                  <a:lnTo>
                    <a:pt x="1315" y="1076"/>
                  </a:lnTo>
                  <a:lnTo>
                    <a:pt x="1246" y="1074"/>
                  </a:lnTo>
                  <a:lnTo>
                    <a:pt x="1187" y="1067"/>
                  </a:lnTo>
                  <a:lnTo>
                    <a:pt x="1132" y="1054"/>
                  </a:lnTo>
                  <a:lnTo>
                    <a:pt x="1092" y="1040"/>
                  </a:lnTo>
                  <a:lnTo>
                    <a:pt x="1026" y="1009"/>
                  </a:lnTo>
                  <a:lnTo>
                    <a:pt x="994" y="986"/>
                  </a:lnTo>
                  <a:lnTo>
                    <a:pt x="972" y="969"/>
                  </a:lnTo>
                  <a:lnTo>
                    <a:pt x="945" y="994"/>
                  </a:lnTo>
                  <a:lnTo>
                    <a:pt x="915" y="1017"/>
                  </a:lnTo>
                  <a:lnTo>
                    <a:pt x="883" y="1037"/>
                  </a:lnTo>
                  <a:lnTo>
                    <a:pt x="849" y="1053"/>
                  </a:lnTo>
                  <a:lnTo>
                    <a:pt x="811" y="1066"/>
                  </a:lnTo>
                  <a:lnTo>
                    <a:pt x="774" y="1077"/>
                  </a:lnTo>
                  <a:lnTo>
                    <a:pt x="734" y="1086"/>
                  </a:lnTo>
                  <a:lnTo>
                    <a:pt x="690" y="1091"/>
                  </a:lnTo>
                  <a:lnTo>
                    <a:pt x="649" y="1097"/>
                  </a:lnTo>
                  <a:lnTo>
                    <a:pt x="562" y="1097"/>
                  </a:lnTo>
                  <a:lnTo>
                    <a:pt x="519" y="1093"/>
                  </a:lnTo>
                  <a:lnTo>
                    <a:pt x="478" y="1089"/>
                  </a:lnTo>
                  <a:lnTo>
                    <a:pt x="434" y="1081"/>
                  </a:lnTo>
                  <a:lnTo>
                    <a:pt x="394" y="1073"/>
                  </a:lnTo>
                  <a:lnTo>
                    <a:pt x="355" y="1063"/>
                  </a:lnTo>
                  <a:lnTo>
                    <a:pt x="317" y="1050"/>
                  </a:lnTo>
                  <a:lnTo>
                    <a:pt x="281" y="1035"/>
                  </a:lnTo>
                  <a:lnTo>
                    <a:pt x="247" y="1018"/>
                  </a:lnTo>
                  <a:lnTo>
                    <a:pt x="217" y="1001"/>
                  </a:lnTo>
                  <a:lnTo>
                    <a:pt x="187" y="982"/>
                  </a:lnTo>
                  <a:lnTo>
                    <a:pt x="163" y="962"/>
                  </a:lnTo>
                  <a:lnTo>
                    <a:pt x="142" y="940"/>
                  </a:lnTo>
                  <a:lnTo>
                    <a:pt x="125" y="917"/>
                  </a:lnTo>
                  <a:lnTo>
                    <a:pt x="112" y="893"/>
                  </a:lnTo>
                  <a:lnTo>
                    <a:pt x="105" y="867"/>
                  </a:lnTo>
                  <a:lnTo>
                    <a:pt x="88" y="792"/>
                  </a:lnTo>
                  <a:lnTo>
                    <a:pt x="147" y="621"/>
                  </a:lnTo>
                  <a:lnTo>
                    <a:pt x="99" y="596"/>
                  </a:lnTo>
                  <a:lnTo>
                    <a:pt x="73" y="573"/>
                  </a:lnTo>
                  <a:lnTo>
                    <a:pt x="55" y="550"/>
                  </a:lnTo>
                  <a:lnTo>
                    <a:pt x="45" y="537"/>
                  </a:lnTo>
                  <a:lnTo>
                    <a:pt x="37" y="524"/>
                  </a:lnTo>
                  <a:lnTo>
                    <a:pt x="32" y="511"/>
                  </a:lnTo>
                  <a:lnTo>
                    <a:pt x="23" y="485"/>
                  </a:lnTo>
                  <a:lnTo>
                    <a:pt x="0" y="376"/>
                  </a:lnTo>
                  <a:lnTo>
                    <a:pt x="659" y="82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84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31840" y="1571760"/>
              <a:ext cx="1077840" cy="718920"/>
            </a:xfrm>
            <a:custGeom>
              <a:avLst/>
              <a:gdLst/>
              <a:ahLst/>
              <a:rect l="l" t="t" r="r" b="b"/>
              <a:pathLst>
                <a:path w="2039" h="1358">
                  <a:moveTo>
                    <a:pt x="673" y="402"/>
                  </a:moveTo>
                  <a:lnTo>
                    <a:pt x="673" y="359"/>
                  </a:lnTo>
                  <a:lnTo>
                    <a:pt x="680" y="317"/>
                  </a:lnTo>
                  <a:lnTo>
                    <a:pt x="693" y="280"/>
                  </a:lnTo>
                  <a:lnTo>
                    <a:pt x="709" y="242"/>
                  </a:lnTo>
                  <a:lnTo>
                    <a:pt x="730" y="209"/>
                  </a:lnTo>
                  <a:lnTo>
                    <a:pt x="756" y="177"/>
                  </a:lnTo>
                  <a:lnTo>
                    <a:pt x="787" y="147"/>
                  </a:lnTo>
                  <a:lnTo>
                    <a:pt x="820" y="121"/>
                  </a:lnTo>
                  <a:lnTo>
                    <a:pt x="856" y="97"/>
                  </a:lnTo>
                  <a:lnTo>
                    <a:pt x="893" y="75"/>
                  </a:lnTo>
                  <a:lnTo>
                    <a:pt x="936" y="58"/>
                  </a:lnTo>
                  <a:lnTo>
                    <a:pt x="978" y="42"/>
                  </a:lnTo>
                  <a:lnTo>
                    <a:pt x="1022" y="26"/>
                  </a:lnTo>
                  <a:lnTo>
                    <a:pt x="1066" y="18"/>
                  </a:lnTo>
                  <a:lnTo>
                    <a:pt x="1113" y="9"/>
                  </a:lnTo>
                  <a:lnTo>
                    <a:pt x="1159" y="2"/>
                  </a:lnTo>
                  <a:lnTo>
                    <a:pt x="1204" y="0"/>
                  </a:lnTo>
                  <a:lnTo>
                    <a:pt x="1250" y="0"/>
                  </a:lnTo>
                  <a:lnTo>
                    <a:pt x="1294" y="2"/>
                  </a:lnTo>
                  <a:lnTo>
                    <a:pt x="1336" y="9"/>
                  </a:lnTo>
                  <a:lnTo>
                    <a:pt x="1376" y="18"/>
                  </a:lnTo>
                  <a:lnTo>
                    <a:pt x="1416" y="29"/>
                  </a:lnTo>
                  <a:lnTo>
                    <a:pt x="1452" y="44"/>
                  </a:lnTo>
                  <a:lnTo>
                    <a:pt x="1486" y="61"/>
                  </a:lnTo>
                  <a:lnTo>
                    <a:pt x="1516" y="81"/>
                  </a:lnTo>
                  <a:lnTo>
                    <a:pt x="1542" y="105"/>
                  </a:lnTo>
                  <a:lnTo>
                    <a:pt x="1565" y="131"/>
                  </a:lnTo>
                  <a:lnTo>
                    <a:pt x="1582" y="160"/>
                  </a:lnTo>
                  <a:lnTo>
                    <a:pt x="1593" y="193"/>
                  </a:lnTo>
                  <a:lnTo>
                    <a:pt x="1602" y="229"/>
                  </a:lnTo>
                  <a:lnTo>
                    <a:pt x="1603" y="268"/>
                  </a:lnTo>
                  <a:lnTo>
                    <a:pt x="1598" y="310"/>
                  </a:lnTo>
                  <a:lnTo>
                    <a:pt x="1609" y="307"/>
                  </a:lnTo>
                  <a:lnTo>
                    <a:pt x="1622" y="304"/>
                  </a:lnTo>
                  <a:lnTo>
                    <a:pt x="1662" y="297"/>
                  </a:lnTo>
                  <a:lnTo>
                    <a:pt x="1700" y="293"/>
                  </a:lnTo>
                  <a:lnTo>
                    <a:pt x="1737" y="291"/>
                  </a:lnTo>
                  <a:lnTo>
                    <a:pt x="1772" y="293"/>
                  </a:lnTo>
                  <a:lnTo>
                    <a:pt x="1806" y="296"/>
                  </a:lnTo>
                  <a:lnTo>
                    <a:pt x="1839" y="303"/>
                  </a:lnTo>
                  <a:lnTo>
                    <a:pt x="1870" y="310"/>
                  </a:lnTo>
                  <a:lnTo>
                    <a:pt x="1900" y="320"/>
                  </a:lnTo>
                  <a:lnTo>
                    <a:pt x="1927" y="333"/>
                  </a:lnTo>
                  <a:lnTo>
                    <a:pt x="1952" y="347"/>
                  </a:lnTo>
                  <a:lnTo>
                    <a:pt x="1973" y="365"/>
                  </a:lnTo>
                  <a:lnTo>
                    <a:pt x="1992" y="383"/>
                  </a:lnTo>
                  <a:lnTo>
                    <a:pt x="2000" y="393"/>
                  </a:lnTo>
                  <a:lnTo>
                    <a:pt x="2009" y="403"/>
                  </a:lnTo>
                  <a:lnTo>
                    <a:pt x="2016" y="415"/>
                  </a:lnTo>
                  <a:lnTo>
                    <a:pt x="2022" y="427"/>
                  </a:lnTo>
                  <a:lnTo>
                    <a:pt x="2028" y="438"/>
                  </a:lnTo>
                  <a:lnTo>
                    <a:pt x="2031" y="451"/>
                  </a:lnTo>
                  <a:lnTo>
                    <a:pt x="2036" y="463"/>
                  </a:lnTo>
                  <a:lnTo>
                    <a:pt x="2039" y="488"/>
                  </a:lnTo>
                  <a:lnTo>
                    <a:pt x="2039" y="526"/>
                  </a:lnTo>
                  <a:lnTo>
                    <a:pt x="2035" y="550"/>
                  </a:lnTo>
                  <a:lnTo>
                    <a:pt x="2026" y="576"/>
                  </a:lnTo>
                  <a:lnTo>
                    <a:pt x="2015" y="601"/>
                  </a:lnTo>
                  <a:lnTo>
                    <a:pt x="2002" y="624"/>
                  </a:lnTo>
                  <a:lnTo>
                    <a:pt x="1986" y="647"/>
                  </a:lnTo>
                  <a:lnTo>
                    <a:pt x="1966" y="668"/>
                  </a:lnTo>
                  <a:lnTo>
                    <a:pt x="1944" y="691"/>
                  </a:lnTo>
                  <a:lnTo>
                    <a:pt x="1920" y="712"/>
                  </a:lnTo>
                  <a:lnTo>
                    <a:pt x="1894" y="730"/>
                  </a:lnTo>
                  <a:lnTo>
                    <a:pt x="1865" y="749"/>
                  </a:lnTo>
                  <a:lnTo>
                    <a:pt x="1836" y="765"/>
                  </a:lnTo>
                  <a:lnTo>
                    <a:pt x="1803" y="779"/>
                  </a:lnTo>
                  <a:lnTo>
                    <a:pt x="1770" y="792"/>
                  </a:lnTo>
                  <a:lnTo>
                    <a:pt x="1734" y="802"/>
                  </a:lnTo>
                  <a:lnTo>
                    <a:pt x="1734" y="804"/>
                  </a:lnTo>
                  <a:lnTo>
                    <a:pt x="1742" y="824"/>
                  </a:lnTo>
                  <a:lnTo>
                    <a:pt x="1749" y="844"/>
                  </a:lnTo>
                  <a:lnTo>
                    <a:pt x="1753" y="863"/>
                  </a:lnTo>
                  <a:lnTo>
                    <a:pt x="1757" y="881"/>
                  </a:lnTo>
                  <a:lnTo>
                    <a:pt x="1772" y="899"/>
                  </a:lnTo>
                  <a:lnTo>
                    <a:pt x="1788" y="916"/>
                  </a:lnTo>
                  <a:lnTo>
                    <a:pt x="1799" y="936"/>
                  </a:lnTo>
                  <a:lnTo>
                    <a:pt x="1808" y="956"/>
                  </a:lnTo>
                  <a:lnTo>
                    <a:pt x="1816" y="975"/>
                  </a:lnTo>
                  <a:lnTo>
                    <a:pt x="1821" y="997"/>
                  </a:lnTo>
                  <a:lnTo>
                    <a:pt x="1825" y="1018"/>
                  </a:lnTo>
                  <a:lnTo>
                    <a:pt x="1826" y="1038"/>
                  </a:lnTo>
                  <a:lnTo>
                    <a:pt x="1825" y="1056"/>
                  </a:lnTo>
                  <a:lnTo>
                    <a:pt x="1823" y="1070"/>
                  </a:lnTo>
                  <a:lnTo>
                    <a:pt x="1821" y="1084"/>
                  </a:lnTo>
                  <a:lnTo>
                    <a:pt x="1816" y="1099"/>
                  </a:lnTo>
                  <a:lnTo>
                    <a:pt x="1812" y="1113"/>
                  </a:lnTo>
                  <a:lnTo>
                    <a:pt x="1806" y="1126"/>
                  </a:lnTo>
                  <a:lnTo>
                    <a:pt x="1799" y="1142"/>
                  </a:lnTo>
                  <a:lnTo>
                    <a:pt x="1782" y="1168"/>
                  </a:lnTo>
                  <a:lnTo>
                    <a:pt x="1772" y="1181"/>
                  </a:lnTo>
                  <a:lnTo>
                    <a:pt x="1762" y="1194"/>
                  </a:lnTo>
                  <a:lnTo>
                    <a:pt x="1750" y="1205"/>
                  </a:lnTo>
                  <a:lnTo>
                    <a:pt x="1739" y="1217"/>
                  </a:lnTo>
                  <a:lnTo>
                    <a:pt x="1726" y="1228"/>
                  </a:lnTo>
                  <a:lnTo>
                    <a:pt x="1710" y="1237"/>
                  </a:lnTo>
                  <a:lnTo>
                    <a:pt x="1695" y="1249"/>
                  </a:lnTo>
                  <a:lnTo>
                    <a:pt x="1665" y="1269"/>
                  </a:lnTo>
                  <a:lnTo>
                    <a:pt x="1631" y="1285"/>
                  </a:lnTo>
                  <a:lnTo>
                    <a:pt x="1595" y="1299"/>
                  </a:lnTo>
                  <a:lnTo>
                    <a:pt x="1556" y="1312"/>
                  </a:lnTo>
                  <a:lnTo>
                    <a:pt x="1516" y="1322"/>
                  </a:lnTo>
                  <a:lnTo>
                    <a:pt x="1473" y="1329"/>
                  </a:lnTo>
                  <a:lnTo>
                    <a:pt x="1429" y="1334"/>
                  </a:lnTo>
                  <a:lnTo>
                    <a:pt x="1385" y="1335"/>
                  </a:lnTo>
                  <a:lnTo>
                    <a:pt x="1359" y="1335"/>
                  </a:lnTo>
                  <a:lnTo>
                    <a:pt x="1332" y="1334"/>
                  </a:lnTo>
                  <a:lnTo>
                    <a:pt x="1307" y="1331"/>
                  </a:lnTo>
                  <a:lnTo>
                    <a:pt x="1281" y="1328"/>
                  </a:lnTo>
                  <a:lnTo>
                    <a:pt x="1232" y="1318"/>
                  </a:lnTo>
                  <a:lnTo>
                    <a:pt x="1209" y="1311"/>
                  </a:lnTo>
                  <a:lnTo>
                    <a:pt x="1186" y="1305"/>
                  </a:lnTo>
                  <a:lnTo>
                    <a:pt x="1163" y="1296"/>
                  </a:lnTo>
                  <a:lnTo>
                    <a:pt x="1142" y="1286"/>
                  </a:lnTo>
                  <a:lnTo>
                    <a:pt x="1123" y="1277"/>
                  </a:lnTo>
                  <a:lnTo>
                    <a:pt x="1103" y="1267"/>
                  </a:lnTo>
                  <a:lnTo>
                    <a:pt x="1084" y="1256"/>
                  </a:lnTo>
                  <a:lnTo>
                    <a:pt x="1066" y="1244"/>
                  </a:lnTo>
                  <a:lnTo>
                    <a:pt x="1050" y="1231"/>
                  </a:lnTo>
                  <a:lnTo>
                    <a:pt x="1035" y="1218"/>
                  </a:lnTo>
                  <a:lnTo>
                    <a:pt x="1005" y="1246"/>
                  </a:lnTo>
                  <a:lnTo>
                    <a:pt x="973" y="1270"/>
                  </a:lnTo>
                  <a:lnTo>
                    <a:pt x="939" y="1292"/>
                  </a:lnTo>
                  <a:lnTo>
                    <a:pt x="902" y="1309"/>
                  </a:lnTo>
                  <a:lnTo>
                    <a:pt x="861" y="1323"/>
                  </a:lnTo>
                  <a:lnTo>
                    <a:pt x="818" y="1336"/>
                  </a:lnTo>
                  <a:lnTo>
                    <a:pt x="775" y="1347"/>
                  </a:lnTo>
                  <a:lnTo>
                    <a:pt x="729" y="1354"/>
                  </a:lnTo>
                  <a:lnTo>
                    <a:pt x="683" y="1357"/>
                  </a:lnTo>
                  <a:lnTo>
                    <a:pt x="635" y="1358"/>
                  </a:lnTo>
                  <a:lnTo>
                    <a:pt x="591" y="1358"/>
                  </a:lnTo>
                  <a:lnTo>
                    <a:pt x="543" y="1355"/>
                  </a:lnTo>
                  <a:lnTo>
                    <a:pt x="496" y="1348"/>
                  </a:lnTo>
                  <a:lnTo>
                    <a:pt x="450" y="1342"/>
                  </a:lnTo>
                  <a:lnTo>
                    <a:pt x="407" y="1332"/>
                  </a:lnTo>
                  <a:lnTo>
                    <a:pt x="364" y="1319"/>
                  </a:lnTo>
                  <a:lnTo>
                    <a:pt x="322" y="1306"/>
                  </a:lnTo>
                  <a:lnTo>
                    <a:pt x="283" y="1290"/>
                  </a:lnTo>
                  <a:lnTo>
                    <a:pt x="247" y="1273"/>
                  </a:lnTo>
                  <a:lnTo>
                    <a:pt x="213" y="1254"/>
                  </a:lnTo>
                  <a:lnTo>
                    <a:pt x="184" y="1233"/>
                  </a:lnTo>
                  <a:lnTo>
                    <a:pt x="157" y="1211"/>
                  </a:lnTo>
                  <a:lnTo>
                    <a:pt x="134" y="1187"/>
                  </a:lnTo>
                  <a:lnTo>
                    <a:pt x="115" y="1162"/>
                  </a:lnTo>
                  <a:lnTo>
                    <a:pt x="100" y="1136"/>
                  </a:lnTo>
                  <a:lnTo>
                    <a:pt x="92" y="1109"/>
                  </a:lnTo>
                  <a:lnTo>
                    <a:pt x="88" y="1080"/>
                  </a:lnTo>
                  <a:lnTo>
                    <a:pt x="89" y="1050"/>
                  </a:lnTo>
                  <a:lnTo>
                    <a:pt x="98" y="1021"/>
                  </a:lnTo>
                  <a:lnTo>
                    <a:pt x="112" y="988"/>
                  </a:lnTo>
                  <a:lnTo>
                    <a:pt x="134" y="958"/>
                  </a:lnTo>
                  <a:lnTo>
                    <a:pt x="162" y="925"/>
                  </a:lnTo>
                  <a:lnTo>
                    <a:pt x="207" y="877"/>
                  </a:lnTo>
                  <a:lnTo>
                    <a:pt x="221" y="864"/>
                  </a:lnTo>
                  <a:lnTo>
                    <a:pt x="220" y="866"/>
                  </a:lnTo>
                  <a:lnTo>
                    <a:pt x="216" y="864"/>
                  </a:lnTo>
                  <a:lnTo>
                    <a:pt x="214" y="864"/>
                  </a:lnTo>
                  <a:lnTo>
                    <a:pt x="203" y="866"/>
                  </a:lnTo>
                  <a:lnTo>
                    <a:pt x="185" y="861"/>
                  </a:lnTo>
                  <a:lnTo>
                    <a:pt x="165" y="853"/>
                  </a:lnTo>
                  <a:lnTo>
                    <a:pt x="145" y="845"/>
                  </a:lnTo>
                  <a:lnTo>
                    <a:pt x="122" y="834"/>
                  </a:lnTo>
                  <a:lnTo>
                    <a:pt x="103" y="824"/>
                  </a:lnTo>
                  <a:lnTo>
                    <a:pt x="88" y="814"/>
                  </a:lnTo>
                  <a:lnTo>
                    <a:pt x="73" y="802"/>
                  </a:lnTo>
                  <a:lnTo>
                    <a:pt x="59" y="789"/>
                  </a:lnTo>
                  <a:lnTo>
                    <a:pt x="47" y="778"/>
                  </a:lnTo>
                  <a:lnTo>
                    <a:pt x="37" y="765"/>
                  </a:lnTo>
                  <a:lnTo>
                    <a:pt x="27" y="750"/>
                  </a:lnTo>
                  <a:lnTo>
                    <a:pt x="18" y="738"/>
                  </a:lnTo>
                  <a:lnTo>
                    <a:pt x="13" y="723"/>
                  </a:lnTo>
                  <a:lnTo>
                    <a:pt x="8" y="709"/>
                  </a:lnTo>
                  <a:lnTo>
                    <a:pt x="4" y="693"/>
                  </a:lnTo>
                  <a:lnTo>
                    <a:pt x="1" y="678"/>
                  </a:lnTo>
                  <a:lnTo>
                    <a:pt x="1" y="663"/>
                  </a:lnTo>
                  <a:lnTo>
                    <a:pt x="0" y="648"/>
                  </a:lnTo>
                  <a:lnTo>
                    <a:pt x="1" y="634"/>
                  </a:lnTo>
                  <a:lnTo>
                    <a:pt x="4" y="618"/>
                  </a:lnTo>
                  <a:lnTo>
                    <a:pt x="8" y="602"/>
                  </a:lnTo>
                  <a:lnTo>
                    <a:pt x="11" y="588"/>
                  </a:lnTo>
                  <a:lnTo>
                    <a:pt x="17" y="573"/>
                  </a:lnTo>
                  <a:lnTo>
                    <a:pt x="24" y="560"/>
                  </a:lnTo>
                  <a:lnTo>
                    <a:pt x="30" y="545"/>
                  </a:lnTo>
                  <a:lnTo>
                    <a:pt x="40" y="532"/>
                  </a:lnTo>
                  <a:lnTo>
                    <a:pt x="49" y="519"/>
                  </a:lnTo>
                  <a:lnTo>
                    <a:pt x="60" y="506"/>
                  </a:lnTo>
                  <a:lnTo>
                    <a:pt x="72" y="494"/>
                  </a:lnTo>
                  <a:lnTo>
                    <a:pt x="83" y="483"/>
                  </a:lnTo>
                  <a:lnTo>
                    <a:pt x="96" y="471"/>
                  </a:lnTo>
                  <a:lnTo>
                    <a:pt x="111" y="463"/>
                  </a:lnTo>
                  <a:lnTo>
                    <a:pt x="123" y="454"/>
                  </a:lnTo>
                  <a:lnTo>
                    <a:pt x="139" y="445"/>
                  </a:lnTo>
                  <a:lnTo>
                    <a:pt x="157" y="438"/>
                  </a:lnTo>
                  <a:lnTo>
                    <a:pt x="172" y="432"/>
                  </a:lnTo>
                  <a:lnTo>
                    <a:pt x="234" y="414"/>
                  </a:lnTo>
                  <a:lnTo>
                    <a:pt x="290" y="399"/>
                  </a:lnTo>
                  <a:lnTo>
                    <a:pt x="345" y="389"/>
                  </a:lnTo>
                  <a:lnTo>
                    <a:pt x="395" y="382"/>
                  </a:lnTo>
                  <a:lnTo>
                    <a:pt x="441" y="378"/>
                  </a:lnTo>
                  <a:lnTo>
                    <a:pt x="482" y="376"/>
                  </a:lnTo>
                  <a:lnTo>
                    <a:pt x="519" y="376"/>
                  </a:lnTo>
                  <a:lnTo>
                    <a:pt x="554" y="378"/>
                  </a:lnTo>
                  <a:lnTo>
                    <a:pt x="582" y="380"/>
                  </a:lnTo>
                  <a:lnTo>
                    <a:pt x="607" y="385"/>
                  </a:lnTo>
                  <a:lnTo>
                    <a:pt x="628" y="389"/>
                  </a:lnTo>
                  <a:lnTo>
                    <a:pt x="646" y="393"/>
                  </a:lnTo>
                  <a:lnTo>
                    <a:pt x="667" y="401"/>
                  </a:lnTo>
                  <a:lnTo>
                    <a:pt x="673" y="402"/>
                  </a:lnTo>
                  <a:close/>
                </a:path>
              </a:pathLst>
            </a:custGeom>
            <a:solidFill>
              <a:srgbClr val="d6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30400" y="4451400"/>
            <a:ext cx="1079280" cy="777960"/>
            <a:chOff x="1130400" y="4451400"/>
            <a:chExt cx="1079280" cy="777960"/>
          </a:xfrm>
        </p:grpSpPr>
        <p:sp>
          <p:nvSpPr>
            <p:cNvPr id="547" name=""/>
            <p:cNvSpPr/>
            <p:nvPr/>
          </p:nvSpPr>
          <p:spPr>
            <a:xfrm>
              <a:off x="1217520" y="4778280"/>
              <a:ext cx="987480" cy="45108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0400" y="4451400"/>
              <a:ext cx="1079280" cy="75384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c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641680" y="4451400"/>
            <a:ext cx="1058760" cy="770040"/>
            <a:chOff x="2641680" y="4451400"/>
            <a:chExt cx="1058760" cy="770040"/>
          </a:xfrm>
        </p:grpSpPr>
        <p:sp>
          <p:nvSpPr>
            <p:cNvPr id="550" name=""/>
            <p:cNvSpPr/>
            <p:nvPr/>
          </p:nvSpPr>
          <p:spPr>
            <a:xfrm>
              <a:off x="2646360" y="4648320"/>
              <a:ext cx="1049400" cy="573120"/>
            </a:xfrm>
            <a:custGeom>
              <a:avLst/>
              <a:gdLst/>
              <a:ahLst/>
              <a:rect l="l" t="t" r="r" b="b"/>
              <a:pathLst>
                <a:path w="1983" h="1083">
                  <a:moveTo>
                    <a:pt x="1983" y="354"/>
                  </a:moveTo>
                  <a:lnTo>
                    <a:pt x="1765" y="83"/>
                  </a:lnTo>
                  <a:lnTo>
                    <a:pt x="1781" y="0"/>
                  </a:lnTo>
                  <a:lnTo>
                    <a:pt x="98" y="70"/>
                  </a:lnTo>
                  <a:lnTo>
                    <a:pt x="121" y="158"/>
                  </a:lnTo>
                  <a:lnTo>
                    <a:pt x="126" y="170"/>
                  </a:lnTo>
                  <a:lnTo>
                    <a:pt x="127" y="174"/>
                  </a:lnTo>
                  <a:lnTo>
                    <a:pt x="0" y="422"/>
                  </a:lnTo>
                  <a:lnTo>
                    <a:pt x="32" y="517"/>
                  </a:lnTo>
                  <a:lnTo>
                    <a:pt x="36" y="528"/>
                  </a:lnTo>
                  <a:lnTo>
                    <a:pt x="42" y="541"/>
                  </a:lnTo>
                  <a:lnTo>
                    <a:pt x="46" y="551"/>
                  </a:lnTo>
                  <a:lnTo>
                    <a:pt x="59" y="573"/>
                  </a:lnTo>
                  <a:lnTo>
                    <a:pt x="68" y="583"/>
                  </a:lnTo>
                  <a:lnTo>
                    <a:pt x="74" y="593"/>
                  </a:lnTo>
                  <a:lnTo>
                    <a:pt x="82" y="602"/>
                  </a:lnTo>
                  <a:lnTo>
                    <a:pt x="91" y="613"/>
                  </a:lnTo>
                  <a:lnTo>
                    <a:pt x="102" y="622"/>
                  </a:lnTo>
                  <a:lnTo>
                    <a:pt x="121" y="641"/>
                  </a:lnTo>
                  <a:lnTo>
                    <a:pt x="130" y="646"/>
                  </a:lnTo>
                  <a:lnTo>
                    <a:pt x="151" y="664"/>
                  </a:lnTo>
                  <a:lnTo>
                    <a:pt x="163" y="671"/>
                  </a:lnTo>
                  <a:lnTo>
                    <a:pt x="174" y="679"/>
                  </a:lnTo>
                  <a:lnTo>
                    <a:pt x="184" y="685"/>
                  </a:lnTo>
                  <a:lnTo>
                    <a:pt x="197" y="691"/>
                  </a:lnTo>
                  <a:lnTo>
                    <a:pt x="207" y="695"/>
                  </a:lnTo>
                  <a:lnTo>
                    <a:pt x="220" y="703"/>
                  </a:lnTo>
                  <a:lnTo>
                    <a:pt x="232" y="708"/>
                  </a:lnTo>
                  <a:lnTo>
                    <a:pt x="269" y="721"/>
                  </a:lnTo>
                  <a:lnTo>
                    <a:pt x="272" y="724"/>
                  </a:lnTo>
                  <a:lnTo>
                    <a:pt x="276" y="724"/>
                  </a:lnTo>
                  <a:lnTo>
                    <a:pt x="281" y="726"/>
                  </a:lnTo>
                  <a:lnTo>
                    <a:pt x="285" y="726"/>
                  </a:lnTo>
                  <a:lnTo>
                    <a:pt x="289" y="728"/>
                  </a:lnTo>
                  <a:lnTo>
                    <a:pt x="292" y="728"/>
                  </a:lnTo>
                  <a:lnTo>
                    <a:pt x="297" y="730"/>
                  </a:lnTo>
                  <a:lnTo>
                    <a:pt x="301" y="730"/>
                  </a:lnTo>
                  <a:lnTo>
                    <a:pt x="305" y="731"/>
                  </a:lnTo>
                  <a:lnTo>
                    <a:pt x="314" y="731"/>
                  </a:lnTo>
                  <a:lnTo>
                    <a:pt x="318" y="734"/>
                  </a:lnTo>
                  <a:lnTo>
                    <a:pt x="323" y="734"/>
                  </a:lnTo>
                  <a:lnTo>
                    <a:pt x="327" y="736"/>
                  </a:lnTo>
                  <a:lnTo>
                    <a:pt x="338" y="736"/>
                  </a:lnTo>
                  <a:lnTo>
                    <a:pt x="341" y="739"/>
                  </a:lnTo>
                  <a:lnTo>
                    <a:pt x="354" y="739"/>
                  </a:lnTo>
                  <a:lnTo>
                    <a:pt x="358" y="740"/>
                  </a:lnTo>
                  <a:lnTo>
                    <a:pt x="402" y="740"/>
                  </a:lnTo>
                  <a:lnTo>
                    <a:pt x="406" y="753"/>
                  </a:lnTo>
                  <a:lnTo>
                    <a:pt x="410" y="775"/>
                  </a:lnTo>
                  <a:lnTo>
                    <a:pt x="423" y="806"/>
                  </a:lnTo>
                  <a:lnTo>
                    <a:pt x="427" y="815"/>
                  </a:lnTo>
                  <a:lnTo>
                    <a:pt x="432" y="825"/>
                  </a:lnTo>
                  <a:lnTo>
                    <a:pt x="438" y="834"/>
                  </a:lnTo>
                  <a:lnTo>
                    <a:pt x="442" y="845"/>
                  </a:lnTo>
                  <a:lnTo>
                    <a:pt x="455" y="862"/>
                  </a:lnTo>
                  <a:lnTo>
                    <a:pt x="461" y="872"/>
                  </a:lnTo>
                  <a:lnTo>
                    <a:pt x="486" y="907"/>
                  </a:lnTo>
                  <a:lnTo>
                    <a:pt x="495" y="913"/>
                  </a:lnTo>
                  <a:lnTo>
                    <a:pt x="501" y="921"/>
                  </a:lnTo>
                  <a:lnTo>
                    <a:pt x="509" y="930"/>
                  </a:lnTo>
                  <a:lnTo>
                    <a:pt x="518" y="936"/>
                  </a:lnTo>
                  <a:lnTo>
                    <a:pt x="527" y="944"/>
                  </a:lnTo>
                  <a:lnTo>
                    <a:pt x="544" y="957"/>
                  </a:lnTo>
                  <a:lnTo>
                    <a:pt x="553" y="966"/>
                  </a:lnTo>
                  <a:lnTo>
                    <a:pt x="561" y="972"/>
                  </a:lnTo>
                  <a:lnTo>
                    <a:pt x="571" y="979"/>
                  </a:lnTo>
                  <a:lnTo>
                    <a:pt x="580" y="985"/>
                  </a:lnTo>
                  <a:lnTo>
                    <a:pt x="590" y="992"/>
                  </a:lnTo>
                  <a:lnTo>
                    <a:pt x="599" y="998"/>
                  </a:lnTo>
                  <a:lnTo>
                    <a:pt x="610" y="1002"/>
                  </a:lnTo>
                  <a:lnTo>
                    <a:pt x="617" y="1008"/>
                  </a:lnTo>
                  <a:lnTo>
                    <a:pt x="626" y="1012"/>
                  </a:lnTo>
                  <a:lnTo>
                    <a:pt x="629" y="1015"/>
                  </a:lnTo>
                  <a:lnTo>
                    <a:pt x="637" y="1016"/>
                  </a:lnTo>
                  <a:lnTo>
                    <a:pt x="639" y="1019"/>
                  </a:lnTo>
                  <a:lnTo>
                    <a:pt x="648" y="1024"/>
                  </a:lnTo>
                  <a:lnTo>
                    <a:pt x="650" y="1024"/>
                  </a:lnTo>
                  <a:lnTo>
                    <a:pt x="659" y="1028"/>
                  </a:lnTo>
                  <a:lnTo>
                    <a:pt x="660" y="1029"/>
                  </a:lnTo>
                  <a:lnTo>
                    <a:pt x="665" y="1029"/>
                  </a:lnTo>
                  <a:lnTo>
                    <a:pt x="669" y="1032"/>
                  </a:lnTo>
                  <a:lnTo>
                    <a:pt x="671" y="1034"/>
                  </a:lnTo>
                  <a:lnTo>
                    <a:pt x="675" y="1037"/>
                  </a:lnTo>
                  <a:lnTo>
                    <a:pt x="692" y="1042"/>
                  </a:lnTo>
                  <a:lnTo>
                    <a:pt x="701" y="1045"/>
                  </a:lnTo>
                  <a:lnTo>
                    <a:pt x="708" y="1047"/>
                  </a:lnTo>
                  <a:lnTo>
                    <a:pt x="715" y="1050"/>
                  </a:lnTo>
                  <a:lnTo>
                    <a:pt x="724" y="1054"/>
                  </a:lnTo>
                  <a:lnTo>
                    <a:pt x="732" y="1055"/>
                  </a:lnTo>
                  <a:lnTo>
                    <a:pt x="740" y="1057"/>
                  </a:lnTo>
                  <a:lnTo>
                    <a:pt x="764" y="1064"/>
                  </a:lnTo>
                  <a:lnTo>
                    <a:pt x="771" y="1065"/>
                  </a:lnTo>
                  <a:lnTo>
                    <a:pt x="780" y="1068"/>
                  </a:lnTo>
                  <a:lnTo>
                    <a:pt x="788" y="1068"/>
                  </a:lnTo>
                  <a:lnTo>
                    <a:pt x="804" y="1073"/>
                  </a:lnTo>
                  <a:lnTo>
                    <a:pt x="811" y="1073"/>
                  </a:lnTo>
                  <a:lnTo>
                    <a:pt x="820" y="1074"/>
                  </a:lnTo>
                  <a:lnTo>
                    <a:pt x="837" y="1077"/>
                  </a:lnTo>
                  <a:lnTo>
                    <a:pt x="846" y="1078"/>
                  </a:lnTo>
                  <a:lnTo>
                    <a:pt x="862" y="1078"/>
                  </a:lnTo>
                  <a:lnTo>
                    <a:pt x="870" y="1081"/>
                  </a:lnTo>
                  <a:lnTo>
                    <a:pt x="886" y="1081"/>
                  </a:lnTo>
                  <a:lnTo>
                    <a:pt x="902" y="1083"/>
                  </a:lnTo>
                  <a:lnTo>
                    <a:pt x="939" y="1083"/>
                  </a:lnTo>
                  <a:lnTo>
                    <a:pt x="985" y="1078"/>
                  </a:lnTo>
                  <a:lnTo>
                    <a:pt x="998" y="1077"/>
                  </a:lnTo>
                  <a:lnTo>
                    <a:pt x="1008" y="1074"/>
                  </a:lnTo>
                  <a:lnTo>
                    <a:pt x="1034" y="1070"/>
                  </a:lnTo>
                  <a:lnTo>
                    <a:pt x="1044" y="1068"/>
                  </a:lnTo>
                  <a:lnTo>
                    <a:pt x="1057" y="1065"/>
                  </a:lnTo>
                  <a:lnTo>
                    <a:pt x="1069" y="1064"/>
                  </a:lnTo>
                  <a:lnTo>
                    <a:pt x="1082" y="1060"/>
                  </a:lnTo>
                  <a:lnTo>
                    <a:pt x="1092" y="1057"/>
                  </a:lnTo>
                  <a:lnTo>
                    <a:pt x="1105" y="1054"/>
                  </a:lnTo>
                  <a:lnTo>
                    <a:pt x="1115" y="1050"/>
                  </a:lnTo>
                  <a:lnTo>
                    <a:pt x="1128" y="1045"/>
                  </a:lnTo>
                  <a:lnTo>
                    <a:pt x="1159" y="1032"/>
                  </a:lnTo>
                  <a:lnTo>
                    <a:pt x="1171" y="1025"/>
                  </a:lnTo>
                  <a:lnTo>
                    <a:pt x="1181" y="1021"/>
                  </a:lnTo>
                  <a:lnTo>
                    <a:pt x="1223" y="996"/>
                  </a:lnTo>
                  <a:lnTo>
                    <a:pt x="1231" y="989"/>
                  </a:lnTo>
                  <a:lnTo>
                    <a:pt x="1243" y="983"/>
                  </a:lnTo>
                  <a:lnTo>
                    <a:pt x="1252" y="975"/>
                  </a:lnTo>
                  <a:lnTo>
                    <a:pt x="1260" y="967"/>
                  </a:lnTo>
                  <a:lnTo>
                    <a:pt x="1270" y="960"/>
                  </a:lnTo>
                  <a:lnTo>
                    <a:pt x="1287" y="943"/>
                  </a:lnTo>
                  <a:lnTo>
                    <a:pt x="1293" y="934"/>
                  </a:lnTo>
                  <a:lnTo>
                    <a:pt x="1302" y="926"/>
                  </a:lnTo>
                  <a:lnTo>
                    <a:pt x="1310" y="914"/>
                  </a:lnTo>
                  <a:lnTo>
                    <a:pt x="1316" y="907"/>
                  </a:lnTo>
                  <a:lnTo>
                    <a:pt x="1328" y="904"/>
                  </a:lnTo>
                  <a:lnTo>
                    <a:pt x="1338" y="904"/>
                  </a:lnTo>
                  <a:lnTo>
                    <a:pt x="1403" y="891"/>
                  </a:lnTo>
                  <a:lnTo>
                    <a:pt x="1413" y="887"/>
                  </a:lnTo>
                  <a:lnTo>
                    <a:pt x="1423" y="885"/>
                  </a:lnTo>
                  <a:lnTo>
                    <a:pt x="1434" y="881"/>
                  </a:lnTo>
                  <a:lnTo>
                    <a:pt x="1444" y="878"/>
                  </a:lnTo>
                  <a:lnTo>
                    <a:pt x="1453" y="874"/>
                  </a:lnTo>
                  <a:lnTo>
                    <a:pt x="1474" y="867"/>
                  </a:lnTo>
                  <a:lnTo>
                    <a:pt x="1483" y="862"/>
                  </a:lnTo>
                  <a:lnTo>
                    <a:pt x="1493" y="858"/>
                  </a:lnTo>
                  <a:lnTo>
                    <a:pt x="1502" y="854"/>
                  </a:lnTo>
                  <a:lnTo>
                    <a:pt x="1512" y="849"/>
                  </a:lnTo>
                  <a:lnTo>
                    <a:pt x="1529" y="836"/>
                  </a:lnTo>
                  <a:lnTo>
                    <a:pt x="1538" y="832"/>
                  </a:lnTo>
                  <a:lnTo>
                    <a:pt x="1581" y="800"/>
                  </a:lnTo>
                  <a:lnTo>
                    <a:pt x="1595" y="785"/>
                  </a:lnTo>
                  <a:lnTo>
                    <a:pt x="1601" y="776"/>
                  </a:lnTo>
                  <a:lnTo>
                    <a:pt x="1610" y="769"/>
                  </a:lnTo>
                  <a:lnTo>
                    <a:pt x="1617" y="760"/>
                  </a:lnTo>
                  <a:lnTo>
                    <a:pt x="1623" y="753"/>
                  </a:lnTo>
                  <a:lnTo>
                    <a:pt x="1627" y="744"/>
                  </a:lnTo>
                  <a:lnTo>
                    <a:pt x="1630" y="743"/>
                  </a:lnTo>
                  <a:lnTo>
                    <a:pt x="1638" y="726"/>
                  </a:lnTo>
                  <a:lnTo>
                    <a:pt x="1640" y="724"/>
                  </a:lnTo>
                  <a:lnTo>
                    <a:pt x="1641" y="720"/>
                  </a:lnTo>
                  <a:lnTo>
                    <a:pt x="1644" y="711"/>
                  </a:lnTo>
                  <a:lnTo>
                    <a:pt x="1648" y="703"/>
                  </a:lnTo>
                  <a:lnTo>
                    <a:pt x="1648" y="698"/>
                  </a:lnTo>
                  <a:lnTo>
                    <a:pt x="1653" y="690"/>
                  </a:lnTo>
                  <a:lnTo>
                    <a:pt x="1653" y="681"/>
                  </a:lnTo>
                  <a:lnTo>
                    <a:pt x="1654" y="672"/>
                  </a:lnTo>
                  <a:lnTo>
                    <a:pt x="1654" y="664"/>
                  </a:lnTo>
                  <a:lnTo>
                    <a:pt x="1657" y="659"/>
                  </a:lnTo>
                  <a:lnTo>
                    <a:pt x="1657" y="646"/>
                  </a:lnTo>
                  <a:lnTo>
                    <a:pt x="1654" y="642"/>
                  </a:lnTo>
                  <a:lnTo>
                    <a:pt x="1654" y="628"/>
                  </a:lnTo>
                  <a:lnTo>
                    <a:pt x="1657" y="628"/>
                  </a:lnTo>
                  <a:lnTo>
                    <a:pt x="1657" y="626"/>
                  </a:lnTo>
                  <a:lnTo>
                    <a:pt x="1680" y="626"/>
                  </a:lnTo>
                  <a:lnTo>
                    <a:pt x="1690" y="623"/>
                  </a:lnTo>
                  <a:lnTo>
                    <a:pt x="1712" y="623"/>
                  </a:lnTo>
                  <a:lnTo>
                    <a:pt x="1765" y="613"/>
                  </a:lnTo>
                  <a:lnTo>
                    <a:pt x="1774" y="610"/>
                  </a:lnTo>
                  <a:lnTo>
                    <a:pt x="1784" y="609"/>
                  </a:lnTo>
                  <a:lnTo>
                    <a:pt x="1795" y="605"/>
                  </a:lnTo>
                  <a:lnTo>
                    <a:pt x="1804" y="600"/>
                  </a:lnTo>
                  <a:lnTo>
                    <a:pt x="1814" y="596"/>
                  </a:lnTo>
                  <a:lnTo>
                    <a:pt x="1822" y="592"/>
                  </a:lnTo>
                  <a:lnTo>
                    <a:pt x="1832" y="587"/>
                  </a:lnTo>
                  <a:lnTo>
                    <a:pt x="1850" y="579"/>
                  </a:lnTo>
                  <a:lnTo>
                    <a:pt x="1858" y="573"/>
                  </a:lnTo>
                  <a:lnTo>
                    <a:pt x="1867" y="569"/>
                  </a:lnTo>
                  <a:lnTo>
                    <a:pt x="1893" y="548"/>
                  </a:lnTo>
                  <a:lnTo>
                    <a:pt x="1899" y="541"/>
                  </a:lnTo>
                  <a:lnTo>
                    <a:pt x="1907" y="534"/>
                  </a:lnTo>
                  <a:lnTo>
                    <a:pt x="1914" y="525"/>
                  </a:lnTo>
                  <a:lnTo>
                    <a:pt x="1920" y="520"/>
                  </a:lnTo>
                  <a:lnTo>
                    <a:pt x="1939" y="494"/>
                  </a:lnTo>
                  <a:lnTo>
                    <a:pt x="1943" y="484"/>
                  </a:lnTo>
                  <a:lnTo>
                    <a:pt x="1948" y="479"/>
                  </a:lnTo>
                  <a:lnTo>
                    <a:pt x="1960" y="440"/>
                  </a:lnTo>
                  <a:lnTo>
                    <a:pt x="1963" y="436"/>
                  </a:lnTo>
                  <a:lnTo>
                    <a:pt x="1983" y="354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41680" y="4451400"/>
              <a:ext cx="1058760" cy="731880"/>
            </a:xfrm>
            <a:custGeom>
              <a:avLst/>
              <a:gdLst/>
              <a:ahLst/>
              <a:rect l="l" t="t" r="r" b="b"/>
              <a:pathLst>
                <a:path w="2002" h="1384">
                  <a:moveTo>
                    <a:pt x="430" y="175"/>
                  </a:moveTo>
                  <a:lnTo>
                    <a:pt x="436" y="169"/>
                  </a:lnTo>
                  <a:lnTo>
                    <a:pt x="443" y="160"/>
                  </a:lnTo>
                  <a:lnTo>
                    <a:pt x="450" y="153"/>
                  </a:lnTo>
                  <a:lnTo>
                    <a:pt x="457" y="144"/>
                  </a:lnTo>
                  <a:lnTo>
                    <a:pt x="466" y="139"/>
                  </a:lnTo>
                  <a:lnTo>
                    <a:pt x="472" y="131"/>
                  </a:lnTo>
                  <a:lnTo>
                    <a:pt x="489" y="120"/>
                  </a:lnTo>
                  <a:lnTo>
                    <a:pt x="499" y="113"/>
                  </a:lnTo>
                  <a:lnTo>
                    <a:pt x="508" y="107"/>
                  </a:lnTo>
                  <a:lnTo>
                    <a:pt x="516" y="103"/>
                  </a:lnTo>
                  <a:lnTo>
                    <a:pt x="528" y="95"/>
                  </a:lnTo>
                  <a:lnTo>
                    <a:pt x="536" y="91"/>
                  </a:lnTo>
                  <a:lnTo>
                    <a:pt x="556" y="82"/>
                  </a:lnTo>
                  <a:lnTo>
                    <a:pt x="565" y="81"/>
                  </a:lnTo>
                  <a:lnTo>
                    <a:pt x="577" y="77"/>
                  </a:lnTo>
                  <a:lnTo>
                    <a:pt x="618" y="68"/>
                  </a:lnTo>
                  <a:lnTo>
                    <a:pt x="671" y="68"/>
                  </a:lnTo>
                  <a:lnTo>
                    <a:pt x="693" y="72"/>
                  </a:lnTo>
                  <a:lnTo>
                    <a:pt x="702" y="75"/>
                  </a:lnTo>
                  <a:lnTo>
                    <a:pt x="712" y="77"/>
                  </a:lnTo>
                  <a:lnTo>
                    <a:pt x="733" y="85"/>
                  </a:lnTo>
                  <a:lnTo>
                    <a:pt x="739" y="77"/>
                  </a:lnTo>
                  <a:lnTo>
                    <a:pt x="748" y="71"/>
                  </a:lnTo>
                  <a:lnTo>
                    <a:pt x="756" y="67"/>
                  </a:lnTo>
                  <a:lnTo>
                    <a:pt x="768" y="59"/>
                  </a:lnTo>
                  <a:lnTo>
                    <a:pt x="775" y="54"/>
                  </a:lnTo>
                  <a:lnTo>
                    <a:pt x="792" y="45"/>
                  </a:lnTo>
                  <a:lnTo>
                    <a:pt x="804" y="41"/>
                  </a:lnTo>
                  <a:lnTo>
                    <a:pt x="812" y="36"/>
                  </a:lnTo>
                  <a:lnTo>
                    <a:pt x="833" y="28"/>
                  </a:lnTo>
                  <a:lnTo>
                    <a:pt x="841" y="23"/>
                  </a:lnTo>
                  <a:lnTo>
                    <a:pt x="863" y="19"/>
                  </a:lnTo>
                  <a:lnTo>
                    <a:pt x="873" y="15"/>
                  </a:lnTo>
                  <a:lnTo>
                    <a:pt x="894" y="10"/>
                  </a:lnTo>
                  <a:lnTo>
                    <a:pt x="903" y="9"/>
                  </a:lnTo>
                  <a:lnTo>
                    <a:pt x="913" y="6"/>
                  </a:lnTo>
                  <a:lnTo>
                    <a:pt x="925" y="6"/>
                  </a:lnTo>
                  <a:lnTo>
                    <a:pt x="935" y="5"/>
                  </a:lnTo>
                  <a:lnTo>
                    <a:pt x="946" y="5"/>
                  </a:lnTo>
                  <a:lnTo>
                    <a:pt x="956" y="2"/>
                  </a:lnTo>
                  <a:lnTo>
                    <a:pt x="979" y="2"/>
                  </a:lnTo>
                  <a:lnTo>
                    <a:pt x="991" y="0"/>
                  </a:lnTo>
                  <a:lnTo>
                    <a:pt x="1022" y="0"/>
                  </a:lnTo>
                  <a:lnTo>
                    <a:pt x="1031" y="2"/>
                  </a:lnTo>
                  <a:lnTo>
                    <a:pt x="1051" y="2"/>
                  </a:lnTo>
                  <a:lnTo>
                    <a:pt x="1064" y="5"/>
                  </a:lnTo>
                  <a:lnTo>
                    <a:pt x="1076" y="5"/>
                  </a:lnTo>
                  <a:lnTo>
                    <a:pt x="1100" y="9"/>
                  </a:lnTo>
                  <a:lnTo>
                    <a:pt x="1112" y="10"/>
                  </a:lnTo>
                  <a:lnTo>
                    <a:pt x="1137" y="15"/>
                  </a:lnTo>
                  <a:lnTo>
                    <a:pt x="1149" y="19"/>
                  </a:lnTo>
                  <a:lnTo>
                    <a:pt x="1162" y="22"/>
                  </a:lnTo>
                  <a:lnTo>
                    <a:pt x="1173" y="26"/>
                  </a:lnTo>
                  <a:lnTo>
                    <a:pt x="1186" y="29"/>
                  </a:lnTo>
                  <a:lnTo>
                    <a:pt x="1198" y="32"/>
                  </a:lnTo>
                  <a:lnTo>
                    <a:pt x="1209" y="38"/>
                  </a:lnTo>
                  <a:lnTo>
                    <a:pt x="1234" y="46"/>
                  </a:lnTo>
                  <a:lnTo>
                    <a:pt x="1245" y="51"/>
                  </a:lnTo>
                  <a:lnTo>
                    <a:pt x="1255" y="58"/>
                  </a:lnTo>
                  <a:lnTo>
                    <a:pt x="1268" y="64"/>
                  </a:lnTo>
                  <a:lnTo>
                    <a:pt x="1300" y="82"/>
                  </a:lnTo>
                  <a:lnTo>
                    <a:pt x="1309" y="90"/>
                  </a:lnTo>
                  <a:lnTo>
                    <a:pt x="1320" y="98"/>
                  </a:lnTo>
                  <a:lnTo>
                    <a:pt x="1327" y="104"/>
                  </a:lnTo>
                  <a:lnTo>
                    <a:pt x="1339" y="113"/>
                  </a:lnTo>
                  <a:lnTo>
                    <a:pt x="1356" y="130"/>
                  </a:lnTo>
                  <a:lnTo>
                    <a:pt x="1362" y="139"/>
                  </a:lnTo>
                  <a:lnTo>
                    <a:pt x="1370" y="149"/>
                  </a:lnTo>
                  <a:lnTo>
                    <a:pt x="1376" y="160"/>
                  </a:lnTo>
                  <a:lnTo>
                    <a:pt x="1383" y="169"/>
                  </a:lnTo>
                  <a:lnTo>
                    <a:pt x="1388" y="179"/>
                  </a:lnTo>
                  <a:lnTo>
                    <a:pt x="1389" y="180"/>
                  </a:lnTo>
                  <a:lnTo>
                    <a:pt x="1393" y="180"/>
                  </a:lnTo>
                  <a:lnTo>
                    <a:pt x="1396" y="183"/>
                  </a:lnTo>
                  <a:lnTo>
                    <a:pt x="1401" y="185"/>
                  </a:lnTo>
                  <a:lnTo>
                    <a:pt x="1402" y="185"/>
                  </a:lnTo>
                  <a:lnTo>
                    <a:pt x="1409" y="183"/>
                  </a:lnTo>
                  <a:lnTo>
                    <a:pt x="1414" y="183"/>
                  </a:lnTo>
                  <a:lnTo>
                    <a:pt x="1425" y="179"/>
                  </a:lnTo>
                  <a:lnTo>
                    <a:pt x="1432" y="179"/>
                  </a:lnTo>
                  <a:lnTo>
                    <a:pt x="1438" y="176"/>
                  </a:lnTo>
                  <a:lnTo>
                    <a:pt x="1442" y="175"/>
                  </a:lnTo>
                  <a:lnTo>
                    <a:pt x="1455" y="175"/>
                  </a:lnTo>
                  <a:lnTo>
                    <a:pt x="1468" y="172"/>
                  </a:lnTo>
                  <a:lnTo>
                    <a:pt x="1474" y="172"/>
                  </a:lnTo>
                  <a:lnTo>
                    <a:pt x="1478" y="170"/>
                  </a:lnTo>
                  <a:lnTo>
                    <a:pt x="1534" y="170"/>
                  </a:lnTo>
                  <a:lnTo>
                    <a:pt x="1547" y="172"/>
                  </a:lnTo>
                  <a:lnTo>
                    <a:pt x="1559" y="172"/>
                  </a:lnTo>
                  <a:lnTo>
                    <a:pt x="1563" y="175"/>
                  </a:lnTo>
                  <a:lnTo>
                    <a:pt x="1570" y="175"/>
                  </a:lnTo>
                  <a:lnTo>
                    <a:pt x="1576" y="176"/>
                  </a:lnTo>
                  <a:lnTo>
                    <a:pt x="1583" y="176"/>
                  </a:lnTo>
                  <a:lnTo>
                    <a:pt x="1589" y="179"/>
                  </a:lnTo>
                  <a:lnTo>
                    <a:pt x="1596" y="179"/>
                  </a:lnTo>
                  <a:lnTo>
                    <a:pt x="1608" y="183"/>
                  </a:lnTo>
                  <a:lnTo>
                    <a:pt x="1616" y="185"/>
                  </a:lnTo>
                  <a:lnTo>
                    <a:pt x="1642" y="193"/>
                  </a:lnTo>
                  <a:lnTo>
                    <a:pt x="1657" y="201"/>
                  </a:lnTo>
                  <a:lnTo>
                    <a:pt x="1669" y="205"/>
                  </a:lnTo>
                  <a:lnTo>
                    <a:pt x="1677" y="209"/>
                  </a:lnTo>
                  <a:lnTo>
                    <a:pt x="1682" y="211"/>
                  </a:lnTo>
                  <a:lnTo>
                    <a:pt x="1690" y="215"/>
                  </a:lnTo>
                  <a:lnTo>
                    <a:pt x="1695" y="216"/>
                  </a:lnTo>
                  <a:lnTo>
                    <a:pt x="1708" y="225"/>
                  </a:lnTo>
                  <a:lnTo>
                    <a:pt x="1713" y="229"/>
                  </a:lnTo>
                  <a:lnTo>
                    <a:pt x="1726" y="238"/>
                  </a:lnTo>
                  <a:lnTo>
                    <a:pt x="1730" y="242"/>
                  </a:lnTo>
                  <a:lnTo>
                    <a:pt x="1736" y="247"/>
                  </a:lnTo>
                  <a:lnTo>
                    <a:pt x="1754" y="265"/>
                  </a:lnTo>
                  <a:lnTo>
                    <a:pt x="1763" y="278"/>
                  </a:lnTo>
                  <a:lnTo>
                    <a:pt x="1767" y="283"/>
                  </a:lnTo>
                  <a:lnTo>
                    <a:pt x="1780" y="303"/>
                  </a:lnTo>
                  <a:lnTo>
                    <a:pt x="1783" y="307"/>
                  </a:lnTo>
                  <a:lnTo>
                    <a:pt x="1785" y="313"/>
                  </a:lnTo>
                  <a:lnTo>
                    <a:pt x="1787" y="317"/>
                  </a:lnTo>
                  <a:lnTo>
                    <a:pt x="1787" y="323"/>
                  </a:lnTo>
                  <a:lnTo>
                    <a:pt x="1789" y="327"/>
                  </a:lnTo>
                  <a:lnTo>
                    <a:pt x="1792" y="334"/>
                  </a:lnTo>
                  <a:lnTo>
                    <a:pt x="1792" y="343"/>
                  </a:lnTo>
                  <a:lnTo>
                    <a:pt x="1793" y="349"/>
                  </a:lnTo>
                  <a:lnTo>
                    <a:pt x="1793" y="368"/>
                  </a:lnTo>
                  <a:lnTo>
                    <a:pt x="1792" y="372"/>
                  </a:lnTo>
                  <a:lnTo>
                    <a:pt x="1792" y="383"/>
                  </a:lnTo>
                  <a:lnTo>
                    <a:pt x="1789" y="388"/>
                  </a:lnTo>
                  <a:lnTo>
                    <a:pt x="1789" y="392"/>
                  </a:lnTo>
                  <a:lnTo>
                    <a:pt x="1785" y="401"/>
                  </a:lnTo>
                  <a:lnTo>
                    <a:pt x="1783" y="406"/>
                  </a:lnTo>
                  <a:lnTo>
                    <a:pt x="1776" y="419"/>
                  </a:lnTo>
                  <a:lnTo>
                    <a:pt x="1772" y="424"/>
                  </a:lnTo>
                  <a:lnTo>
                    <a:pt x="1767" y="432"/>
                  </a:lnTo>
                  <a:lnTo>
                    <a:pt x="1749" y="451"/>
                  </a:lnTo>
                  <a:lnTo>
                    <a:pt x="1757" y="452"/>
                  </a:lnTo>
                  <a:lnTo>
                    <a:pt x="1766" y="452"/>
                  </a:lnTo>
                  <a:lnTo>
                    <a:pt x="1772" y="455"/>
                  </a:lnTo>
                  <a:lnTo>
                    <a:pt x="1780" y="455"/>
                  </a:lnTo>
                  <a:lnTo>
                    <a:pt x="1797" y="460"/>
                  </a:lnTo>
                  <a:lnTo>
                    <a:pt x="1803" y="461"/>
                  </a:lnTo>
                  <a:lnTo>
                    <a:pt x="1820" y="465"/>
                  </a:lnTo>
                  <a:lnTo>
                    <a:pt x="1828" y="470"/>
                  </a:lnTo>
                  <a:lnTo>
                    <a:pt x="1836" y="473"/>
                  </a:lnTo>
                  <a:lnTo>
                    <a:pt x="1842" y="474"/>
                  </a:lnTo>
                  <a:lnTo>
                    <a:pt x="1851" y="478"/>
                  </a:lnTo>
                  <a:lnTo>
                    <a:pt x="1856" y="481"/>
                  </a:lnTo>
                  <a:lnTo>
                    <a:pt x="1865" y="486"/>
                  </a:lnTo>
                  <a:lnTo>
                    <a:pt x="1872" y="490"/>
                  </a:lnTo>
                  <a:lnTo>
                    <a:pt x="1878" y="491"/>
                  </a:lnTo>
                  <a:lnTo>
                    <a:pt x="1887" y="496"/>
                  </a:lnTo>
                  <a:lnTo>
                    <a:pt x="1900" y="504"/>
                  </a:lnTo>
                  <a:lnTo>
                    <a:pt x="1905" y="510"/>
                  </a:lnTo>
                  <a:lnTo>
                    <a:pt x="1918" y="519"/>
                  </a:lnTo>
                  <a:lnTo>
                    <a:pt x="1925" y="526"/>
                  </a:lnTo>
                  <a:lnTo>
                    <a:pt x="1931" y="530"/>
                  </a:lnTo>
                  <a:lnTo>
                    <a:pt x="1936" y="536"/>
                  </a:lnTo>
                  <a:lnTo>
                    <a:pt x="1941" y="540"/>
                  </a:lnTo>
                  <a:lnTo>
                    <a:pt x="1948" y="546"/>
                  </a:lnTo>
                  <a:lnTo>
                    <a:pt x="1953" y="553"/>
                  </a:lnTo>
                  <a:lnTo>
                    <a:pt x="1959" y="559"/>
                  </a:lnTo>
                  <a:lnTo>
                    <a:pt x="1976" y="585"/>
                  </a:lnTo>
                  <a:lnTo>
                    <a:pt x="1977" y="591"/>
                  </a:lnTo>
                  <a:lnTo>
                    <a:pt x="1982" y="598"/>
                  </a:lnTo>
                  <a:lnTo>
                    <a:pt x="1986" y="611"/>
                  </a:lnTo>
                  <a:lnTo>
                    <a:pt x="1989" y="615"/>
                  </a:lnTo>
                  <a:lnTo>
                    <a:pt x="1997" y="640"/>
                  </a:lnTo>
                  <a:lnTo>
                    <a:pt x="1997" y="647"/>
                  </a:lnTo>
                  <a:lnTo>
                    <a:pt x="1999" y="653"/>
                  </a:lnTo>
                  <a:lnTo>
                    <a:pt x="1999" y="664"/>
                  </a:lnTo>
                  <a:lnTo>
                    <a:pt x="2002" y="670"/>
                  </a:lnTo>
                  <a:lnTo>
                    <a:pt x="2002" y="683"/>
                  </a:lnTo>
                  <a:lnTo>
                    <a:pt x="1999" y="689"/>
                  </a:lnTo>
                  <a:lnTo>
                    <a:pt x="1999" y="702"/>
                  </a:lnTo>
                  <a:lnTo>
                    <a:pt x="1997" y="709"/>
                  </a:lnTo>
                  <a:lnTo>
                    <a:pt x="1997" y="715"/>
                  </a:lnTo>
                  <a:lnTo>
                    <a:pt x="1994" y="722"/>
                  </a:lnTo>
                  <a:lnTo>
                    <a:pt x="1994" y="726"/>
                  </a:lnTo>
                  <a:lnTo>
                    <a:pt x="1986" y="751"/>
                  </a:lnTo>
                  <a:lnTo>
                    <a:pt x="1982" y="758"/>
                  </a:lnTo>
                  <a:lnTo>
                    <a:pt x="1977" y="771"/>
                  </a:lnTo>
                  <a:lnTo>
                    <a:pt x="1971" y="778"/>
                  </a:lnTo>
                  <a:lnTo>
                    <a:pt x="1966" y="789"/>
                  </a:lnTo>
                  <a:lnTo>
                    <a:pt x="1953" y="807"/>
                  </a:lnTo>
                  <a:lnTo>
                    <a:pt x="1946" y="812"/>
                  </a:lnTo>
                  <a:lnTo>
                    <a:pt x="1940" y="821"/>
                  </a:lnTo>
                  <a:lnTo>
                    <a:pt x="1925" y="835"/>
                  </a:lnTo>
                  <a:lnTo>
                    <a:pt x="1891" y="861"/>
                  </a:lnTo>
                  <a:lnTo>
                    <a:pt x="1882" y="866"/>
                  </a:lnTo>
                  <a:lnTo>
                    <a:pt x="1872" y="871"/>
                  </a:lnTo>
                  <a:lnTo>
                    <a:pt x="1864" y="876"/>
                  </a:lnTo>
                  <a:lnTo>
                    <a:pt x="1852" y="880"/>
                  </a:lnTo>
                  <a:lnTo>
                    <a:pt x="1843" y="884"/>
                  </a:lnTo>
                  <a:lnTo>
                    <a:pt x="1823" y="893"/>
                  </a:lnTo>
                  <a:lnTo>
                    <a:pt x="1815" y="897"/>
                  </a:lnTo>
                  <a:lnTo>
                    <a:pt x="1793" y="902"/>
                  </a:lnTo>
                  <a:lnTo>
                    <a:pt x="1783" y="906"/>
                  </a:lnTo>
                  <a:lnTo>
                    <a:pt x="1772" y="909"/>
                  </a:lnTo>
                  <a:lnTo>
                    <a:pt x="1762" y="909"/>
                  </a:lnTo>
                  <a:lnTo>
                    <a:pt x="1740" y="913"/>
                  </a:lnTo>
                  <a:lnTo>
                    <a:pt x="1727" y="913"/>
                  </a:lnTo>
                  <a:lnTo>
                    <a:pt x="1717" y="915"/>
                  </a:lnTo>
                  <a:lnTo>
                    <a:pt x="1682" y="915"/>
                  </a:lnTo>
                  <a:lnTo>
                    <a:pt x="1682" y="916"/>
                  </a:lnTo>
                  <a:lnTo>
                    <a:pt x="1681" y="916"/>
                  </a:lnTo>
                  <a:lnTo>
                    <a:pt x="1681" y="919"/>
                  </a:lnTo>
                  <a:lnTo>
                    <a:pt x="1678" y="919"/>
                  </a:lnTo>
                  <a:lnTo>
                    <a:pt x="1681" y="923"/>
                  </a:lnTo>
                  <a:lnTo>
                    <a:pt x="1681" y="938"/>
                  </a:lnTo>
                  <a:lnTo>
                    <a:pt x="1682" y="942"/>
                  </a:lnTo>
                  <a:lnTo>
                    <a:pt x="1682" y="946"/>
                  </a:lnTo>
                  <a:lnTo>
                    <a:pt x="1681" y="951"/>
                  </a:lnTo>
                  <a:lnTo>
                    <a:pt x="1681" y="964"/>
                  </a:lnTo>
                  <a:lnTo>
                    <a:pt x="1678" y="972"/>
                  </a:lnTo>
                  <a:lnTo>
                    <a:pt x="1678" y="977"/>
                  </a:lnTo>
                  <a:lnTo>
                    <a:pt x="1677" y="981"/>
                  </a:lnTo>
                  <a:lnTo>
                    <a:pt x="1677" y="985"/>
                  </a:lnTo>
                  <a:lnTo>
                    <a:pt x="1672" y="994"/>
                  </a:lnTo>
                  <a:lnTo>
                    <a:pt x="1672" y="998"/>
                  </a:lnTo>
                  <a:lnTo>
                    <a:pt x="1665" y="1010"/>
                  </a:lnTo>
                  <a:lnTo>
                    <a:pt x="1665" y="1014"/>
                  </a:lnTo>
                  <a:lnTo>
                    <a:pt x="1657" y="1031"/>
                  </a:lnTo>
                  <a:lnTo>
                    <a:pt x="1652" y="1034"/>
                  </a:lnTo>
                  <a:lnTo>
                    <a:pt x="1645" y="1051"/>
                  </a:lnTo>
                  <a:lnTo>
                    <a:pt x="1641" y="1053"/>
                  </a:lnTo>
                  <a:lnTo>
                    <a:pt x="1628" y="1070"/>
                  </a:lnTo>
                  <a:lnTo>
                    <a:pt x="1619" y="1079"/>
                  </a:lnTo>
                  <a:lnTo>
                    <a:pt x="1612" y="1087"/>
                  </a:lnTo>
                  <a:lnTo>
                    <a:pt x="1596" y="1100"/>
                  </a:lnTo>
                  <a:lnTo>
                    <a:pt x="1588" y="1108"/>
                  </a:lnTo>
                  <a:lnTo>
                    <a:pt x="1562" y="1128"/>
                  </a:lnTo>
                  <a:lnTo>
                    <a:pt x="1552" y="1132"/>
                  </a:lnTo>
                  <a:lnTo>
                    <a:pt x="1534" y="1145"/>
                  </a:lnTo>
                  <a:lnTo>
                    <a:pt x="1523" y="1148"/>
                  </a:lnTo>
                  <a:lnTo>
                    <a:pt x="1514" y="1152"/>
                  </a:lnTo>
                  <a:lnTo>
                    <a:pt x="1504" y="1159"/>
                  </a:lnTo>
                  <a:lnTo>
                    <a:pt x="1483" y="1168"/>
                  </a:lnTo>
                  <a:lnTo>
                    <a:pt x="1474" y="1172"/>
                  </a:lnTo>
                  <a:lnTo>
                    <a:pt x="1464" y="1174"/>
                  </a:lnTo>
                  <a:lnTo>
                    <a:pt x="1442" y="1183"/>
                  </a:lnTo>
                  <a:lnTo>
                    <a:pt x="1421" y="1187"/>
                  </a:lnTo>
                  <a:lnTo>
                    <a:pt x="1411" y="1191"/>
                  </a:lnTo>
                  <a:lnTo>
                    <a:pt x="1379" y="1197"/>
                  </a:lnTo>
                  <a:lnTo>
                    <a:pt x="1366" y="1200"/>
                  </a:lnTo>
                  <a:lnTo>
                    <a:pt x="1356" y="1200"/>
                  </a:lnTo>
                  <a:lnTo>
                    <a:pt x="1334" y="1204"/>
                  </a:lnTo>
                  <a:lnTo>
                    <a:pt x="1326" y="1213"/>
                  </a:lnTo>
                  <a:lnTo>
                    <a:pt x="1320" y="1223"/>
                  </a:lnTo>
                  <a:lnTo>
                    <a:pt x="1311" y="1231"/>
                  </a:lnTo>
                  <a:lnTo>
                    <a:pt x="1303" y="1242"/>
                  </a:lnTo>
                  <a:lnTo>
                    <a:pt x="1286" y="1259"/>
                  </a:lnTo>
                  <a:lnTo>
                    <a:pt x="1275" y="1267"/>
                  </a:lnTo>
                  <a:lnTo>
                    <a:pt x="1267" y="1275"/>
                  </a:lnTo>
                  <a:lnTo>
                    <a:pt x="1255" y="1283"/>
                  </a:lnTo>
                  <a:lnTo>
                    <a:pt x="1247" y="1289"/>
                  </a:lnTo>
                  <a:lnTo>
                    <a:pt x="1237" y="1295"/>
                  </a:lnTo>
                  <a:lnTo>
                    <a:pt x="1227" y="1303"/>
                  </a:lnTo>
                  <a:lnTo>
                    <a:pt x="1215" y="1311"/>
                  </a:lnTo>
                  <a:lnTo>
                    <a:pt x="1205" y="1315"/>
                  </a:lnTo>
                  <a:lnTo>
                    <a:pt x="1183" y="1328"/>
                  </a:lnTo>
                  <a:lnTo>
                    <a:pt x="1162" y="1335"/>
                  </a:lnTo>
                  <a:lnTo>
                    <a:pt x="1149" y="1342"/>
                  </a:lnTo>
                  <a:lnTo>
                    <a:pt x="1139" y="1347"/>
                  </a:lnTo>
                  <a:lnTo>
                    <a:pt x="1126" y="1351"/>
                  </a:lnTo>
                  <a:lnTo>
                    <a:pt x="1116" y="1355"/>
                  </a:lnTo>
                  <a:lnTo>
                    <a:pt x="1103" y="1357"/>
                  </a:lnTo>
                  <a:lnTo>
                    <a:pt x="1093" y="1361"/>
                  </a:lnTo>
                  <a:lnTo>
                    <a:pt x="1080" y="1364"/>
                  </a:lnTo>
                  <a:lnTo>
                    <a:pt x="1067" y="1368"/>
                  </a:lnTo>
                  <a:lnTo>
                    <a:pt x="1055" y="1370"/>
                  </a:lnTo>
                  <a:lnTo>
                    <a:pt x="1005" y="1378"/>
                  </a:lnTo>
                  <a:lnTo>
                    <a:pt x="995" y="1380"/>
                  </a:lnTo>
                  <a:lnTo>
                    <a:pt x="946" y="1384"/>
                  </a:lnTo>
                  <a:lnTo>
                    <a:pt x="909" y="1384"/>
                  </a:lnTo>
                  <a:lnTo>
                    <a:pt x="893" y="1383"/>
                  </a:lnTo>
                  <a:lnTo>
                    <a:pt x="867" y="1383"/>
                  </a:lnTo>
                  <a:lnTo>
                    <a:pt x="858" y="1380"/>
                  </a:lnTo>
                  <a:lnTo>
                    <a:pt x="850" y="1380"/>
                  </a:lnTo>
                  <a:lnTo>
                    <a:pt x="841" y="1378"/>
                  </a:lnTo>
                  <a:lnTo>
                    <a:pt x="833" y="1378"/>
                  </a:lnTo>
                  <a:lnTo>
                    <a:pt x="824" y="1377"/>
                  </a:lnTo>
                  <a:lnTo>
                    <a:pt x="815" y="1377"/>
                  </a:lnTo>
                  <a:lnTo>
                    <a:pt x="791" y="1370"/>
                  </a:lnTo>
                  <a:lnTo>
                    <a:pt x="782" y="1370"/>
                  </a:lnTo>
                  <a:lnTo>
                    <a:pt x="774" y="1368"/>
                  </a:lnTo>
                  <a:lnTo>
                    <a:pt x="768" y="1365"/>
                  </a:lnTo>
                  <a:lnTo>
                    <a:pt x="733" y="1357"/>
                  </a:lnTo>
                  <a:lnTo>
                    <a:pt x="725" y="1352"/>
                  </a:lnTo>
                  <a:lnTo>
                    <a:pt x="716" y="1351"/>
                  </a:lnTo>
                  <a:lnTo>
                    <a:pt x="710" y="1348"/>
                  </a:lnTo>
                  <a:lnTo>
                    <a:pt x="702" y="1347"/>
                  </a:lnTo>
                  <a:lnTo>
                    <a:pt x="693" y="1342"/>
                  </a:lnTo>
                  <a:lnTo>
                    <a:pt x="676" y="1335"/>
                  </a:lnTo>
                  <a:lnTo>
                    <a:pt x="671" y="1335"/>
                  </a:lnTo>
                  <a:lnTo>
                    <a:pt x="667" y="1334"/>
                  </a:lnTo>
                  <a:lnTo>
                    <a:pt x="666" y="1332"/>
                  </a:lnTo>
                  <a:lnTo>
                    <a:pt x="657" y="1328"/>
                  </a:lnTo>
                  <a:lnTo>
                    <a:pt x="654" y="1328"/>
                  </a:lnTo>
                  <a:lnTo>
                    <a:pt x="641" y="1321"/>
                  </a:lnTo>
                  <a:lnTo>
                    <a:pt x="640" y="1319"/>
                  </a:lnTo>
                  <a:lnTo>
                    <a:pt x="636" y="1319"/>
                  </a:lnTo>
                  <a:lnTo>
                    <a:pt x="631" y="1316"/>
                  </a:lnTo>
                  <a:lnTo>
                    <a:pt x="628" y="1315"/>
                  </a:lnTo>
                  <a:lnTo>
                    <a:pt x="621" y="1311"/>
                  </a:lnTo>
                  <a:lnTo>
                    <a:pt x="618" y="1308"/>
                  </a:lnTo>
                  <a:lnTo>
                    <a:pt x="608" y="1303"/>
                  </a:lnTo>
                  <a:lnTo>
                    <a:pt x="587" y="1290"/>
                  </a:lnTo>
                  <a:lnTo>
                    <a:pt x="578" y="1285"/>
                  </a:lnTo>
                  <a:lnTo>
                    <a:pt x="568" y="1279"/>
                  </a:lnTo>
                  <a:lnTo>
                    <a:pt x="559" y="1272"/>
                  </a:lnTo>
                  <a:lnTo>
                    <a:pt x="548" y="1263"/>
                  </a:lnTo>
                  <a:lnTo>
                    <a:pt x="532" y="1250"/>
                  </a:lnTo>
                  <a:lnTo>
                    <a:pt x="523" y="1242"/>
                  </a:lnTo>
                  <a:lnTo>
                    <a:pt x="515" y="1236"/>
                  </a:lnTo>
                  <a:lnTo>
                    <a:pt x="497" y="1219"/>
                  </a:lnTo>
                  <a:lnTo>
                    <a:pt x="489" y="1213"/>
                  </a:lnTo>
                  <a:lnTo>
                    <a:pt x="483" y="1204"/>
                  </a:lnTo>
                  <a:lnTo>
                    <a:pt x="474" y="1195"/>
                  </a:lnTo>
                  <a:lnTo>
                    <a:pt x="462" y="1178"/>
                  </a:lnTo>
                  <a:lnTo>
                    <a:pt x="454" y="1168"/>
                  </a:lnTo>
                  <a:lnTo>
                    <a:pt x="443" y="1151"/>
                  </a:lnTo>
                  <a:lnTo>
                    <a:pt x="436" y="1141"/>
                  </a:lnTo>
                  <a:lnTo>
                    <a:pt x="430" y="1132"/>
                  </a:lnTo>
                  <a:lnTo>
                    <a:pt x="417" y="1100"/>
                  </a:lnTo>
                  <a:lnTo>
                    <a:pt x="410" y="1089"/>
                  </a:lnTo>
                  <a:lnTo>
                    <a:pt x="408" y="1079"/>
                  </a:lnTo>
                  <a:lnTo>
                    <a:pt x="400" y="1057"/>
                  </a:lnTo>
                  <a:lnTo>
                    <a:pt x="395" y="1036"/>
                  </a:lnTo>
                  <a:lnTo>
                    <a:pt x="387" y="1036"/>
                  </a:lnTo>
                  <a:lnTo>
                    <a:pt x="381" y="1034"/>
                  </a:lnTo>
                  <a:lnTo>
                    <a:pt x="351" y="1034"/>
                  </a:lnTo>
                  <a:lnTo>
                    <a:pt x="346" y="1031"/>
                  </a:lnTo>
                  <a:lnTo>
                    <a:pt x="334" y="1031"/>
                  </a:lnTo>
                  <a:lnTo>
                    <a:pt x="329" y="1030"/>
                  </a:lnTo>
                  <a:lnTo>
                    <a:pt x="316" y="1030"/>
                  </a:lnTo>
                  <a:lnTo>
                    <a:pt x="312" y="1027"/>
                  </a:lnTo>
                  <a:lnTo>
                    <a:pt x="308" y="1027"/>
                  </a:lnTo>
                  <a:lnTo>
                    <a:pt x="303" y="1026"/>
                  </a:lnTo>
                  <a:lnTo>
                    <a:pt x="296" y="1026"/>
                  </a:lnTo>
                  <a:lnTo>
                    <a:pt x="292" y="1023"/>
                  </a:lnTo>
                  <a:lnTo>
                    <a:pt x="287" y="1023"/>
                  </a:lnTo>
                  <a:lnTo>
                    <a:pt x="283" y="1021"/>
                  </a:lnTo>
                  <a:lnTo>
                    <a:pt x="279" y="1021"/>
                  </a:lnTo>
                  <a:lnTo>
                    <a:pt x="275" y="1018"/>
                  </a:lnTo>
                  <a:lnTo>
                    <a:pt x="270" y="1018"/>
                  </a:lnTo>
                  <a:lnTo>
                    <a:pt x="262" y="1014"/>
                  </a:lnTo>
                  <a:lnTo>
                    <a:pt x="257" y="1014"/>
                  </a:lnTo>
                  <a:lnTo>
                    <a:pt x="231" y="1007"/>
                  </a:lnTo>
                  <a:lnTo>
                    <a:pt x="221" y="1000"/>
                  </a:lnTo>
                  <a:lnTo>
                    <a:pt x="208" y="995"/>
                  </a:lnTo>
                  <a:lnTo>
                    <a:pt x="183" y="982"/>
                  </a:lnTo>
                  <a:lnTo>
                    <a:pt x="172" y="977"/>
                  </a:lnTo>
                  <a:lnTo>
                    <a:pt x="160" y="969"/>
                  </a:lnTo>
                  <a:lnTo>
                    <a:pt x="149" y="961"/>
                  </a:lnTo>
                  <a:lnTo>
                    <a:pt x="138" y="955"/>
                  </a:lnTo>
                  <a:lnTo>
                    <a:pt x="125" y="946"/>
                  </a:lnTo>
                  <a:lnTo>
                    <a:pt x="105" y="929"/>
                  </a:lnTo>
                  <a:lnTo>
                    <a:pt x="96" y="920"/>
                  </a:lnTo>
                  <a:lnTo>
                    <a:pt x="85" y="913"/>
                  </a:lnTo>
                  <a:lnTo>
                    <a:pt x="76" y="902"/>
                  </a:lnTo>
                  <a:lnTo>
                    <a:pt x="69" y="893"/>
                  </a:lnTo>
                  <a:lnTo>
                    <a:pt x="43" y="861"/>
                  </a:lnTo>
                  <a:lnTo>
                    <a:pt x="30" y="840"/>
                  </a:lnTo>
                  <a:lnTo>
                    <a:pt x="24" y="827"/>
                  </a:lnTo>
                  <a:lnTo>
                    <a:pt x="20" y="817"/>
                  </a:lnTo>
                  <a:lnTo>
                    <a:pt x="16" y="804"/>
                  </a:lnTo>
                  <a:lnTo>
                    <a:pt x="11" y="794"/>
                  </a:lnTo>
                  <a:lnTo>
                    <a:pt x="7" y="781"/>
                  </a:lnTo>
                  <a:lnTo>
                    <a:pt x="3" y="755"/>
                  </a:lnTo>
                  <a:lnTo>
                    <a:pt x="3" y="740"/>
                  </a:lnTo>
                  <a:lnTo>
                    <a:pt x="0" y="728"/>
                  </a:lnTo>
                  <a:lnTo>
                    <a:pt x="0" y="715"/>
                  </a:lnTo>
                  <a:lnTo>
                    <a:pt x="3" y="706"/>
                  </a:lnTo>
                  <a:lnTo>
                    <a:pt x="4" y="696"/>
                  </a:lnTo>
                  <a:lnTo>
                    <a:pt x="9" y="679"/>
                  </a:lnTo>
                  <a:lnTo>
                    <a:pt x="11" y="673"/>
                  </a:lnTo>
                  <a:lnTo>
                    <a:pt x="13" y="664"/>
                  </a:lnTo>
                  <a:lnTo>
                    <a:pt x="17" y="656"/>
                  </a:lnTo>
                  <a:lnTo>
                    <a:pt x="21" y="648"/>
                  </a:lnTo>
                  <a:lnTo>
                    <a:pt x="24" y="643"/>
                  </a:lnTo>
                  <a:lnTo>
                    <a:pt x="27" y="634"/>
                  </a:lnTo>
                  <a:lnTo>
                    <a:pt x="36" y="621"/>
                  </a:lnTo>
                  <a:lnTo>
                    <a:pt x="43" y="615"/>
                  </a:lnTo>
                  <a:lnTo>
                    <a:pt x="47" y="608"/>
                  </a:lnTo>
                  <a:lnTo>
                    <a:pt x="65" y="591"/>
                  </a:lnTo>
                  <a:lnTo>
                    <a:pt x="70" y="588"/>
                  </a:lnTo>
                  <a:lnTo>
                    <a:pt x="76" y="581"/>
                  </a:lnTo>
                  <a:lnTo>
                    <a:pt x="96" y="568"/>
                  </a:lnTo>
                  <a:lnTo>
                    <a:pt x="105" y="563"/>
                  </a:lnTo>
                  <a:lnTo>
                    <a:pt x="111" y="559"/>
                  </a:lnTo>
                  <a:lnTo>
                    <a:pt x="119" y="555"/>
                  </a:lnTo>
                  <a:lnTo>
                    <a:pt x="125" y="550"/>
                  </a:lnTo>
                  <a:lnTo>
                    <a:pt x="134" y="549"/>
                  </a:lnTo>
                  <a:lnTo>
                    <a:pt x="142" y="545"/>
                  </a:lnTo>
                  <a:lnTo>
                    <a:pt x="151" y="542"/>
                  </a:lnTo>
                  <a:lnTo>
                    <a:pt x="158" y="540"/>
                  </a:lnTo>
                  <a:lnTo>
                    <a:pt x="165" y="539"/>
                  </a:lnTo>
                  <a:lnTo>
                    <a:pt x="174" y="535"/>
                  </a:lnTo>
                  <a:lnTo>
                    <a:pt x="170" y="530"/>
                  </a:lnTo>
                  <a:lnTo>
                    <a:pt x="164" y="526"/>
                  </a:lnTo>
                  <a:lnTo>
                    <a:pt x="155" y="517"/>
                  </a:lnTo>
                  <a:lnTo>
                    <a:pt x="149" y="513"/>
                  </a:lnTo>
                  <a:lnTo>
                    <a:pt x="145" y="509"/>
                  </a:lnTo>
                  <a:lnTo>
                    <a:pt x="141" y="501"/>
                  </a:lnTo>
                  <a:lnTo>
                    <a:pt x="137" y="497"/>
                  </a:lnTo>
                  <a:lnTo>
                    <a:pt x="134" y="491"/>
                  </a:lnTo>
                  <a:lnTo>
                    <a:pt x="125" y="483"/>
                  </a:lnTo>
                  <a:lnTo>
                    <a:pt x="124" y="477"/>
                  </a:lnTo>
                  <a:lnTo>
                    <a:pt x="119" y="470"/>
                  </a:lnTo>
                  <a:lnTo>
                    <a:pt x="118" y="465"/>
                  </a:lnTo>
                  <a:lnTo>
                    <a:pt x="113" y="452"/>
                  </a:lnTo>
                  <a:lnTo>
                    <a:pt x="111" y="448"/>
                  </a:lnTo>
                  <a:lnTo>
                    <a:pt x="105" y="429"/>
                  </a:lnTo>
                  <a:lnTo>
                    <a:pt x="105" y="416"/>
                  </a:lnTo>
                  <a:lnTo>
                    <a:pt x="102" y="411"/>
                  </a:lnTo>
                  <a:lnTo>
                    <a:pt x="102" y="385"/>
                  </a:lnTo>
                  <a:lnTo>
                    <a:pt x="105" y="379"/>
                  </a:lnTo>
                  <a:lnTo>
                    <a:pt x="105" y="372"/>
                  </a:lnTo>
                  <a:lnTo>
                    <a:pt x="106" y="363"/>
                  </a:lnTo>
                  <a:lnTo>
                    <a:pt x="111" y="352"/>
                  </a:lnTo>
                  <a:lnTo>
                    <a:pt x="115" y="340"/>
                  </a:lnTo>
                  <a:lnTo>
                    <a:pt x="119" y="327"/>
                  </a:lnTo>
                  <a:lnTo>
                    <a:pt x="125" y="317"/>
                  </a:lnTo>
                  <a:lnTo>
                    <a:pt x="132" y="308"/>
                  </a:lnTo>
                  <a:lnTo>
                    <a:pt x="145" y="287"/>
                  </a:lnTo>
                  <a:lnTo>
                    <a:pt x="178" y="254"/>
                  </a:lnTo>
                  <a:lnTo>
                    <a:pt x="187" y="247"/>
                  </a:lnTo>
                  <a:lnTo>
                    <a:pt x="198" y="241"/>
                  </a:lnTo>
                  <a:lnTo>
                    <a:pt x="208" y="232"/>
                  </a:lnTo>
                  <a:lnTo>
                    <a:pt x="217" y="225"/>
                  </a:lnTo>
                  <a:lnTo>
                    <a:pt x="227" y="221"/>
                  </a:lnTo>
                  <a:lnTo>
                    <a:pt x="239" y="215"/>
                  </a:lnTo>
                  <a:lnTo>
                    <a:pt x="252" y="209"/>
                  </a:lnTo>
                  <a:lnTo>
                    <a:pt x="272" y="201"/>
                  </a:lnTo>
                  <a:lnTo>
                    <a:pt x="285" y="196"/>
                  </a:lnTo>
                  <a:lnTo>
                    <a:pt x="296" y="192"/>
                  </a:lnTo>
                  <a:lnTo>
                    <a:pt x="308" y="189"/>
                  </a:lnTo>
                  <a:lnTo>
                    <a:pt x="321" y="185"/>
                  </a:lnTo>
                  <a:lnTo>
                    <a:pt x="332" y="183"/>
                  </a:lnTo>
                  <a:lnTo>
                    <a:pt x="357" y="179"/>
                  </a:lnTo>
                  <a:lnTo>
                    <a:pt x="368" y="176"/>
                  </a:lnTo>
                  <a:lnTo>
                    <a:pt x="394" y="176"/>
                  </a:lnTo>
                  <a:lnTo>
                    <a:pt x="405" y="175"/>
                  </a:lnTo>
                  <a:lnTo>
                    <a:pt x="430" y="17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010040" y="4451400"/>
            <a:ext cx="1079640" cy="749160"/>
            <a:chOff x="4010040" y="4451400"/>
            <a:chExt cx="1079640" cy="749160"/>
          </a:xfrm>
        </p:grpSpPr>
        <p:sp>
          <p:nvSpPr>
            <p:cNvPr id="553" name=""/>
            <p:cNvSpPr/>
            <p:nvPr/>
          </p:nvSpPr>
          <p:spPr>
            <a:xfrm>
              <a:off x="4010040" y="4451400"/>
              <a:ext cx="1079640" cy="749160"/>
            </a:xfrm>
            <a:custGeom>
              <a:avLst/>
              <a:gdLst/>
              <a:ahLst/>
              <a:rect l="l" t="t" r="r" b="b"/>
              <a:pathLst>
                <a:path w="2041" h="1417">
                  <a:moveTo>
                    <a:pt x="237" y="1062"/>
                  </a:moveTo>
                  <a:lnTo>
                    <a:pt x="239" y="1067"/>
                  </a:lnTo>
                  <a:lnTo>
                    <a:pt x="239" y="1071"/>
                  </a:lnTo>
                  <a:lnTo>
                    <a:pt x="240" y="1074"/>
                  </a:lnTo>
                  <a:lnTo>
                    <a:pt x="242" y="1078"/>
                  </a:lnTo>
                  <a:lnTo>
                    <a:pt x="242" y="1081"/>
                  </a:lnTo>
                  <a:lnTo>
                    <a:pt x="243" y="1085"/>
                  </a:lnTo>
                  <a:lnTo>
                    <a:pt x="245" y="1088"/>
                  </a:lnTo>
                  <a:lnTo>
                    <a:pt x="246" y="1093"/>
                  </a:lnTo>
                  <a:lnTo>
                    <a:pt x="247" y="1096"/>
                  </a:lnTo>
                  <a:lnTo>
                    <a:pt x="249" y="1100"/>
                  </a:lnTo>
                  <a:lnTo>
                    <a:pt x="250" y="1104"/>
                  </a:lnTo>
                  <a:lnTo>
                    <a:pt x="252" y="1107"/>
                  </a:lnTo>
                  <a:lnTo>
                    <a:pt x="253" y="1111"/>
                  </a:lnTo>
                  <a:lnTo>
                    <a:pt x="255" y="1114"/>
                  </a:lnTo>
                  <a:lnTo>
                    <a:pt x="258" y="1119"/>
                  </a:lnTo>
                  <a:lnTo>
                    <a:pt x="259" y="1121"/>
                  </a:lnTo>
                  <a:lnTo>
                    <a:pt x="263" y="1130"/>
                  </a:lnTo>
                  <a:lnTo>
                    <a:pt x="268" y="1137"/>
                  </a:lnTo>
                  <a:lnTo>
                    <a:pt x="273" y="1145"/>
                  </a:lnTo>
                  <a:lnTo>
                    <a:pt x="279" y="1152"/>
                  </a:lnTo>
                  <a:lnTo>
                    <a:pt x="285" y="1159"/>
                  </a:lnTo>
                  <a:lnTo>
                    <a:pt x="291" y="1166"/>
                  </a:lnTo>
                  <a:lnTo>
                    <a:pt x="296" y="1172"/>
                  </a:lnTo>
                  <a:lnTo>
                    <a:pt x="304" y="1179"/>
                  </a:lnTo>
                  <a:lnTo>
                    <a:pt x="311" y="1185"/>
                  </a:lnTo>
                  <a:lnTo>
                    <a:pt x="317" y="1191"/>
                  </a:lnTo>
                  <a:lnTo>
                    <a:pt x="325" y="1196"/>
                  </a:lnTo>
                  <a:lnTo>
                    <a:pt x="332" y="1201"/>
                  </a:lnTo>
                  <a:lnTo>
                    <a:pt x="340" y="1206"/>
                  </a:lnTo>
                  <a:lnTo>
                    <a:pt x="347" y="1211"/>
                  </a:lnTo>
                  <a:lnTo>
                    <a:pt x="355" y="1215"/>
                  </a:lnTo>
                  <a:lnTo>
                    <a:pt x="363" y="1219"/>
                  </a:lnTo>
                  <a:lnTo>
                    <a:pt x="371" y="1222"/>
                  </a:lnTo>
                  <a:lnTo>
                    <a:pt x="380" y="1225"/>
                  </a:lnTo>
                  <a:lnTo>
                    <a:pt x="388" y="1229"/>
                  </a:lnTo>
                  <a:lnTo>
                    <a:pt x="397" y="1232"/>
                  </a:lnTo>
                  <a:lnTo>
                    <a:pt x="406" y="1234"/>
                  </a:lnTo>
                  <a:lnTo>
                    <a:pt x="414" y="1237"/>
                  </a:lnTo>
                  <a:lnTo>
                    <a:pt x="423" y="1238"/>
                  </a:lnTo>
                  <a:lnTo>
                    <a:pt x="432" y="1240"/>
                  </a:lnTo>
                  <a:lnTo>
                    <a:pt x="440" y="1241"/>
                  </a:lnTo>
                  <a:lnTo>
                    <a:pt x="449" y="1241"/>
                  </a:lnTo>
                  <a:lnTo>
                    <a:pt x="458" y="1242"/>
                  </a:lnTo>
                  <a:lnTo>
                    <a:pt x="468" y="1242"/>
                  </a:lnTo>
                  <a:lnTo>
                    <a:pt x="476" y="1241"/>
                  </a:lnTo>
                  <a:lnTo>
                    <a:pt x="485" y="1241"/>
                  </a:lnTo>
                  <a:lnTo>
                    <a:pt x="494" y="1240"/>
                  </a:lnTo>
                  <a:lnTo>
                    <a:pt x="502" y="1238"/>
                  </a:lnTo>
                  <a:lnTo>
                    <a:pt x="506" y="1247"/>
                  </a:lnTo>
                  <a:lnTo>
                    <a:pt x="512" y="1257"/>
                  </a:lnTo>
                  <a:lnTo>
                    <a:pt x="518" y="1265"/>
                  </a:lnTo>
                  <a:lnTo>
                    <a:pt x="524" y="1274"/>
                  </a:lnTo>
                  <a:lnTo>
                    <a:pt x="531" y="1283"/>
                  </a:lnTo>
                  <a:lnTo>
                    <a:pt x="538" y="1290"/>
                  </a:lnTo>
                  <a:lnTo>
                    <a:pt x="547" y="1299"/>
                  </a:lnTo>
                  <a:lnTo>
                    <a:pt x="555" y="1306"/>
                  </a:lnTo>
                  <a:lnTo>
                    <a:pt x="564" y="1314"/>
                  </a:lnTo>
                  <a:lnTo>
                    <a:pt x="573" y="1322"/>
                  </a:lnTo>
                  <a:lnTo>
                    <a:pt x="583" y="1329"/>
                  </a:lnTo>
                  <a:lnTo>
                    <a:pt x="593" y="1336"/>
                  </a:lnTo>
                  <a:lnTo>
                    <a:pt x="604" y="1343"/>
                  </a:lnTo>
                  <a:lnTo>
                    <a:pt x="614" y="1349"/>
                  </a:lnTo>
                  <a:lnTo>
                    <a:pt x="626" y="1356"/>
                  </a:lnTo>
                  <a:lnTo>
                    <a:pt x="637" y="1362"/>
                  </a:lnTo>
                  <a:lnTo>
                    <a:pt x="650" y="1368"/>
                  </a:lnTo>
                  <a:lnTo>
                    <a:pt x="663" y="1373"/>
                  </a:lnTo>
                  <a:lnTo>
                    <a:pt x="676" y="1378"/>
                  </a:lnTo>
                  <a:lnTo>
                    <a:pt x="689" y="1384"/>
                  </a:lnTo>
                  <a:lnTo>
                    <a:pt x="702" y="1388"/>
                  </a:lnTo>
                  <a:lnTo>
                    <a:pt x="717" y="1392"/>
                  </a:lnTo>
                  <a:lnTo>
                    <a:pt x="731" y="1396"/>
                  </a:lnTo>
                  <a:lnTo>
                    <a:pt x="745" y="1399"/>
                  </a:lnTo>
                  <a:lnTo>
                    <a:pt x="760" y="1402"/>
                  </a:lnTo>
                  <a:lnTo>
                    <a:pt x="776" y="1405"/>
                  </a:lnTo>
                  <a:lnTo>
                    <a:pt x="790" y="1408"/>
                  </a:lnTo>
                  <a:lnTo>
                    <a:pt x="806" y="1411"/>
                  </a:lnTo>
                  <a:lnTo>
                    <a:pt x="822" y="1412"/>
                  </a:lnTo>
                  <a:lnTo>
                    <a:pt x="838" y="1414"/>
                  </a:lnTo>
                  <a:lnTo>
                    <a:pt x="853" y="1415"/>
                  </a:lnTo>
                  <a:lnTo>
                    <a:pt x="871" y="1415"/>
                  </a:lnTo>
                  <a:lnTo>
                    <a:pt x="884" y="1417"/>
                  </a:lnTo>
                  <a:lnTo>
                    <a:pt x="898" y="1417"/>
                  </a:lnTo>
                  <a:lnTo>
                    <a:pt x="911" y="1415"/>
                  </a:lnTo>
                  <a:lnTo>
                    <a:pt x="924" y="1415"/>
                  </a:lnTo>
                  <a:lnTo>
                    <a:pt x="937" y="1415"/>
                  </a:lnTo>
                  <a:lnTo>
                    <a:pt x="951" y="1414"/>
                  </a:lnTo>
                  <a:lnTo>
                    <a:pt x="963" y="1412"/>
                  </a:lnTo>
                  <a:lnTo>
                    <a:pt x="976" y="1411"/>
                  </a:lnTo>
                  <a:lnTo>
                    <a:pt x="989" y="1408"/>
                  </a:lnTo>
                  <a:lnTo>
                    <a:pt x="1002" y="1407"/>
                  </a:lnTo>
                  <a:lnTo>
                    <a:pt x="1013" y="1404"/>
                  </a:lnTo>
                  <a:lnTo>
                    <a:pt x="1026" y="1402"/>
                  </a:lnTo>
                  <a:lnTo>
                    <a:pt x="1038" y="1399"/>
                  </a:lnTo>
                  <a:lnTo>
                    <a:pt x="1049" y="1395"/>
                  </a:lnTo>
                  <a:lnTo>
                    <a:pt x="1061" y="1392"/>
                  </a:lnTo>
                  <a:lnTo>
                    <a:pt x="1072" y="1389"/>
                  </a:lnTo>
                  <a:lnTo>
                    <a:pt x="1084" y="1385"/>
                  </a:lnTo>
                  <a:lnTo>
                    <a:pt x="1094" y="1381"/>
                  </a:lnTo>
                  <a:lnTo>
                    <a:pt x="1105" y="1378"/>
                  </a:lnTo>
                  <a:lnTo>
                    <a:pt x="1115" y="1373"/>
                  </a:lnTo>
                  <a:lnTo>
                    <a:pt x="1125" y="1368"/>
                  </a:lnTo>
                  <a:lnTo>
                    <a:pt x="1135" y="1363"/>
                  </a:lnTo>
                  <a:lnTo>
                    <a:pt x="1144" y="1359"/>
                  </a:lnTo>
                  <a:lnTo>
                    <a:pt x="1154" y="1353"/>
                  </a:lnTo>
                  <a:lnTo>
                    <a:pt x="1163" y="1348"/>
                  </a:lnTo>
                  <a:lnTo>
                    <a:pt x="1171" y="1343"/>
                  </a:lnTo>
                  <a:lnTo>
                    <a:pt x="1180" y="1337"/>
                  </a:lnTo>
                  <a:lnTo>
                    <a:pt x="1189" y="1332"/>
                  </a:lnTo>
                  <a:lnTo>
                    <a:pt x="1196" y="1324"/>
                  </a:lnTo>
                  <a:lnTo>
                    <a:pt x="1203" y="1319"/>
                  </a:lnTo>
                  <a:lnTo>
                    <a:pt x="1210" y="1313"/>
                  </a:lnTo>
                  <a:lnTo>
                    <a:pt x="1217" y="1306"/>
                  </a:lnTo>
                  <a:lnTo>
                    <a:pt x="1219" y="1306"/>
                  </a:lnTo>
                  <a:lnTo>
                    <a:pt x="1222" y="1306"/>
                  </a:lnTo>
                  <a:lnTo>
                    <a:pt x="1223" y="1306"/>
                  </a:lnTo>
                  <a:lnTo>
                    <a:pt x="1225" y="1304"/>
                  </a:lnTo>
                  <a:lnTo>
                    <a:pt x="1228" y="1304"/>
                  </a:lnTo>
                  <a:lnTo>
                    <a:pt x="1229" y="1304"/>
                  </a:lnTo>
                  <a:lnTo>
                    <a:pt x="1232" y="1304"/>
                  </a:lnTo>
                  <a:lnTo>
                    <a:pt x="1233" y="1304"/>
                  </a:lnTo>
                  <a:lnTo>
                    <a:pt x="1238" y="1307"/>
                  </a:lnTo>
                  <a:lnTo>
                    <a:pt x="1243" y="1310"/>
                  </a:lnTo>
                  <a:lnTo>
                    <a:pt x="1248" y="1313"/>
                  </a:lnTo>
                  <a:lnTo>
                    <a:pt x="1253" y="1316"/>
                  </a:lnTo>
                  <a:lnTo>
                    <a:pt x="1258" y="1319"/>
                  </a:lnTo>
                  <a:lnTo>
                    <a:pt x="1264" y="1322"/>
                  </a:lnTo>
                  <a:lnTo>
                    <a:pt x="1269" y="1324"/>
                  </a:lnTo>
                  <a:lnTo>
                    <a:pt x="1275" y="1327"/>
                  </a:lnTo>
                  <a:lnTo>
                    <a:pt x="1279" y="1329"/>
                  </a:lnTo>
                  <a:lnTo>
                    <a:pt x="1285" y="1332"/>
                  </a:lnTo>
                  <a:lnTo>
                    <a:pt x="1291" y="1335"/>
                  </a:lnTo>
                  <a:lnTo>
                    <a:pt x="1297" y="1336"/>
                  </a:lnTo>
                  <a:lnTo>
                    <a:pt x="1304" y="1339"/>
                  </a:lnTo>
                  <a:lnTo>
                    <a:pt x="1310" y="1340"/>
                  </a:lnTo>
                  <a:lnTo>
                    <a:pt x="1315" y="1342"/>
                  </a:lnTo>
                  <a:lnTo>
                    <a:pt x="1321" y="1345"/>
                  </a:lnTo>
                  <a:lnTo>
                    <a:pt x="1328" y="1346"/>
                  </a:lnTo>
                  <a:lnTo>
                    <a:pt x="1334" y="1348"/>
                  </a:lnTo>
                  <a:lnTo>
                    <a:pt x="1341" y="1349"/>
                  </a:lnTo>
                  <a:lnTo>
                    <a:pt x="1347" y="1350"/>
                  </a:lnTo>
                  <a:lnTo>
                    <a:pt x="1354" y="1352"/>
                  </a:lnTo>
                  <a:lnTo>
                    <a:pt x="1360" y="1353"/>
                  </a:lnTo>
                  <a:lnTo>
                    <a:pt x="1367" y="1355"/>
                  </a:lnTo>
                  <a:lnTo>
                    <a:pt x="1374" y="1355"/>
                  </a:lnTo>
                  <a:lnTo>
                    <a:pt x="1382" y="1356"/>
                  </a:lnTo>
                  <a:lnTo>
                    <a:pt x="1387" y="1356"/>
                  </a:lnTo>
                  <a:lnTo>
                    <a:pt x="1394" y="1358"/>
                  </a:lnTo>
                  <a:lnTo>
                    <a:pt x="1402" y="1358"/>
                  </a:lnTo>
                  <a:lnTo>
                    <a:pt x="1409" y="1359"/>
                  </a:lnTo>
                  <a:lnTo>
                    <a:pt x="1423" y="1359"/>
                  </a:lnTo>
                  <a:lnTo>
                    <a:pt x="1430" y="1359"/>
                  </a:lnTo>
                  <a:lnTo>
                    <a:pt x="1445" y="1359"/>
                  </a:lnTo>
                  <a:lnTo>
                    <a:pt x="1459" y="1358"/>
                  </a:lnTo>
                  <a:lnTo>
                    <a:pt x="1472" y="1356"/>
                  </a:lnTo>
                  <a:lnTo>
                    <a:pt x="1485" y="1355"/>
                  </a:lnTo>
                  <a:lnTo>
                    <a:pt x="1500" y="1353"/>
                  </a:lnTo>
                  <a:lnTo>
                    <a:pt x="1512" y="1350"/>
                  </a:lnTo>
                  <a:lnTo>
                    <a:pt x="1525" y="1348"/>
                  </a:lnTo>
                  <a:lnTo>
                    <a:pt x="1537" y="1345"/>
                  </a:lnTo>
                  <a:lnTo>
                    <a:pt x="1550" y="1340"/>
                  </a:lnTo>
                  <a:lnTo>
                    <a:pt x="1561" y="1337"/>
                  </a:lnTo>
                  <a:lnTo>
                    <a:pt x="1573" y="1333"/>
                  </a:lnTo>
                  <a:lnTo>
                    <a:pt x="1584" y="1327"/>
                  </a:lnTo>
                  <a:lnTo>
                    <a:pt x="1595" y="1323"/>
                  </a:lnTo>
                  <a:lnTo>
                    <a:pt x="1606" y="1317"/>
                  </a:lnTo>
                  <a:lnTo>
                    <a:pt x="1616" y="1312"/>
                  </a:lnTo>
                  <a:lnTo>
                    <a:pt x="1625" y="1306"/>
                  </a:lnTo>
                  <a:lnTo>
                    <a:pt x="1635" y="1299"/>
                  </a:lnTo>
                  <a:lnTo>
                    <a:pt x="1643" y="1293"/>
                  </a:lnTo>
                  <a:lnTo>
                    <a:pt x="1651" y="1286"/>
                  </a:lnTo>
                  <a:lnTo>
                    <a:pt x="1659" y="1278"/>
                  </a:lnTo>
                  <a:lnTo>
                    <a:pt x="1666" y="1271"/>
                  </a:lnTo>
                  <a:lnTo>
                    <a:pt x="1672" y="1263"/>
                  </a:lnTo>
                  <a:lnTo>
                    <a:pt x="1679" y="1255"/>
                  </a:lnTo>
                  <a:lnTo>
                    <a:pt x="1684" y="1247"/>
                  </a:lnTo>
                  <a:lnTo>
                    <a:pt x="1689" y="1240"/>
                  </a:lnTo>
                  <a:lnTo>
                    <a:pt x="1694" y="1231"/>
                  </a:lnTo>
                  <a:lnTo>
                    <a:pt x="1698" y="1222"/>
                  </a:lnTo>
                  <a:lnTo>
                    <a:pt x="1701" y="1214"/>
                  </a:lnTo>
                  <a:lnTo>
                    <a:pt x="1702" y="1204"/>
                  </a:lnTo>
                  <a:lnTo>
                    <a:pt x="1705" y="1195"/>
                  </a:lnTo>
                  <a:lnTo>
                    <a:pt x="1705" y="1186"/>
                  </a:lnTo>
                  <a:lnTo>
                    <a:pt x="1707" y="1176"/>
                  </a:lnTo>
                  <a:lnTo>
                    <a:pt x="1705" y="1172"/>
                  </a:lnTo>
                  <a:lnTo>
                    <a:pt x="1705" y="1169"/>
                  </a:lnTo>
                  <a:lnTo>
                    <a:pt x="1705" y="1165"/>
                  </a:lnTo>
                  <a:lnTo>
                    <a:pt x="1705" y="1162"/>
                  </a:lnTo>
                  <a:lnTo>
                    <a:pt x="1704" y="1157"/>
                  </a:lnTo>
                  <a:lnTo>
                    <a:pt x="1704" y="1150"/>
                  </a:lnTo>
                  <a:lnTo>
                    <a:pt x="1702" y="1146"/>
                  </a:lnTo>
                  <a:lnTo>
                    <a:pt x="1701" y="1139"/>
                  </a:lnTo>
                  <a:lnTo>
                    <a:pt x="1700" y="1136"/>
                  </a:lnTo>
                  <a:lnTo>
                    <a:pt x="1698" y="1132"/>
                  </a:lnTo>
                  <a:lnTo>
                    <a:pt x="1697" y="1129"/>
                  </a:lnTo>
                  <a:lnTo>
                    <a:pt x="1695" y="1126"/>
                  </a:lnTo>
                  <a:lnTo>
                    <a:pt x="1694" y="1121"/>
                  </a:lnTo>
                  <a:lnTo>
                    <a:pt x="1692" y="1119"/>
                  </a:lnTo>
                  <a:lnTo>
                    <a:pt x="1698" y="1119"/>
                  </a:lnTo>
                  <a:lnTo>
                    <a:pt x="1704" y="1120"/>
                  </a:lnTo>
                  <a:lnTo>
                    <a:pt x="1711" y="1120"/>
                  </a:lnTo>
                  <a:lnTo>
                    <a:pt x="1717" y="1121"/>
                  </a:lnTo>
                  <a:lnTo>
                    <a:pt x="1723" y="1121"/>
                  </a:lnTo>
                  <a:lnTo>
                    <a:pt x="1730" y="1121"/>
                  </a:lnTo>
                  <a:lnTo>
                    <a:pt x="1743" y="1121"/>
                  </a:lnTo>
                  <a:lnTo>
                    <a:pt x="1757" y="1121"/>
                  </a:lnTo>
                  <a:lnTo>
                    <a:pt x="1773" y="1120"/>
                  </a:lnTo>
                  <a:lnTo>
                    <a:pt x="1787" y="1119"/>
                  </a:lnTo>
                  <a:lnTo>
                    <a:pt x="1802" y="1117"/>
                  </a:lnTo>
                  <a:lnTo>
                    <a:pt x="1816" y="1114"/>
                  </a:lnTo>
                  <a:lnTo>
                    <a:pt x="1831" y="1111"/>
                  </a:lnTo>
                  <a:lnTo>
                    <a:pt x="1845" y="1107"/>
                  </a:lnTo>
                  <a:lnTo>
                    <a:pt x="1858" y="1103"/>
                  </a:lnTo>
                  <a:lnTo>
                    <a:pt x="1871" y="1098"/>
                  </a:lnTo>
                  <a:lnTo>
                    <a:pt x="1884" y="1093"/>
                  </a:lnTo>
                  <a:lnTo>
                    <a:pt x="1897" y="1087"/>
                  </a:lnTo>
                  <a:lnTo>
                    <a:pt x="1908" y="1081"/>
                  </a:lnTo>
                  <a:lnTo>
                    <a:pt x="1920" y="1074"/>
                  </a:lnTo>
                  <a:lnTo>
                    <a:pt x="1931" y="1067"/>
                  </a:lnTo>
                  <a:lnTo>
                    <a:pt x="1943" y="1060"/>
                  </a:lnTo>
                  <a:lnTo>
                    <a:pt x="1953" y="1051"/>
                  </a:lnTo>
                  <a:lnTo>
                    <a:pt x="1963" y="1044"/>
                  </a:lnTo>
                  <a:lnTo>
                    <a:pt x="1972" y="1034"/>
                  </a:lnTo>
                  <a:lnTo>
                    <a:pt x="1982" y="1025"/>
                  </a:lnTo>
                  <a:lnTo>
                    <a:pt x="1989" y="1016"/>
                  </a:lnTo>
                  <a:lnTo>
                    <a:pt x="1997" y="1006"/>
                  </a:lnTo>
                  <a:lnTo>
                    <a:pt x="2005" y="996"/>
                  </a:lnTo>
                  <a:lnTo>
                    <a:pt x="2010" y="986"/>
                  </a:lnTo>
                  <a:lnTo>
                    <a:pt x="2016" y="975"/>
                  </a:lnTo>
                  <a:lnTo>
                    <a:pt x="2022" y="965"/>
                  </a:lnTo>
                  <a:lnTo>
                    <a:pt x="2026" y="953"/>
                  </a:lnTo>
                  <a:lnTo>
                    <a:pt x="2031" y="942"/>
                  </a:lnTo>
                  <a:lnTo>
                    <a:pt x="2033" y="930"/>
                  </a:lnTo>
                  <a:lnTo>
                    <a:pt x="2036" y="918"/>
                  </a:lnTo>
                  <a:lnTo>
                    <a:pt x="2039" y="906"/>
                  </a:lnTo>
                  <a:lnTo>
                    <a:pt x="2039" y="894"/>
                  </a:lnTo>
                  <a:lnTo>
                    <a:pt x="2041" y="881"/>
                  </a:lnTo>
                  <a:lnTo>
                    <a:pt x="2039" y="871"/>
                  </a:lnTo>
                  <a:lnTo>
                    <a:pt x="2039" y="861"/>
                  </a:lnTo>
                  <a:lnTo>
                    <a:pt x="2038" y="851"/>
                  </a:lnTo>
                  <a:lnTo>
                    <a:pt x="2036" y="841"/>
                  </a:lnTo>
                  <a:lnTo>
                    <a:pt x="2033" y="831"/>
                  </a:lnTo>
                  <a:lnTo>
                    <a:pt x="2031" y="822"/>
                  </a:lnTo>
                  <a:lnTo>
                    <a:pt x="2028" y="812"/>
                  </a:lnTo>
                  <a:lnTo>
                    <a:pt x="2023" y="803"/>
                  </a:lnTo>
                  <a:lnTo>
                    <a:pt x="2019" y="793"/>
                  </a:lnTo>
                  <a:lnTo>
                    <a:pt x="2015" y="785"/>
                  </a:lnTo>
                  <a:lnTo>
                    <a:pt x="2009" y="776"/>
                  </a:lnTo>
                  <a:lnTo>
                    <a:pt x="2005" y="767"/>
                  </a:lnTo>
                  <a:lnTo>
                    <a:pt x="1997" y="759"/>
                  </a:lnTo>
                  <a:lnTo>
                    <a:pt x="1992" y="750"/>
                  </a:lnTo>
                  <a:lnTo>
                    <a:pt x="1985" y="743"/>
                  </a:lnTo>
                  <a:lnTo>
                    <a:pt x="1977" y="734"/>
                  </a:lnTo>
                  <a:lnTo>
                    <a:pt x="1970" y="727"/>
                  </a:lnTo>
                  <a:lnTo>
                    <a:pt x="1963" y="720"/>
                  </a:lnTo>
                  <a:lnTo>
                    <a:pt x="1954" y="713"/>
                  </a:lnTo>
                  <a:lnTo>
                    <a:pt x="1946" y="707"/>
                  </a:lnTo>
                  <a:lnTo>
                    <a:pt x="1937" y="700"/>
                  </a:lnTo>
                  <a:lnTo>
                    <a:pt x="1927" y="694"/>
                  </a:lnTo>
                  <a:lnTo>
                    <a:pt x="1918" y="688"/>
                  </a:lnTo>
                  <a:lnTo>
                    <a:pt x="1908" y="682"/>
                  </a:lnTo>
                  <a:lnTo>
                    <a:pt x="1898" y="677"/>
                  </a:lnTo>
                  <a:lnTo>
                    <a:pt x="1888" y="672"/>
                  </a:lnTo>
                  <a:lnTo>
                    <a:pt x="1877" y="668"/>
                  </a:lnTo>
                  <a:lnTo>
                    <a:pt x="1867" y="664"/>
                  </a:lnTo>
                  <a:lnTo>
                    <a:pt x="1855" y="659"/>
                  </a:lnTo>
                  <a:lnTo>
                    <a:pt x="1843" y="656"/>
                  </a:lnTo>
                  <a:lnTo>
                    <a:pt x="1832" y="652"/>
                  </a:lnTo>
                  <a:lnTo>
                    <a:pt x="1820" y="649"/>
                  </a:lnTo>
                  <a:lnTo>
                    <a:pt x="1820" y="649"/>
                  </a:lnTo>
                  <a:lnTo>
                    <a:pt x="1820" y="648"/>
                  </a:lnTo>
                  <a:lnTo>
                    <a:pt x="1820" y="648"/>
                  </a:lnTo>
                  <a:lnTo>
                    <a:pt x="1819" y="646"/>
                  </a:lnTo>
                  <a:lnTo>
                    <a:pt x="1819" y="646"/>
                  </a:lnTo>
                  <a:lnTo>
                    <a:pt x="1819" y="645"/>
                  </a:lnTo>
                  <a:lnTo>
                    <a:pt x="1819" y="645"/>
                  </a:lnTo>
                  <a:lnTo>
                    <a:pt x="1818" y="643"/>
                  </a:lnTo>
                  <a:lnTo>
                    <a:pt x="1820" y="641"/>
                  </a:lnTo>
                  <a:lnTo>
                    <a:pt x="1823" y="636"/>
                  </a:lnTo>
                  <a:lnTo>
                    <a:pt x="1825" y="632"/>
                  </a:lnTo>
                  <a:lnTo>
                    <a:pt x="1828" y="628"/>
                  </a:lnTo>
                  <a:lnTo>
                    <a:pt x="1829" y="622"/>
                  </a:lnTo>
                  <a:lnTo>
                    <a:pt x="1832" y="618"/>
                  </a:lnTo>
                  <a:lnTo>
                    <a:pt x="1833" y="613"/>
                  </a:lnTo>
                  <a:lnTo>
                    <a:pt x="1835" y="609"/>
                  </a:lnTo>
                  <a:lnTo>
                    <a:pt x="1838" y="597"/>
                  </a:lnTo>
                  <a:lnTo>
                    <a:pt x="1841" y="587"/>
                  </a:lnTo>
                  <a:lnTo>
                    <a:pt x="1842" y="576"/>
                  </a:lnTo>
                  <a:lnTo>
                    <a:pt x="1843" y="564"/>
                  </a:lnTo>
                  <a:lnTo>
                    <a:pt x="1843" y="553"/>
                  </a:lnTo>
                  <a:lnTo>
                    <a:pt x="1842" y="541"/>
                  </a:lnTo>
                  <a:lnTo>
                    <a:pt x="1841" y="531"/>
                  </a:lnTo>
                  <a:lnTo>
                    <a:pt x="1839" y="520"/>
                  </a:lnTo>
                  <a:lnTo>
                    <a:pt x="1836" y="508"/>
                  </a:lnTo>
                  <a:lnTo>
                    <a:pt x="1832" y="497"/>
                  </a:lnTo>
                  <a:lnTo>
                    <a:pt x="1829" y="485"/>
                  </a:lnTo>
                  <a:lnTo>
                    <a:pt x="1823" y="474"/>
                  </a:lnTo>
                  <a:lnTo>
                    <a:pt x="1818" y="464"/>
                  </a:lnTo>
                  <a:lnTo>
                    <a:pt x="1812" y="452"/>
                  </a:lnTo>
                  <a:lnTo>
                    <a:pt x="1805" y="440"/>
                  </a:lnTo>
                  <a:lnTo>
                    <a:pt x="1797" y="430"/>
                  </a:lnTo>
                  <a:lnTo>
                    <a:pt x="1790" y="420"/>
                  </a:lnTo>
                  <a:lnTo>
                    <a:pt x="1782" y="409"/>
                  </a:lnTo>
                  <a:lnTo>
                    <a:pt x="1773" y="399"/>
                  </a:lnTo>
                  <a:lnTo>
                    <a:pt x="1763" y="389"/>
                  </a:lnTo>
                  <a:lnTo>
                    <a:pt x="1753" y="380"/>
                  </a:lnTo>
                  <a:lnTo>
                    <a:pt x="1743" y="370"/>
                  </a:lnTo>
                  <a:lnTo>
                    <a:pt x="1731" y="361"/>
                  </a:lnTo>
                  <a:lnTo>
                    <a:pt x="1720" y="351"/>
                  </a:lnTo>
                  <a:lnTo>
                    <a:pt x="1707" y="343"/>
                  </a:lnTo>
                  <a:lnTo>
                    <a:pt x="1695" y="335"/>
                  </a:lnTo>
                  <a:lnTo>
                    <a:pt x="1682" y="327"/>
                  </a:lnTo>
                  <a:lnTo>
                    <a:pt x="1668" y="320"/>
                  </a:lnTo>
                  <a:lnTo>
                    <a:pt x="1655" y="312"/>
                  </a:lnTo>
                  <a:lnTo>
                    <a:pt x="1641" y="305"/>
                  </a:lnTo>
                  <a:lnTo>
                    <a:pt x="1626" y="299"/>
                  </a:lnTo>
                  <a:lnTo>
                    <a:pt x="1610" y="292"/>
                  </a:lnTo>
                  <a:lnTo>
                    <a:pt x="1610" y="292"/>
                  </a:lnTo>
                  <a:lnTo>
                    <a:pt x="1610" y="291"/>
                  </a:lnTo>
                  <a:lnTo>
                    <a:pt x="1610" y="289"/>
                  </a:lnTo>
                  <a:lnTo>
                    <a:pt x="1609" y="288"/>
                  </a:lnTo>
                  <a:lnTo>
                    <a:pt x="1609" y="288"/>
                  </a:lnTo>
                  <a:lnTo>
                    <a:pt x="1609" y="286"/>
                  </a:lnTo>
                  <a:lnTo>
                    <a:pt x="1609" y="285"/>
                  </a:lnTo>
                  <a:lnTo>
                    <a:pt x="1609" y="284"/>
                  </a:lnTo>
                  <a:lnTo>
                    <a:pt x="1603" y="266"/>
                  </a:lnTo>
                  <a:lnTo>
                    <a:pt x="1596" y="248"/>
                  </a:lnTo>
                  <a:lnTo>
                    <a:pt x="1587" y="230"/>
                  </a:lnTo>
                  <a:lnTo>
                    <a:pt x="1579" y="213"/>
                  </a:lnTo>
                  <a:lnTo>
                    <a:pt x="1567" y="197"/>
                  </a:lnTo>
                  <a:lnTo>
                    <a:pt x="1556" y="181"/>
                  </a:lnTo>
                  <a:lnTo>
                    <a:pt x="1544" y="165"/>
                  </a:lnTo>
                  <a:lnTo>
                    <a:pt x="1530" y="151"/>
                  </a:lnTo>
                  <a:lnTo>
                    <a:pt x="1515" y="137"/>
                  </a:lnTo>
                  <a:lnTo>
                    <a:pt x="1500" y="124"/>
                  </a:lnTo>
                  <a:lnTo>
                    <a:pt x="1484" y="111"/>
                  </a:lnTo>
                  <a:lnTo>
                    <a:pt x="1466" y="98"/>
                  </a:lnTo>
                  <a:lnTo>
                    <a:pt x="1448" y="86"/>
                  </a:lnTo>
                  <a:lnTo>
                    <a:pt x="1429" y="75"/>
                  </a:lnTo>
                  <a:lnTo>
                    <a:pt x="1409" y="65"/>
                  </a:lnTo>
                  <a:lnTo>
                    <a:pt x="1389" y="55"/>
                  </a:lnTo>
                  <a:lnTo>
                    <a:pt x="1369" y="46"/>
                  </a:lnTo>
                  <a:lnTo>
                    <a:pt x="1347" y="37"/>
                  </a:lnTo>
                  <a:lnTo>
                    <a:pt x="1324" y="30"/>
                  </a:lnTo>
                  <a:lnTo>
                    <a:pt x="1301" y="24"/>
                  </a:lnTo>
                  <a:lnTo>
                    <a:pt x="1278" y="19"/>
                  </a:lnTo>
                  <a:lnTo>
                    <a:pt x="1255" y="13"/>
                  </a:lnTo>
                  <a:lnTo>
                    <a:pt x="1230" y="9"/>
                  </a:lnTo>
                  <a:lnTo>
                    <a:pt x="1206" y="6"/>
                  </a:lnTo>
                  <a:lnTo>
                    <a:pt x="1180" y="3"/>
                  </a:lnTo>
                  <a:lnTo>
                    <a:pt x="1156" y="1"/>
                  </a:lnTo>
                  <a:lnTo>
                    <a:pt x="1130" y="0"/>
                  </a:lnTo>
                  <a:lnTo>
                    <a:pt x="1104" y="0"/>
                  </a:lnTo>
                  <a:lnTo>
                    <a:pt x="1078" y="1"/>
                  </a:lnTo>
                  <a:lnTo>
                    <a:pt x="1052" y="4"/>
                  </a:lnTo>
                  <a:lnTo>
                    <a:pt x="1026" y="7"/>
                  </a:lnTo>
                  <a:lnTo>
                    <a:pt x="999" y="11"/>
                  </a:lnTo>
                  <a:lnTo>
                    <a:pt x="984" y="13"/>
                  </a:lnTo>
                  <a:lnTo>
                    <a:pt x="970" y="16"/>
                  </a:lnTo>
                  <a:lnTo>
                    <a:pt x="956" y="20"/>
                  </a:lnTo>
                  <a:lnTo>
                    <a:pt x="941" y="23"/>
                  </a:lnTo>
                  <a:lnTo>
                    <a:pt x="928" y="27"/>
                  </a:lnTo>
                  <a:lnTo>
                    <a:pt x="914" y="30"/>
                  </a:lnTo>
                  <a:lnTo>
                    <a:pt x="901" y="34"/>
                  </a:lnTo>
                  <a:lnTo>
                    <a:pt x="888" y="39"/>
                  </a:lnTo>
                  <a:lnTo>
                    <a:pt x="875" y="45"/>
                  </a:lnTo>
                  <a:lnTo>
                    <a:pt x="862" y="49"/>
                  </a:lnTo>
                  <a:lnTo>
                    <a:pt x="849" y="53"/>
                  </a:lnTo>
                  <a:lnTo>
                    <a:pt x="838" y="59"/>
                  </a:lnTo>
                  <a:lnTo>
                    <a:pt x="825" y="65"/>
                  </a:lnTo>
                  <a:lnTo>
                    <a:pt x="813" y="70"/>
                  </a:lnTo>
                  <a:lnTo>
                    <a:pt x="802" y="76"/>
                  </a:lnTo>
                  <a:lnTo>
                    <a:pt x="790" y="83"/>
                  </a:lnTo>
                  <a:lnTo>
                    <a:pt x="778" y="89"/>
                  </a:lnTo>
                  <a:lnTo>
                    <a:pt x="767" y="96"/>
                  </a:lnTo>
                  <a:lnTo>
                    <a:pt x="757" y="102"/>
                  </a:lnTo>
                  <a:lnTo>
                    <a:pt x="747" y="109"/>
                  </a:lnTo>
                  <a:lnTo>
                    <a:pt x="737" y="117"/>
                  </a:lnTo>
                  <a:lnTo>
                    <a:pt x="727" y="124"/>
                  </a:lnTo>
                  <a:lnTo>
                    <a:pt x="717" y="131"/>
                  </a:lnTo>
                  <a:lnTo>
                    <a:pt x="708" y="140"/>
                  </a:lnTo>
                  <a:lnTo>
                    <a:pt x="698" y="147"/>
                  </a:lnTo>
                  <a:lnTo>
                    <a:pt x="689" y="155"/>
                  </a:lnTo>
                  <a:lnTo>
                    <a:pt x="681" y="163"/>
                  </a:lnTo>
                  <a:lnTo>
                    <a:pt x="673" y="171"/>
                  </a:lnTo>
                  <a:lnTo>
                    <a:pt x="665" y="180"/>
                  </a:lnTo>
                  <a:lnTo>
                    <a:pt x="658" y="189"/>
                  </a:lnTo>
                  <a:lnTo>
                    <a:pt x="650" y="197"/>
                  </a:lnTo>
                  <a:lnTo>
                    <a:pt x="643" y="206"/>
                  </a:lnTo>
                  <a:lnTo>
                    <a:pt x="636" y="204"/>
                  </a:lnTo>
                  <a:lnTo>
                    <a:pt x="629" y="201"/>
                  </a:lnTo>
                  <a:lnTo>
                    <a:pt x="622" y="200"/>
                  </a:lnTo>
                  <a:lnTo>
                    <a:pt x="616" y="199"/>
                  </a:lnTo>
                  <a:lnTo>
                    <a:pt x="609" y="197"/>
                  </a:lnTo>
                  <a:lnTo>
                    <a:pt x="601" y="196"/>
                  </a:lnTo>
                  <a:lnTo>
                    <a:pt x="593" y="194"/>
                  </a:lnTo>
                  <a:lnTo>
                    <a:pt x="578" y="193"/>
                  </a:lnTo>
                  <a:lnTo>
                    <a:pt x="571" y="191"/>
                  </a:lnTo>
                  <a:lnTo>
                    <a:pt x="563" y="191"/>
                  </a:lnTo>
                  <a:lnTo>
                    <a:pt x="555" y="190"/>
                  </a:lnTo>
                  <a:lnTo>
                    <a:pt x="548" y="190"/>
                  </a:lnTo>
                  <a:lnTo>
                    <a:pt x="540" y="190"/>
                  </a:lnTo>
                  <a:lnTo>
                    <a:pt x="532" y="189"/>
                  </a:lnTo>
                  <a:lnTo>
                    <a:pt x="524" y="189"/>
                  </a:lnTo>
                  <a:lnTo>
                    <a:pt x="508" y="189"/>
                  </a:lnTo>
                  <a:lnTo>
                    <a:pt x="492" y="190"/>
                  </a:lnTo>
                  <a:lnTo>
                    <a:pt x="483" y="190"/>
                  </a:lnTo>
                  <a:lnTo>
                    <a:pt x="475" y="190"/>
                  </a:lnTo>
                  <a:lnTo>
                    <a:pt x="466" y="191"/>
                  </a:lnTo>
                  <a:lnTo>
                    <a:pt x="459" y="191"/>
                  </a:lnTo>
                  <a:lnTo>
                    <a:pt x="450" y="193"/>
                  </a:lnTo>
                  <a:lnTo>
                    <a:pt x="442" y="194"/>
                  </a:lnTo>
                  <a:lnTo>
                    <a:pt x="433" y="194"/>
                  </a:lnTo>
                  <a:lnTo>
                    <a:pt x="424" y="196"/>
                  </a:lnTo>
                  <a:lnTo>
                    <a:pt x="407" y="199"/>
                  </a:lnTo>
                  <a:lnTo>
                    <a:pt x="399" y="200"/>
                  </a:lnTo>
                  <a:lnTo>
                    <a:pt x="390" y="203"/>
                  </a:lnTo>
                  <a:lnTo>
                    <a:pt x="371" y="207"/>
                  </a:lnTo>
                  <a:lnTo>
                    <a:pt x="354" y="212"/>
                  </a:lnTo>
                  <a:lnTo>
                    <a:pt x="335" y="217"/>
                  </a:lnTo>
                  <a:lnTo>
                    <a:pt x="318" y="223"/>
                  </a:lnTo>
                  <a:lnTo>
                    <a:pt x="301" y="230"/>
                  </a:lnTo>
                  <a:lnTo>
                    <a:pt x="283" y="237"/>
                  </a:lnTo>
                  <a:lnTo>
                    <a:pt x="268" y="245"/>
                  </a:lnTo>
                  <a:lnTo>
                    <a:pt x="252" y="252"/>
                  </a:lnTo>
                  <a:lnTo>
                    <a:pt x="237" y="261"/>
                  </a:lnTo>
                  <a:lnTo>
                    <a:pt x="223" y="269"/>
                  </a:lnTo>
                  <a:lnTo>
                    <a:pt x="209" y="278"/>
                  </a:lnTo>
                  <a:lnTo>
                    <a:pt x="194" y="288"/>
                  </a:lnTo>
                  <a:lnTo>
                    <a:pt x="183" y="297"/>
                  </a:lnTo>
                  <a:lnTo>
                    <a:pt x="170" y="307"/>
                  </a:lnTo>
                  <a:lnTo>
                    <a:pt x="158" y="317"/>
                  </a:lnTo>
                  <a:lnTo>
                    <a:pt x="147" y="328"/>
                  </a:lnTo>
                  <a:lnTo>
                    <a:pt x="137" y="338"/>
                  </a:lnTo>
                  <a:lnTo>
                    <a:pt x="128" y="350"/>
                  </a:lnTo>
                  <a:lnTo>
                    <a:pt x="118" y="360"/>
                  </a:lnTo>
                  <a:lnTo>
                    <a:pt x="111" y="371"/>
                  </a:lnTo>
                  <a:lnTo>
                    <a:pt x="104" y="383"/>
                  </a:lnTo>
                  <a:lnTo>
                    <a:pt x="96" y="394"/>
                  </a:lnTo>
                  <a:lnTo>
                    <a:pt x="91" y="407"/>
                  </a:lnTo>
                  <a:lnTo>
                    <a:pt x="86" y="419"/>
                  </a:lnTo>
                  <a:lnTo>
                    <a:pt x="82" y="430"/>
                  </a:lnTo>
                  <a:lnTo>
                    <a:pt x="79" y="442"/>
                  </a:lnTo>
                  <a:lnTo>
                    <a:pt x="76" y="455"/>
                  </a:lnTo>
                  <a:lnTo>
                    <a:pt x="75" y="466"/>
                  </a:lnTo>
                  <a:lnTo>
                    <a:pt x="75" y="478"/>
                  </a:lnTo>
                  <a:lnTo>
                    <a:pt x="75" y="491"/>
                  </a:lnTo>
                  <a:lnTo>
                    <a:pt x="76" y="502"/>
                  </a:lnTo>
                  <a:lnTo>
                    <a:pt x="78" y="514"/>
                  </a:lnTo>
                  <a:lnTo>
                    <a:pt x="79" y="520"/>
                  </a:lnTo>
                  <a:lnTo>
                    <a:pt x="80" y="524"/>
                  </a:lnTo>
                  <a:lnTo>
                    <a:pt x="82" y="528"/>
                  </a:lnTo>
                  <a:lnTo>
                    <a:pt x="83" y="533"/>
                  </a:lnTo>
                  <a:lnTo>
                    <a:pt x="85" y="536"/>
                  </a:lnTo>
                  <a:lnTo>
                    <a:pt x="86" y="540"/>
                  </a:lnTo>
                  <a:lnTo>
                    <a:pt x="89" y="544"/>
                  </a:lnTo>
                  <a:lnTo>
                    <a:pt x="91" y="548"/>
                  </a:lnTo>
                  <a:lnTo>
                    <a:pt x="92" y="553"/>
                  </a:lnTo>
                  <a:lnTo>
                    <a:pt x="95" y="557"/>
                  </a:lnTo>
                  <a:lnTo>
                    <a:pt x="98" y="560"/>
                  </a:lnTo>
                  <a:lnTo>
                    <a:pt x="99" y="564"/>
                  </a:lnTo>
                  <a:lnTo>
                    <a:pt x="102" y="569"/>
                  </a:lnTo>
                  <a:lnTo>
                    <a:pt x="105" y="572"/>
                  </a:lnTo>
                  <a:lnTo>
                    <a:pt x="108" y="576"/>
                  </a:lnTo>
                  <a:lnTo>
                    <a:pt x="111" y="579"/>
                  </a:lnTo>
                  <a:lnTo>
                    <a:pt x="114" y="583"/>
                  </a:lnTo>
                  <a:lnTo>
                    <a:pt x="116" y="586"/>
                  </a:lnTo>
                  <a:lnTo>
                    <a:pt x="119" y="590"/>
                  </a:lnTo>
                  <a:lnTo>
                    <a:pt x="127" y="596"/>
                  </a:lnTo>
                  <a:lnTo>
                    <a:pt x="131" y="600"/>
                  </a:lnTo>
                  <a:lnTo>
                    <a:pt x="134" y="603"/>
                  </a:lnTo>
                  <a:lnTo>
                    <a:pt x="138" y="606"/>
                  </a:lnTo>
                  <a:lnTo>
                    <a:pt x="141" y="609"/>
                  </a:lnTo>
                  <a:lnTo>
                    <a:pt x="145" y="612"/>
                  </a:lnTo>
                  <a:lnTo>
                    <a:pt x="154" y="618"/>
                  </a:lnTo>
                  <a:lnTo>
                    <a:pt x="158" y="620"/>
                  </a:lnTo>
                  <a:lnTo>
                    <a:pt x="163" y="623"/>
                  </a:lnTo>
                  <a:lnTo>
                    <a:pt x="167" y="626"/>
                  </a:lnTo>
                  <a:lnTo>
                    <a:pt x="171" y="629"/>
                  </a:lnTo>
                  <a:lnTo>
                    <a:pt x="164" y="632"/>
                  </a:lnTo>
                  <a:lnTo>
                    <a:pt x="158" y="633"/>
                  </a:lnTo>
                  <a:lnTo>
                    <a:pt x="152" y="636"/>
                  </a:lnTo>
                  <a:lnTo>
                    <a:pt x="147" y="639"/>
                  </a:lnTo>
                  <a:lnTo>
                    <a:pt x="141" y="641"/>
                  </a:lnTo>
                  <a:lnTo>
                    <a:pt x="134" y="643"/>
                  </a:lnTo>
                  <a:lnTo>
                    <a:pt x="128" y="646"/>
                  </a:lnTo>
                  <a:lnTo>
                    <a:pt x="122" y="649"/>
                  </a:lnTo>
                  <a:lnTo>
                    <a:pt x="118" y="652"/>
                  </a:lnTo>
                  <a:lnTo>
                    <a:pt x="112" y="656"/>
                  </a:lnTo>
                  <a:lnTo>
                    <a:pt x="106" y="659"/>
                  </a:lnTo>
                  <a:lnTo>
                    <a:pt x="101" y="662"/>
                  </a:lnTo>
                  <a:lnTo>
                    <a:pt x="95" y="667"/>
                  </a:lnTo>
                  <a:lnTo>
                    <a:pt x="91" y="669"/>
                  </a:lnTo>
                  <a:lnTo>
                    <a:pt x="85" y="674"/>
                  </a:lnTo>
                  <a:lnTo>
                    <a:pt x="80" y="678"/>
                  </a:lnTo>
                  <a:lnTo>
                    <a:pt x="70" y="687"/>
                  </a:lnTo>
                  <a:lnTo>
                    <a:pt x="60" y="695"/>
                  </a:lnTo>
                  <a:lnTo>
                    <a:pt x="52" y="704"/>
                  </a:lnTo>
                  <a:lnTo>
                    <a:pt x="43" y="714"/>
                  </a:lnTo>
                  <a:lnTo>
                    <a:pt x="36" y="724"/>
                  </a:lnTo>
                  <a:lnTo>
                    <a:pt x="29" y="734"/>
                  </a:lnTo>
                  <a:lnTo>
                    <a:pt x="23" y="744"/>
                  </a:lnTo>
                  <a:lnTo>
                    <a:pt x="17" y="754"/>
                  </a:lnTo>
                  <a:lnTo>
                    <a:pt x="13" y="764"/>
                  </a:lnTo>
                  <a:lnTo>
                    <a:pt x="9" y="776"/>
                  </a:lnTo>
                  <a:lnTo>
                    <a:pt x="6" y="786"/>
                  </a:lnTo>
                  <a:lnTo>
                    <a:pt x="3" y="798"/>
                  </a:lnTo>
                  <a:lnTo>
                    <a:pt x="1" y="808"/>
                  </a:lnTo>
                  <a:lnTo>
                    <a:pt x="1" y="819"/>
                  </a:lnTo>
                  <a:lnTo>
                    <a:pt x="0" y="831"/>
                  </a:lnTo>
                  <a:lnTo>
                    <a:pt x="0" y="841"/>
                  </a:lnTo>
                  <a:lnTo>
                    <a:pt x="1" y="852"/>
                  </a:lnTo>
                  <a:lnTo>
                    <a:pt x="3" y="864"/>
                  </a:lnTo>
                  <a:lnTo>
                    <a:pt x="6" y="875"/>
                  </a:lnTo>
                  <a:lnTo>
                    <a:pt x="9" y="885"/>
                  </a:lnTo>
                  <a:lnTo>
                    <a:pt x="13" y="897"/>
                  </a:lnTo>
                  <a:lnTo>
                    <a:pt x="17" y="907"/>
                  </a:lnTo>
                  <a:lnTo>
                    <a:pt x="23" y="918"/>
                  </a:lnTo>
                  <a:lnTo>
                    <a:pt x="29" y="929"/>
                  </a:lnTo>
                  <a:lnTo>
                    <a:pt x="34" y="939"/>
                  </a:lnTo>
                  <a:lnTo>
                    <a:pt x="42" y="949"/>
                  </a:lnTo>
                  <a:lnTo>
                    <a:pt x="50" y="959"/>
                  </a:lnTo>
                  <a:lnTo>
                    <a:pt x="59" y="969"/>
                  </a:lnTo>
                  <a:lnTo>
                    <a:pt x="68" y="978"/>
                  </a:lnTo>
                  <a:lnTo>
                    <a:pt x="78" y="988"/>
                  </a:lnTo>
                  <a:lnTo>
                    <a:pt x="89" y="996"/>
                  </a:lnTo>
                  <a:lnTo>
                    <a:pt x="101" y="1005"/>
                  </a:lnTo>
                  <a:lnTo>
                    <a:pt x="104" y="1008"/>
                  </a:lnTo>
                  <a:lnTo>
                    <a:pt x="108" y="1009"/>
                  </a:lnTo>
                  <a:lnTo>
                    <a:pt x="112" y="1012"/>
                  </a:lnTo>
                  <a:lnTo>
                    <a:pt x="115" y="1015"/>
                  </a:lnTo>
                  <a:lnTo>
                    <a:pt x="124" y="1019"/>
                  </a:lnTo>
                  <a:lnTo>
                    <a:pt x="128" y="1022"/>
                  </a:lnTo>
                  <a:lnTo>
                    <a:pt x="131" y="1025"/>
                  </a:lnTo>
                  <a:lnTo>
                    <a:pt x="135" y="1026"/>
                  </a:lnTo>
                  <a:lnTo>
                    <a:pt x="140" y="1029"/>
                  </a:lnTo>
                  <a:lnTo>
                    <a:pt x="144" y="1031"/>
                  </a:lnTo>
                  <a:lnTo>
                    <a:pt x="148" y="1034"/>
                  </a:lnTo>
                  <a:lnTo>
                    <a:pt x="157" y="1037"/>
                  </a:lnTo>
                  <a:lnTo>
                    <a:pt x="165" y="1041"/>
                  </a:lnTo>
                  <a:lnTo>
                    <a:pt x="174" y="1044"/>
                  </a:lnTo>
                  <a:lnTo>
                    <a:pt x="183" y="1048"/>
                  </a:lnTo>
                  <a:lnTo>
                    <a:pt x="191" y="1051"/>
                  </a:lnTo>
                  <a:lnTo>
                    <a:pt x="201" y="1054"/>
                  </a:lnTo>
                  <a:lnTo>
                    <a:pt x="210" y="1057"/>
                  </a:lnTo>
                  <a:lnTo>
                    <a:pt x="219" y="1058"/>
                  </a:lnTo>
                  <a:lnTo>
                    <a:pt x="229" y="1061"/>
                  </a:lnTo>
                  <a:lnTo>
                    <a:pt x="237" y="1062"/>
                  </a:lnTo>
                  <a:close/>
                </a:path>
              </a:pathLst>
            </a:custGeom>
            <a:solidFill>
              <a:srgbClr val="8e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3400" y="4486320"/>
              <a:ext cx="976320" cy="677880"/>
            </a:xfrm>
            <a:custGeom>
              <a:avLst/>
              <a:gdLst/>
              <a:ahLst/>
              <a:rect l="l" t="t" r="r" b="b"/>
              <a:pathLst>
                <a:path w="1845" h="1281">
                  <a:moveTo>
                    <a:pt x="215" y="961"/>
                  </a:moveTo>
                  <a:lnTo>
                    <a:pt x="215" y="964"/>
                  </a:lnTo>
                  <a:lnTo>
                    <a:pt x="216" y="969"/>
                  </a:lnTo>
                  <a:lnTo>
                    <a:pt x="216" y="971"/>
                  </a:lnTo>
                  <a:lnTo>
                    <a:pt x="218" y="974"/>
                  </a:lnTo>
                  <a:lnTo>
                    <a:pt x="219" y="979"/>
                  </a:lnTo>
                  <a:lnTo>
                    <a:pt x="219" y="982"/>
                  </a:lnTo>
                  <a:lnTo>
                    <a:pt x="220" y="984"/>
                  </a:lnTo>
                  <a:lnTo>
                    <a:pt x="223" y="992"/>
                  </a:lnTo>
                  <a:lnTo>
                    <a:pt x="225" y="994"/>
                  </a:lnTo>
                  <a:lnTo>
                    <a:pt x="228" y="1002"/>
                  </a:lnTo>
                  <a:lnTo>
                    <a:pt x="229" y="1005"/>
                  </a:lnTo>
                  <a:lnTo>
                    <a:pt x="231" y="1007"/>
                  </a:lnTo>
                  <a:lnTo>
                    <a:pt x="232" y="1012"/>
                  </a:lnTo>
                  <a:lnTo>
                    <a:pt x="233" y="1015"/>
                  </a:lnTo>
                  <a:lnTo>
                    <a:pt x="238" y="1022"/>
                  </a:lnTo>
                  <a:lnTo>
                    <a:pt x="242" y="1029"/>
                  </a:lnTo>
                  <a:lnTo>
                    <a:pt x="246" y="1035"/>
                  </a:lnTo>
                  <a:lnTo>
                    <a:pt x="252" y="1042"/>
                  </a:lnTo>
                  <a:lnTo>
                    <a:pt x="256" y="1048"/>
                  </a:lnTo>
                  <a:lnTo>
                    <a:pt x="262" y="1055"/>
                  </a:lnTo>
                  <a:lnTo>
                    <a:pt x="268" y="1061"/>
                  </a:lnTo>
                  <a:lnTo>
                    <a:pt x="274" y="1066"/>
                  </a:lnTo>
                  <a:lnTo>
                    <a:pt x="279" y="1071"/>
                  </a:lnTo>
                  <a:lnTo>
                    <a:pt x="287" y="1077"/>
                  </a:lnTo>
                  <a:lnTo>
                    <a:pt x="292" y="1081"/>
                  </a:lnTo>
                  <a:lnTo>
                    <a:pt x="300" y="1087"/>
                  </a:lnTo>
                  <a:lnTo>
                    <a:pt x="307" y="1091"/>
                  </a:lnTo>
                  <a:lnTo>
                    <a:pt x="314" y="1095"/>
                  </a:lnTo>
                  <a:lnTo>
                    <a:pt x="321" y="1098"/>
                  </a:lnTo>
                  <a:lnTo>
                    <a:pt x="328" y="1102"/>
                  </a:lnTo>
                  <a:lnTo>
                    <a:pt x="336" y="1105"/>
                  </a:lnTo>
                  <a:lnTo>
                    <a:pt x="343" y="1108"/>
                  </a:lnTo>
                  <a:lnTo>
                    <a:pt x="350" y="1111"/>
                  </a:lnTo>
                  <a:lnTo>
                    <a:pt x="359" y="1114"/>
                  </a:lnTo>
                  <a:lnTo>
                    <a:pt x="366" y="1115"/>
                  </a:lnTo>
                  <a:lnTo>
                    <a:pt x="374" y="1118"/>
                  </a:lnTo>
                  <a:lnTo>
                    <a:pt x="382" y="1120"/>
                  </a:lnTo>
                  <a:lnTo>
                    <a:pt x="390" y="1121"/>
                  </a:lnTo>
                  <a:lnTo>
                    <a:pt x="397" y="1121"/>
                  </a:lnTo>
                  <a:lnTo>
                    <a:pt x="406" y="1123"/>
                  </a:lnTo>
                  <a:lnTo>
                    <a:pt x="413" y="1123"/>
                  </a:lnTo>
                  <a:lnTo>
                    <a:pt x="422" y="1123"/>
                  </a:lnTo>
                  <a:lnTo>
                    <a:pt x="431" y="1123"/>
                  </a:lnTo>
                  <a:lnTo>
                    <a:pt x="438" y="1123"/>
                  </a:lnTo>
                  <a:lnTo>
                    <a:pt x="446" y="1121"/>
                  </a:lnTo>
                  <a:lnTo>
                    <a:pt x="454" y="1120"/>
                  </a:lnTo>
                  <a:lnTo>
                    <a:pt x="458" y="1128"/>
                  </a:lnTo>
                  <a:lnTo>
                    <a:pt x="462" y="1136"/>
                  </a:lnTo>
                  <a:lnTo>
                    <a:pt x="468" y="1144"/>
                  </a:lnTo>
                  <a:lnTo>
                    <a:pt x="474" y="1151"/>
                  </a:lnTo>
                  <a:lnTo>
                    <a:pt x="479" y="1160"/>
                  </a:lnTo>
                  <a:lnTo>
                    <a:pt x="487" y="1167"/>
                  </a:lnTo>
                  <a:lnTo>
                    <a:pt x="494" y="1174"/>
                  </a:lnTo>
                  <a:lnTo>
                    <a:pt x="501" y="1182"/>
                  </a:lnTo>
                  <a:lnTo>
                    <a:pt x="510" y="1189"/>
                  </a:lnTo>
                  <a:lnTo>
                    <a:pt x="518" y="1195"/>
                  </a:lnTo>
                  <a:lnTo>
                    <a:pt x="527" y="1202"/>
                  </a:lnTo>
                  <a:lnTo>
                    <a:pt x="536" y="1208"/>
                  </a:lnTo>
                  <a:lnTo>
                    <a:pt x="546" y="1215"/>
                  </a:lnTo>
                  <a:lnTo>
                    <a:pt x="556" y="1221"/>
                  </a:lnTo>
                  <a:lnTo>
                    <a:pt x="566" y="1226"/>
                  </a:lnTo>
                  <a:lnTo>
                    <a:pt x="577" y="1231"/>
                  </a:lnTo>
                  <a:lnTo>
                    <a:pt x="587" y="1236"/>
                  </a:lnTo>
                  <a:lnTo>
                    <a:pt x="599" y="1242"/>
                  </a:lnTo>
                  <a:lnTo>
                    <a:pt x="610" y="1246"/>
                  </a:lnTo>
                  <a:lnTo>
                    <a:pt x="623" y="1251"/>
                  </a:lnTo>
                  <a:lnTo>
                    <a:pt x="635" y="1255"/>
                  </a:lnTo>
                  <a:lnTo>
                    <a:pt x="648" y="1259"/>
                  </a:lnTo>
                  <a:lnTo>
                    <a:pt x="661" y="1262"/>
                  </a:lnTo>
                  <a:lnTo>
                    <a:pt x="674" y="1265"/>
                  </a:lnTo>
                  <a:lnTo>
                    <a:pt x="687" y="1268"/>
                  </a:lnTo>
                  <a:lnTo>
                    <a:pt x="701" y="1271"/>
                  </a:lnTo>
                  <a:lnTo>
                    <a:pt x="714" y="1274"/>
                  </a:lnTo>
                  <a:lnTo>
                    <a:pt x="728" y="1275"/>
                  </a:lnTo>
                  <a:lnTo>
                    <a:pt x="743" y="1277"/>
                  </a:lnTo>
                  <a:lnTo>
                    <a:pt x="757" y="1278"/>
                  </a:lnTo>
                  <a:lnTo>
                    <a:pt x="772" y="1280"/>
                  </a:lnTo>
                  <a:lnTo>
                    <a:pt x="786" y="1281"/>
                  </a:lnTo>
                  <a:lnTo>
                    <a:pt x="799" y="1281"/>
                  </a:lnTo>
                  <a:lnTo>
                    <a:pt x="812" y="1281"/>
                  </a:lnTo>
                  <a:lnTo>
                    <a:pt x="823" y="1281"/>
                  </a:lnTo>
                  <a:lnTo>
                    <a:pt x="835" y="1280"/>
                  </a:lnTo>
                  <a:lnTo>
                    <a:pt x="848" y="1280"/>
                  </a:lnTo>
                  <a:lnTo>
                    <a:pt x="859" y="1278"/>
                  </a:lnTo>
                  <a:lnTo>
                    <a:pt x="871" y="1277"/>
                  </a:lnTo>
                  <a:lnTo>
                    <a:pt x="882" y="1275"/>
                  </a:lnTo>
                  <a:lnTo>
                    <a:pt x="894" y="1274"/>
                  </a:lnTo>
                  <a:lnTo>
                    <a:pt x="905" y="1272"/>
                  </a:lnTo>
                  <a:lnTo>
                    <a:pt x="916" y="1269"/>
                  </a:lnTo>
                  <a:lnTo>
                    <a:pt x="927" y="1268"/>
                  </a:lnTo>
                  <a:lnTo>
                    <a:pt x="939" y="1265"/>
                  </a:lnTo>
                  <a:lnTo>
                    <a:pt x="949" y="1262"/>
                  </a:lnTo>
                  <a:lnTo>
                    <a:pt x="959" y="1259"/>
                  </a:lnTo>
                  <a:lnTo>
                    <a:pt x="969" y="1256"/>
                  </a:lnTo>
                  <a:lnTo>
                    <a:pt x="979" y="1252"/>
                  </a:lnTo>
                  <a:lnTo>
                    <a:pt x="989" y="1249"/>
                  </a:lnTo>
                  <a:lnTo>
                    <a:pt x="999" y="1245"/>
                  </a:lnTo>
                  <a:lnTo>
                    <a:pt x="1008" y="1242"/>
                  </a:lnTo>
                  <a:lnTo>
                    <a:pt x="1018" y="1238"/>
                  </a:lnTo>
                  <a:lnTo>
                    <a:pt x="1026" y="1233"/>
                  </a:lnTo>
                  <a:lnTo>
                    <a:pt x="1035" y="1229"/>
                  </a:lnTo>
                  <a:lnTo>
                    <a:pt x="1044" y="1223"/>
                  </a:lnTo>
                  <a:lnTo>
                    <a:pt x="1051" y="1219"/>
                  </a:lnTo>
                  <a:lnTo>
                    <a:pt x="1059" y="1215"/>
                  </a:lnTo>
                  <a:lnTo>
                    <a:pt x="1067" y="1209"/>
                  </a:lnTo>
                  <a:lnTo>
                    <a:pt x="1074" y="1203"/>
                  </a:lnTo>
                  <a:lnTo>
                    <a:pt x="1081" y="1199"/>
                  </a:lnTo>
                  <a:lnTo>
                    <a:pt x="1088" y="1193"/>
                  </a:lnTo>
                  <a:lnTo>
                    <a:pt x="1094" y="1187"/>
                  </a:lnTo>
                  <a:lnTo>
                    <a:pt x="1101" y="1182"/>
                  </a:lnTo>
                  <a:lnTo>
                    <a:pt x="1103" y="1182"/>
                  </a:lnTo>
                  <a:lnTo>
                    <a:pt x="1104" y="1180"/>
                  </a:lnTo>
                  <a:lnTo>
                    <a:pt x="1108" y="1180"/>
                  </a:lnTo>
                  <a:lnTo>
                    <a:pt x="1110" y="1180"/>
                  </a:lnTo>
                  <a:lnTo>
                    <a:pt x="1113" y="1179"/>
                  </a:lnTo>
                  <a:lnTo>
                    <a:pt x="1116" y="1179"/>
                  </a:lnTo>
                  <a:lnTo>
                    <a:pt x="1120" y="1182"/>
                  </a:lnTo>
                  <a:lnTo>
                    <a:pt x="1124" y="1185"/>
                  </a:lnTo>
                  <a:lnTo>
                    <a:pt x="1129" y="1187"/>
                  </a:lnTo>
                  <a:lnTo>
                    <a:pt x="1133" y="1190"/>
                  </a:lnTo>
                  <a:lnTo>
                    <a:pt x="1137" y="1193"/>
                  </a:lnTo>
                  <a:lnTo>
                    <a:pt x="1143" y="1195"/>
                  </a:lnTo>
                  <a:lnTo>
                    <a:pt x="1147" y="1197"/>
                  </a:lnTo>
                  <a:lnTo>
                    <a:pt x="1153" y="1200"/>
                  </a:lnTo>
                  <a:lnTo>
                    <a:pt x="1157" y="1202"/>
                  </a:lnTo>
                  <a:lnTo>
                    <a:pt x="1163" y="1205"/>
                  </a:lnTo>
                  <a:lnTo>
                    <a:pt x="1167" y="1206"/>
                  </a:lnTo>
                  <a:lnTo>
                    <a:pt x="1173" y="1209"/>
                  </a:lnTo>
                  <a:lnTo>
                    <a:pt x="1179" y="1210"/>
                  </a:lnTo>
                  <a:lnTo>
                    <a:pt x="1185" y="1212"/>
                  </a:lnTo>
                  <a:lnTo>
                    <a:pt x="1189" y="1213"/>
                  </a:lnTo>
                  <a:lnTo>
                    <a:pt x="1195" y="1215"/>
                  </a:lnTo>
                  <a:lnTo>
                    <a:pt x="1201" y="1218"/>
                  </a:lnTo>
                  <a:lnTo>
                    <a:pt x="1206" y="1219"/>
                  </a:lnTo>
                  <a:lnTo>
                    <a:pt x="1212" y="1221"/>
                  </a:lnTo>
                  <a:lnTo>
                    <a:pt x="1218" y="1221"/>
                  </a:lnTo>
                  <a:lnTo>
                    <a:pt x="1225" y="1222"/>
                  </a:lnTo>
                  <a:lnTo>
                    <a:pt x="1231" y="1223"/>
                  </a:lnTo>
                  <a:lnTo>
                    <a:pt x="1236" y="1225"/>
                  </a:lnTo>
                  <a:lnTo>
                    <a:pt x="1242" y="1225"/>
                  </a:lnTo>
                  <a:lnTo>
                    <a:pt x="1249" y="1226"/>
                  </a:lnTo>
                  <a:lnTo>
                    <a:pt x="1255" y="1226"/>
                  </a:lnTo>
                  <a:lnTo>
                    <a:pt x="1261" y="1228"/>
                  </a:lnTo>
                  <a:lnTo>
                    <a:pt x="1268" y="1228"/>
                  </a:lnTo>
                  <a:lnTo>
                    <a:pt x="1274" y="1229"/>
                  </a:lnTo>
                  <a:lnTo>
                    <a:pt x="1281" y="1229"/>
                  </a:lnTo>
                  <a:lnTo>
                    <a:pt x="1287" y="1229"/>
                  </a:lnTo>
                  <a:lnTo>
                    <a:pt x="1294" y="1229"/>
                  </a:lnTo>
                  <a:lnTo>
                    <a:pt x="1307" y="1229"/>
                  </a:lnTo>
                  <a:lnTo>
                    <a:pt x="1319" y="1228"/>
                  </a:lnTo>
                  <a:lnTo>
                    <a:pt x="1331" y="1228"/>
                  </a:lnTo>
                  <a:lnTo>
                    <a:pt x="1343" y="1225"/>
                  </a:lnTo>
                  <a:lnTo>
                    <a:pt x="1356" y="1223"/>
                  </a:lnTo>
                  <a:lnTo>
                    <a:pt x="1367" y="1222"/>
                  </a:lnTo>
                  <a:lnTo>
                    <a:pt x="1379" y="1219"/>
                  </a:lnTo>
                  <a:lnTo>
                    <a:pt x="1390" y="1216"/>
                  </a:lnTo>
                  <a:lnTo>
                    <a:pt x="1402" y="1213"/>
                  </a:lnTo>
                  <a:lnTo>
                    <a:pt x="1412" y="1209"/>
                  </a:lnTo>
                  <a:lnTo>
                    <a:pt x="1422" y="1205"/>
                  </a:lnTo>
                  <a:lnTo>
                    <a:pt x="1432" y="1200"/>
                  </a:lnTo>
                  <a:lnTo>
                    <a:pt x="1442" y="1196"/>
                  </a:lnTo>
                  <a:lnTo>
                    <a:pt x="1452" y="1192"/>
                  </a:lnTo>
                  <a:lnTo>
                    <a:pt x="1461" y="1186"/>
                  </a:lnTo>
                  <a:lnTo>
                    <a:pt x="1470" y="1180"/>
                  </a:lnTo>
                  <a:lnTo>
                    <a:pt x="1478" y="1174"/>
                  </a:lnTo>
                  <a:lnTo>
                    <a:pt x="1485" y="1169"/>
                  </a:lnTo>
                  <a:lnTo>
                    <a:pt x="1493" y="1163"/>
                  </a:lnTo>
                  <a:lnTo>
                    <a:pt x="1500" y="1156"/>
                  </a:lnTo>
                  <a:lnTo>
                    <a:pt x="1507" y="1149"/>
                  </a:lnTo>
                  <a:lnTo>
                    <a:pt x="1513" y="1143"/>
                  </a:lnTo>
                  <a:lnTo>
                    <a:pt x="1519" y="1136"/>
                  </a:lnTo>
                  <a:lnTo>
                    <a:pt x="1523" y="1128"/>
                  </a:lnTo>
                  <a:lnTo>
                    <a:pt x="1527" y="1120"/>
                  </a:lnTo>
                  <a:lnTo>
                    <a:pt x="1532" y="1113"/>
                  </a:lnTo>
                  <a:lnTo>
                    <a:pt x="1534" y="1105"/>
                  </a:lnTo>
                  <a:lnTo>
                    <a:pt x="1537" y="1097"/>
                  </a:lnTo>
                  <a:lnTo>
                    <a:pt x="1540" y="1089"/>
                  </a:lnTo>
                  <a:lnTo>
                    <a:pt x="1542" y="1081"/>
                  </a:lnTo>
                  <a:lnTo>
                    <a:pt x="1543" y="1072"/>
                  </a:lnTo>
                  <a:lnTo>
                    <a:pt x="1543" y="1064"/>
                  </a:lnTo>
                  <a:lnTo>
                    <a:pt x="1543" y="1056"/>
                  </a:lnTo>
                  <a:lnTo>
                    <a:pt x="1543" y="1053"/>
                  </a:lnTo>
                  <a:lnTo>
                    <a:pt x="1542" y="1051"/>
                  </a:lnTo>
                  <a:lnTo>
                    <a:pt x="1542" y="1046"/>
                  </a:lnTo>
                  <a:lnTo>
                    <a:pt x="1542" y="1043"/>
                  </a:lnTo>
                  <a:lnTo>
                    <a:pt x="1540" y="1041"/>
                  </a:lnTo>
                  <a:lnTo>
                    <a:pt x="1540" y="1036"/>
                  </a:lnTo>
                  <a:lnTo>
                    <a:pt x="1539" y="1033"/>
                  </a:lnTo>
                  <a:lnTo>
                    <a:pt x="1537" y="1030"/>
                  </a:lnTo>
                  <a:lnTo>
                    <a:pt x="1537" y="1028"/>
                  </a:lnTo>
                  <a:lnTo>
                    <a:pt x="1536" y="1023"/>
                  </a:lnTo>
                  <a:lnTo>
                    <a:pt x="1534" y="1020"/>
                  </a:lnTo>
                  <a:lnTo>
                    <a:pt x="1533" y="1017"/>
                  </a:lnTo>
                  <a:lnTo>
                    <a:pt x="1532" y="1015"/>
                  </a:lnTo>
                  <a:lnTo>
                    <a:pt x="1530" y="1012"/>
                  </a:lnTo>
                  <a:lnTo>
                    <a:pt x="1536" y="1012"/>
                  </a:lnTo>
                  <a:lnTo>
                    <a:pt x="1542" y="1013"/>
                  </a:lnTo>
                  <a:lnTo>
                    <a:pt x="1547" y="1013"/>
                  </a:lnTo>
                  <a:lnTo>
                    <a:pt x="1559" y="1015"/>
                  </a:lnTo>
                  <a:lnTo>
                    <a:pt x="1565" y="1015"/>
                  </a:lnTo>
                  <a:lnTo>
                    <a:pt x="1576" y="1015"/>
                  </a:lnTo>
                  <a:lnTo>
                    <a:pt x="1589" y="1015"/>
                  </a:lnTo>
                  <a:lnTo>
                    <a:pt x="1603" y="1013"/>
                  </a:lnTo>
                  <a:lnTo>
                    <a:pt x="1616" y="1012"/>
                  </a:lnTo>
                  <a:lnTo>
                    <a:pt x="1629" y="1010"/>
                  </a:lnTo>
                  <a:lnTo>
                    <a:pt x="1642" y="1007"/>
                  </a:lnTo>
                  <a:lnTo>
                    <a:pt x="1655" y="1005"/>
                  </a:lnTo>
                  <a:lnTo>
                    <a:pt x="1668" y="1002"/>
                  </a:lnTo>
                  <a:lnTo>
                    <a:pt x="1681" y="997"/>
                  </a:lnTo>
                  <a:lnTo>
                    <a:pt x="1693" y="993"/>
                  </a:lnTo>
                  <a:lnTo>
                    <a:pt x="1704" y="989"/>
                  </a:lnTo>
                  <a:lnTo>
                    <a:pt x="1716" y="983"/>
                  </a:lnTo>
                  <a:lnTo>
                    <a:pt x="1726" y="977"/>
                  </a:lnTo>
                  <a:lnTo>
                    <a:pt x="1737" y="971"/>
                  </a:lnTo>
                  <a:lnTo>
                    <a:pt x="1747" y="964"/>
                  </a:lnTo>
                  <a:lnTo>
                    <a:pt x="1757" y="958"/>
                  </a:lnTo>
                  <a:lnTo>
                    <a:pt x="1766" y="951"/>
                  </a:lnTo>
                  <a:lnTo>
                    <a:pt x="1775" y="943"/>
                  </a:lnTo>
                  <a:lnTo>
                    <a:pt x="1783" y="935"/>
                  </a:lnTo>
                  <a:lnTo>
                    <a:pt x="1792" y="927"/>
                  </a:lnTo>
                  <a:lnTo>
                    <a:pt x="1799" y="918"/>
                  </a:lnTo>
                  <a:lnTo>
                    <a:pt x="1806" y="910"/>
                  </a:lnTo>
                  <a:lnTo>
                    <a:pt x="1812" y="901"/>
                  </a:lnTo>
                  <a:lnTo>
                    <a:pt x="1818" y="891"/>
                  </a:lnTo>
                  <a:lnTo>
                    <a:pt x="1824" y="882"/>
                  </a:lnTo>
                  <a:lnTo>
                    <a:pt x="1829" y="872"/>
                  </a:lnTo>
                  <a:lnTo>
                    <a:pt x="1834" y="862"/>
                  </a:lnTo>
                  <a:lnTo>
                    <a:pt x="1837" y="852"/>
                  </a:lnTo>
                  <a:lnTo>
                    <a:pt x="1840" y="840"/>
                  </a:lnTo>
                  <a:lnTo>
                    <a:pt x="1842" y="830"/>
                  </a:lnTo>
                  <a:lnTo>
                    <a:pt x="1844" y="819"/>
                  </a:lnTo>
                  <a:lnTo>
                    <a:pt x="1845" y="809"/>
                  </a:lnTo>
                  <a:lnTo>
                    <a:pt x="1845" y="797"/>
                  </a:lnTo>
                  <a:lnTo>
                    <a:pt x="1845" y="787"/>
                  </a:lnTo>
                  <a:lnTo>
                    <a:pt x="1844" y="778"/>
                  </a:lnTo>
                  <a:lnTo>
                    <a:pt x="1842" y="770"/>
                  </a:lnTo>
                  <a:lnTo>
                    <a:pt x="1841" y="760"/>
                  </a:lnTo>
                  <a:lnTo>
                    <a:pt x="1840" y="751"/>
                  </a:lnTo>
                  <a:lnTo>
                    <a:pt x="1837" y="743"/>
                  </a:lnTo>
                  <a:lnTo>
                    <a:pt x="1834" y="734"/>
                  </a:lnTo>
                  <a:lnTo>
                    <a:pt x="1831" y="725"/>
                  </a:lnTo>
                  <a:lnTo>
                    <a:pt x="1827" y="717"/>
                  </a:lnTo>
                  <a:lnTo>
                    <a:pt x="1822" y="709"/>
                  </a:lnTo>
                  <a:lnTo>
                    <a:pt x="1818" y="701"/>
                  </a:lnTo>
                  <a:lnTo>
                    <a:pt x="1812" y="694"/>
                  </a:lnTo>
                  <a:lnTo>
                    <a:pt x="1806" y="686"/>
                  </a:lnTo>
                  <a:lnTo>
                    <a:pt x="1801" y="678"/>
                  </a:lnTo>
                  <a:lnTo>
                    <a:pt x="1795" y="671"/>
                  </a:lnTo>
                  <a:lnTo>
                    <a:pt x="1789" y="665"/>
                  </a:lnTo>
                  <a:lnTo>
                    <a:pt x="1782" y="658"/>
                  </a:lnTo>
                  <a:lnTo>
                    <a:pt x="1775" y="650"/>
                  </a:lnTo>
                  <a:lnTo>
                    <a:pt x="1768" y="645"/>
                  </a:lnTo>
                  <a:lnTo>
                    <a:pt x="1759" y="639"/>
                  </a:lnTo>
                  <a:lnTo>
                    <a:pt x="1752" y="633"/>
                  </a:lnTo>
                  <a:lnTo>
                    <a:pt x="1743" y="627"/>
                  </a:lnTo>
                  <a:lnTo>
                    <a:pt x="1734" y="622"/>
                  </a:lnTo>
                  <a:lnTo>
                    <a:pt x="1726" y="617"/>
                  </a:lnTo>
                  <a:lnTo>
                    <a:pt x="1717" y="611"/>
                  </a:lnTo>
                  <a:lnTo>
                    <a:pt x="1707" y="607"/>
                  </a:lnTo>
                  <a:lnTo>
                    <a:pt x="1697" y="603"/>
                  </a:lnTo>
                  <a:lnTo>
                    <a:pt x="1688" y="600"/>
                  </a:lnTo>
                  <a:lnTo>
                    <a:pt x="1678" y="596"/>
                  </a:lnTo>
                  <a:lnTo>
                    <a:pt x="1668" y="593"/>
                  </a:lnTo>
                  <a:lnTo>
                    <a:pt x="1657" y="590"/>
                  </a:lnTo>
                  <a:lnTo>
                    <a:pt x="1647" y="587"/>
                  </a:lnTo>
                  <a:lnTo>
                    <a:pt x="1647" y="587"/>
                  </a:lnTo>
                  <a:lnTo>
                    <a:pt x="1645" y="586"/>
                  </a:lnTo>
                  <a:lnTo>
                    <a:pt x="1645" y="584"/>
                  </a:lnTo>
                  <a:lnTo>
                    <a:pt x="1645" y="584"/>
                  </a:lnTo>
                  <a:lnTo>
                    <a:pt x="1645" y="583"/>
                  </a:lnTo>
                  <a:lnTo>
                    <a:pt x="1644" y="583"/>
                  </a:lnTo>
                  <a:lnTo>
                    <a:pt x="1647" y="578"/>
                  </a:lnTo>
                  <a:lnTo>
                    <a:pt x="1650" y="574"/>
                  </a:lnTo>
                  <a:lnTo>
                    <a:pt x="1651" y="571"/>
                  </a:lnTo>
                  <a:lnTo>
                    <a:pt x="1652" y="567"/>
                  </a:lnTo>
                  <a:lnTo>
                    <a:pt x="1655" y="563"/>
                  </a:lnTo>
                  <a:lnTo>
                    <a:pt x="1657" y="558"/>
                  </a:lnTo>
                  <a:lnTo>
                    <a:pt x="1658" y="554"/>
                  </a:lnTo>
                  <a:lnTo>
                    <a:pt x="1660" y="550"/>
                  </a:lnTo>
                  <a:lnTo>
                    <a:pt x="1662" y="541"/>
                  </a:lnTo>
                  <a:lnTo>
                    <a:pt x="1664" y="531"/>
                  </a:lnTo>
                  <a:lnTo>
                    <a:pt x="1665" y="521"/>
                  </a:lnTo>
                  <a:lnTo>
                    <a:pt x="1667" y="511"/>
                  </a:lnTo>
                  <a:lnTo>
                    <a:pt x="1667" y="501"/>
                  </a:lnTo>
                  <a:lnTo>
                    <a:pt x="1667" y="489"/>
                  </a:lnTo>
                  <a:lnTo>
                    <a:pt x="1665" y="479"/>
                  </a:lnTo>
                  <a:lnTo>
                    <a:pt x="1662" y="469"/>
                  </a:lnTo>
                  <a:lnTo>
                    <a:pt x="1661" y="459"/>
                  </a:lnTo>
                  <a:lnTo>
                    <a:pt x="1657" y="449"/>
                  </a:lnTo>
                  <a:lnTo>
                    <a:pt x="1654" y="439"/>
                  </a:lnTo>
                  <a:lnTo>
                    <a:pt x="1650" y="429"/>
                  </a:lnTo>
                  <a:lnTo>
                    <a:pt x="1644" y="419"/>
                  </a:lnTo>
                  <a:lnTo>
                    <a:pt x="1638" y="408"/>
                  </a:lnTo>
                  <a:lnTo>
                    <a:pt x="1632" y="398"/>
                  </a:lnTo>
                  <a:lnTo>
                    <a:pt x="1627" y="388"/>
                  </a:lnTo>
                  <a:lnTo>
                    <a:pt x="1619" y="380"/>
                  </a:lnTo>
                  <a:lnTo>
                    <a:pt x="1611" y="370"/>
                  </a:lnTo>
                  <a:lnTo>
                    <a:pt x="1603" y="361"/>
                  </a:lnTo>
                  <a:lnTo>
                    <a:pt x="1595" y="351"/>
                  </a:lnTo>
                  <a:lnTo>
                    <a:pt x="1585" y="342"/>
                  </a:lnTo>
                  <a:lnTo>
                    <a:pt x="1576" y="334"/>
                  </a:lnTo>
                  <a:lnTo>
                    <a:pt x="1566" y="326"/>
                  </a:lnTo>
                  <a:lnTo>
                    <a:pt x="1555" y="318"/>
                  </a:lnTo>
                  <a:lnTo>
                    <a:pt x="1544" y="309"/>
                  </a:lnTo>
                  <a:lnTo>
                    <a:pt x="1533" y="302"/>
                  </a:lnTo>
                  <a:lnTo>
                    <a:pt x="1521" y="295"/>
                  </a:lnTo>
                  <a:lnTo>
                    <a:pt x="1508" y="289"/>
                  </a:lnTo>
                  <a:lnTo>
                    <a:pt x="1496" y="282"/>
                  </a:lnTo>
                  <a:lnTo>
                    <a:pt x="1483" y="276"/>
                  </a:lnTo>
                  <a:lnTo>
                    <a:pt x="1470" y="270"/>
                  </a:lnTo>
                  <a:lnTo>
                    <a:pt x="1457" y="265"/>
                  </a:lnTo>
                  <a:lnTo>
                    <a:pt x="1457" y="263"/>
                  </a:lnTo>
                  <a:lnTo>
                    <a:pt x="1455" y="263"/>
                  </a:lnTo>
                  <a:lnTo>
                    <a:pt x="1455" y="262"/>
                  </a:lnTo>
                  <a:lnTo>
                    <a:pt x="1455" y="260"/>
                  </a:lnTo>
                  <a:lnTo>
                    <a:pt x="1455" y="259"/>
                  </a:lnTo>
                  <a:lnTo>
                    <a:pt x="1455" y="259"/>
                  </a:lnTo>
                  <a:lnTo>
                    <a:pt x="1455" y="257"/>
                  </a:lnTo>
                  <a:lnTo>
                    <a:pt x="1454" y="257"/>
                  </a:lnTo>
                  <a:lnTo>
                    <a:pt x="1449" y="240"/>
                  </a:lnTo>
                  <a:lnTo>
                    <a:pt x="1444" y="224"/>
                  </a:lnTo>
                  <a:lnTo>
                    <a:pt x="1435" y="208"/>
                  </a:lnTo>
                  <a:lnTo>
                    <a:pt x="1428" y="193"/>
                  </a:lnTo>
                  <a:lnTo>
                    <a:pt x="1418" y="178"/>
                  </a:lnTo>
                  <a:lnTo>
                    <a:pt x="1408" y="164"/>
                  </a:lnTo>
                  <a:lnTo>
                    <a:pt x="1396" y="149"/>
                  </a:lnTo>
                  <a:lnTo>
                    <a:pt x="1383" y="136"/>
                  </a:lnTo>
                  <a:lnTo>
                    <a:pt x="1370" y="123"/>
                  </a:lnTo>
                  <a:lnTo>
                    <a:pt x="1356" y="110"/>
                  </a:lnTo>
                  <a:lnTo>
                    <a:pt x="1342" y="99"/>
                  </a:lnTo>
                  <a:lnTo>
                    <a:pt x="1326" y="87"/>
                  </a:lnTo>
                  <a:lnTo>
                    <a:pt x="1310" y="77"/>
                  </a:lnTo>
                  <a:lnTo>
                    <a:pt x="1293" y="67"/>
                  </a:lnTo>
                  <a:lnTo>
                    <a:pt x="1274" y="59"/>
                  </a:lnTo>
                  <a:lnTo>
                    <a:pt x="1257" y="50"/>
                  </a:lnTo>
                  <a:lnTo>
                    <a:pt x="1236" y="41"/>
                  </a:lnTo>
                  <a:lnTo>
                    <a:pt x="1218" y="34"/>
                  </a:lnTo>
                  <a:lnTo>
                    <a:pt x="1198" y="27"/>
                  </a:lnTo>
                  <a:lnTo>
                    <a:pt x="1176" y="21"/>
                  </a:lnTo>
                  <a:lnTo>
                    <a:pt x="1156" y="15"/>
                  </a:lnTo>
                  <a:lnTo>
                    <a:pt x="1134" y="11"/>
                  </a:lnTo>
                  <a:lnTo>
                    <a:pt x="1113" y="7"/>
                  </a:lnTo>
                  <a:lnTo>
                    <a:pt x="1090" y="4"/>
                  </a:lnTo>
                  <a:lnTo>
                    <a:pt x="1068" y="2"/>
                  </a:lnTo>
                  <a:lnTo>
                    <a:pt x="1045" y="1"/>
                  </a:lnTo>
                  <a:lnTo>
                    <a:pt x="1022" y="0"/>
                  </a:lnTo>
                  <a:lnTo>
                    <a:pt x="998" y="0"/>
                  </a:lnTo>
                  <a:lnTo>
                    <a:pt x="975" y="1"/>
                  </a:lnTo>
                  <a:lnTo>
                    <a:pt x="952" y="2"/>
                  </a:lnTo>
                  <a:lnTo>
                    <a:pt x="927" y="5"/>
                  </a:lnTo>
                  <a:lnTo>
                    <a:pt x="903" y="10"/>
                  </a:lnTo>
                  <a:lnTo>
                    <a:pt x="890" y="11"/>
                  </a:lnTo>
                  <a:lnTo>
                    <a:pt x="877" y="14"/>
                  </a:lnTo>
                  <a:lnTo>
                    <a:pt x="864" y="17"/>
                  </a:lnTo>
                  <a:lnTo>
                    <a:pt x="851" y="20"/>
                  </a:lnTo>
                  <a:lnTo>
                    <a:pt x="839" y="24"/>
                  </a:lnTo>
                  <a:lnTo>
                    <a:pt x="826" y="27"/>
                  </a:lnTo>
                  <a:lnTo>
                    <a:pt x="815" y="31"/>
                  </a:lnTo>
                  <a:lnTo>
                    <a:pt x="802" y="36"/>
                  </a:lnTo>
                  <a:lnTo>
                    <a:pt x="790" y="40"/>
                  </a:lnTo>
                  <a:lnTo>
                    <a:pt x="779" y="44"/>
                  </a:lnTo>
                  <a:lnTo>
                    <a:pt x="767" y="49"/>
                  </a:lnTo>
                  <a:lnTo>
                    <a:pt x="757" y="53"/>
                  </a:lnTo>
                  <a:lnTo>
                    <a:pt x="746" y="59"/>
                  </a:lnTo>
                  <a:lnTo>
                    <a:pt x="734" y="63"/>
                  </a:lnTo>
                  <a:lnTo>
                    <a:pt x="724" y="69"/>
                  </a:lnTo>
                  <a:lnTo>
                    <a:pt x="714" y="74"/>
                  </a:lnTo>
                  <a:lnTo>
                    <a:pt x="704" y="80"/>
                  </a:lnTo>
                  <a:lnTo>
                    <a:pt x="694" y="86"/>
                  </a:lnTo>
                  <a:lnTo>
                    <a:pt x="684" y="92"/>
                  </a:lnTo>
                  <a:lnTo>
                    <a:pt x="675" y="99"/>
                  </a:lnTo>
                  <a:lnTo>
                    <a:pt x="665" y="105"/>
                  </a:lnTo>
                  <a:lnTo>
                    <a:pt x="656" y="112"/>
                  </a:lnTo>
                  <a:lnTo>
                    <a:pt x="648" y="119"/>
                  </a:lnTo>
                  <a:lnTo>
                    <a:pt x="639" y="125"/>
                  </a:lnTo>
                  <a:lnTo>
                    <a:pt x="631" y="132"/>
                  </a:lnTo>
                  <a:lnTo>
                    <a:pt x="623" y="139"/>
                  </a:lnTo>
                  <a:lnTo>
                    <a:pt x="616" y="146"/>
                  </a:lnTo>
                  <a:lnTo>
                    <a:pt x="608" y="155"/>
                  </a:lnTo>
                  <a:lnTo>
                    <a:pt x="600" y="162"/>
                  </a:lnTo>
                  <a:lnTo>
                    <a:pt x="595" y="169"/>
                  </a:lnTo>
                  <a:lnTo>
                    <a:pt x="587" y="178"/>
                  </a:lnTo>
                  <a:lnTo>
                    <a:pt x="582" y="185"/>
                  </a:lnTo>
                  <a:lnTo>
                    <a:pt x="574" y="184"/>
                  </a:lnTo>
                  <a:lnTo>
                    <a:pt x="569" y="182"/>
                  </a:lnTo>
                  <a:lnTo>
                    <a:pt x="563" y="181"/>
                  </a:lnTo>
                  <a:lnTo>
                    <a:pt x="556" y="180"/>
                  </a:lnTo>
                  <a:lnTo>
                    <a:pt x="550" y="178"/>
                  </a:lnTo>
                  <a:lnTo>
                    <a:pt x="543" y="177"/>
                  </a:lnTo>
                  <a:lnTo>
                    <a:pt x="536" y="175"/>
                  </a:lnTo>
                  <a:lnTo>
                    <a:pt x="530" y="175"/>
                  </a:lnTo>
                  <a:lnTo>
                    <a:pt x="515" y="172"/>
                  </a:lnTo>
                  <a:lnTo>
                    <a:pt x="508" y="172"/>
                  </a:lnTo>
                  <a:lnTo>
                    <a:pt x="503" y="172"/>
                  </a:lnTo>
                  <a:lnTo>
                    <a:pt x="495" y="171"/>
                  </a:lnTo>
                  <a:lnTo>
                    <a:pt x="488" y="171"/>
                  </a:lnTo>
                  <a:lnTo>
                    <a:pt x="481" y="171"/>
                  </a:lnTo>
                  <a:lnTo>
                    <a:pt x="474" y="171"/>
                  </a:lnTo>
                  <a:lnTo>
                    <a:pt x="459" y="171"/>
                  </a:lnTo>
                  <a:lnTo>
                    <a:pt x="451" y="171"/>
                  </a:lnTo>
                  <a:lnTo>
                    <a:pt x="444" y="171"/>
                  </a:lnTo>
                  <a:lnTo>
                    <a:pt x="436" y="171"/>
                  </a:lnTo>
                  <a:lnTo>
                    <a:pt x="429" y="171"/>
                  </a:lnTo>
                  <a:lnTo>
                    <a:pt x="413" y="172"/>
                  </a:lnTo>
                  <a:lnTo>
                    <a:pt x="406" y="174"/>
                  </a:lnTo>
                  <a:lnTo>
                    <a:pt x="399" y="175"/>
                  </a:lnTo>
                  <a:lnTo>
                    <a:pt x="392" y="175"/>
                  </a:lnTo>
                  <a:lnTo>
                    <a:pt x="383" y="177"/>
                  </a:lnTo>
                  <a:lnTo>
                    <a:pt x="376" y="178"/>
                  </a:lnTo>
                  <a:lnTo>
                    <a:pt x="369" y="180"/>
                  </a:lnTo>
                  <a:lnTo>
                    <a:pt x="360" y="181"/>
                  </a:lnTo>
                  <a:lnTo>
                    <a:pt x="353" y="182"/>
                  </a:lnTo>
                  <a:lnTo>
                    <a:pt x="336" y="187"/>
                  </a:lnTo>
                  <a:lnTo>
                    <a:pt x="320" y="191"/>
                  </a:lnTo>
                  <a:lnTo>
                    <a:pt x="302" y="197"/>
                  </a:lnTo>
                  <a:lnTo>
                    <a:pt x="287" y="201"/>
                  </a:lnTo>
                  <a:lnTo>
                    <a:pt x="271" y="208"/>
                  </a:lnTo>
                  <a:lnTo>
                    <a:pt x="256" y="214"/>
                  </a:lnTo>
                  <a:lnTo>
                    <a:pt x="242" y="221"/>
                  </a:lnTo>
                  <a:lnTo>
                    <a:pt x="228" y="229"/>
                  </a:lnTo>
                  <a:lnTo>
                    <a:pt x="213" y="236"/>
                  </a:lnTo>
                  <a:lnTo>
                    <a:pt x="200" y="243"/>
                  </a:lnTo>
                  <a:lnTo>
                    <a:pt x="187" y="252"/>
                  </a:lnTo>
                  <a:lnTo>
                    <a:pt x="176" y="260"/>
                  </a:lnTo>
                  <a:lnTo>
                    <a:pt x="164" y="269"/>
                  </a:lnTo>
                  <a:lnTo>
                    <a:pt x="153" y="277"/>
                  </a:lnTo>
                  <a:lnTo>
                    <a:pt x="143" y="286"/>
                  </a:lnTo>
                  <a:lnTo>
                    <a:pt x="133" y="296"/>
                  </a:lnTo>
                  <a:lnTo>
                    <a:pt x="124" y="306"/>
                  </a:lnTo>
                  <a:lnTo>
                    <a:pt x="114" y="315"/>
                  </a:lnTo>
                  <a:lnTo>
                    <a:pt x="107" y="325"/>
                  </a:lnTo>
                  <a:lnTo>
                    <a:pt x="100" y="336"/>
                  </a:lnTo>
                  <a:lnTo>
                    <a:pt x="92" y="347"/>
                  </a:lnTo>
                  <a:lnTo>
                    <a:pt x="87" y="357"/>
                  </a:lnTo>
                  <a:lnTo>
                    <a:pt x="81" y="367"/>
                  </a:lnTo>
                  <a:lnTo>
                    <a:pt x="77" y="378"/>
                  </a:lnTo>
                  <a:lnTo>
                    <a:pt x="74" y="388"/>
                  </a:lnTo>
                  <a:lnTo>
                    <a:pt x="71" y="400"/>
                  </a:lnTo>
                  <a:lnTo>
                    <a:pt x="68" y="411"/>
                  </a:lnTo>
                  <a:lnTo>
                    <a:pt x="66" y="421"/>
                  </a:lnTo>
                  <a:lnTo>
                    <a:pt x="66" y="433"/>
                  </a:lnTo>
                  <a:lnTo>
                    <a:pt x="66" y="443"/>
                  </a:lnTo>
                  <a:lnTo>
                    <a:pt x="68" y="455"/>
                  </a:lnTo>
                  <a:lnTo>
                    <a:pt x="71" y="465"/>
                  </a:lnTo>
                  <a:lnTo>
                    <a:pt x="72" y="473"/>
                  </a:lnTo>
                  <a:lnTo>
                    <a:pt x="74" y="478"/>
                  </a:lnTo>
                  <a:lnTo>
                    <a:pt x="77" y="485"/>
                  </a:lnTo>
                  <a:lnTo>
                    <a:pt x="78" y="488"/>
                  </a:lnTo>
                  <a:lnTo>
                    <a:pt x="79" y="492"/>
                  </a:lnTo>
                  <a:lnTo>
                    <a:pt x="81" y="496"/>
                  </a:lnTo>
                  <a:lnTo>
                    <a:pt x="84" y="499"/>
                  </a:lnTo>
                  <a:lnTo>
                    <a:pt x="85" y="504"/>
                  </a:lnTo>
                  <a:lnTo>
                    <a:pt x="88" y="506"/>
                  </a:lnTo>
                  <a:lnTo>
                    <a:pt x="92" y="514"/>
                  </a:lnTo>
                  <a:lnTo>
                    <a:pt x="94" y="516"/>
                  </a:lnTo>
                  <a:lnTo>
                    <a:pt x="100" y="524"/>
                  </a:lnTo>
                  <a:lnTo>
                    <a:pt x="105" y="529"/>
                  </a:lnTo>
                  <a:lnTo>
                    <a:pt x="108" y="532"/>
                  </a:lnTo>
                  <a:lnTo>
                    <a:pt x="111" y="537"/>
                  </a:lnTo>
                  <a:lnTo>
                    <a:pt x="117" y="542"/>
                  </a:lnTo>
                  <a:lnTo>
                    <a:pt x="121" y="545"/>
                  </a:lnTo>
                  <a:lnTo>
                    <a:pt x="124" y="548"/>
                  </a:lnTo>
                  <a:lnTo>
                    <a:pt x="127" y="551"/>
                  </a:lnTo>
                  <a:lnTo>
                    <a:pt x="131" y="554"/>
                  </a:lnTo>
                  <a:lnTo>
                    <a:pt x="134" y="555"/>
                  </a:lnTo>
                  <a:lnTo>
                    <a:pt x="138" y="558"/>
                  </a:lnTo>
                  <a:lnTo>
                    <a:pt x="143" y="561"/>
                  </a:lnTo>
                  <a:lnTo>
                    <a:pt x="146" y="564"/>
                  </a:lnTo>
                  <a:lnTo>
                    <a:pt x="150" y="567"/>
                  </a:lnTo>
                  <a:lnTo>
                    <a:pt x="154" y="568"/>
                  </a:lnTo>
                  <a:lnTo>
                    <a:pt x="148" y="571"/>
                  </a:lnTo>
                  <a:lnTo>
                    <a:pt x="143" y="573"/>
                  </a:lnTo>
                  <a:lnTo>
                    <a:pt x="137" y="575"/>
                  </a:lnTo>
                  <a:lnTo>
                    <a:pt x="131" y="577"/>
                  </a:lnTo>
                  <a:lnTo>
                    <a:pt x="127" y="580"/>
                  </a:lnTo>
                  <a:lnTo>
                    <a:pt x="121" y="583"/>
                  </a:lnTo>
                  <a:lnTo>
                    <a:pt x="115" y="584"/>
                  </a:lnTo>
                  <a:lnTo>
                    <a:pt x="111" y="587"/>
                  </a:lnTo>
                  <a:lnTo>
                    <a:pt x="105" y="590"/>
                  </a:lnTo>
                  <a:lnTo>
                    <a:pt x="101" y="593"/>
                  </a:lnTo>
                  <a:lnTo>
                    <a:pt x="95" y="596"/>
                  </a:lnTo>
                  <a:lnTo>
                    <a:pt x="91" y="599"/>
                  </a:lnTo>
                  <a:lnTo>
                    <a:pt x="85" y="603"/>
                  </a:lnTo>
                  <a:lnTo>
                    <a:pt x="81" y="606"/>
                  </a:lnTo>
                  <a:lnTo>
                    <a:pt x="72" y="613"/>
                  </a:lnTo>
                  <a:lnTo>
                    <a:pt x="62" y="620"/>
                  </a:lnTo>
                  <a:lnTo>
                    <a:pt x="53" y="629"/>
                  </a:lnTo>
                  <a:lnTo>
                    <a:pt x="46" y="637"/>
                  </a:lnTo>
                  <a:lnTo>
                    <a:pt x="39" y="646"/>
                  </a:lnTo>
                  <a:lnTo>
                    <a:pt x="32" y="655"/>
                  </a:lnTo>
                  <a:lnTo>
                    <a:pt x="26" y="663"/>
                  </a:lnTo>
                  <a:lnTo>
                    <a:pt x="20" y="672"/>
                  </a:lnTo>
                  <a:lnTo>
                    <a:pt x="16" y="682"/>
                  </a:lnTo>
                  <a:lnTo>
                    <a:pt x="12" y="692"/>
                  </a:lnTo>
                  <a:lnTo>
                    <a:pt x="7" y="701"/>
                  </a:lnTo>
                  <a:lnTo>
                    <a:pt x="5" y="711"/>
                  </a:lnTo>
                  <a:lnTo>
                    <a:pt x="3" y="721"/>
                  </a:lnTo>
                  <a:lnTo>
                    <a:pt x="2" y="731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1"/>
                  </a:lnTo>
                  <a:lnTo>
                    <a:pt x="0" y="771"/>
                  </a:lnTo>
                  <a:lnTo>
                    <a:pt x="2" y="781"/>
                  </a:lnTo>
                  <a:lnTo>
                    <a:pt x="5" y="791"/>
                  </a:lnTo>
                  <a:lnTo>
                    <a:pt x="7" y="800"/>
                  </a:lnTo>
                  <a:lnTo>
                    <a:pt x="10" y="810"/>
                  </a:lnTo>
                  <a:lnTo>
                    <a:pt x="15" y="820"/>
                  </a:lnTo>
                  <a:lnTo>
                    <a:pt x="19" y="830"/>
                  </a:lnTo>
                  <a:lnTo>
                    <a:pt x="25" y="839"/>
                  </a:lnTo>
                  <a:lnTo>
                    <a:pt x="30" y="849"/>
                  </a:lnTo>
                  <a:lnTo>
                    <a:pt x="38" y="858"/>
                  </a:lnTo>
                  <a:lnTo>
                    <a:pt x="45" y="866"/>
                  </a:lnTo>
                  <a:lnTo>
                    <a:pt x="52" y="876"/>
                  </a:lnTo>
                  <a:lnTo>
                    <a:pt x="61" y="884"/>
                  </a:lnTo>
                  <a:lnTo>
                    <a:pt x="69" y="892"/>
                  </a:lnTo>
                  <a:lnTo>
                    <a:pt x="79" y="901"/>
                  </a:lnTo>
                  <a:lnTo>
                    <a:pt x="89" y="908"/>
                  </a:lnTo>
                  <a:lnTo>
                    <a:pt x="97" y="914"/>
                  </a:lnTo>
                  <a:lnTo>
                    <a:pt x="104" y="918"/>
                  </a:lnTo>
                  <a:lnTo>
                    <a:pt x="111" y="922"/>
                  </a:lnTo>
                  <a:lnTo>
                    <a:pt x="118" y="927"/>
                  </a:lnTo>
                  <a:lnTo>
                    <a:pt x="125" y="930"/>
                  </a:lnTo>
                  <a:lnTo>
                    <a:pt x="133" y="934"/>
                  </a:lnTo>
                  <a:lnTo>
                    <a:pt x="141" y="938"/>
                  </a:lnTo>
                  <a:lnTo>
                    <a:pt x="148" y="941"/>
                  </a:lnTo>
                  <a:lnTo>
                    <a:pt x="157" y="944"/>
                  </a:lnTo>
                  <a:lnTo>
                    <a:pt x="164" y="947"/>
                  </a:lnTo>
                  <a:lnTo>
                    <a:pt x="173" y="950"/>
                  </a:lnTo>
                  <a:lnTo>
                    <a:pt x="182" y="953"/>
                  </a:lnTo>
                  <a:lnTo>
                    <a:pt x="189" y="956"/>
                  </a:lnTo>
                  <a:lnTo>
                    <a:pt x="197" y="957"/>
                  </a:lnTo>
                  <a:lnTo>
                    <a:pt x="206" y="960"/>
                  </a:lnTo>
                  <a:lnTo>
                    <a:pt x="215" y="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450040" y="4451400"/>
            <a:ext cx="1079280" cy="749160"/>
          </a:xfrm>
          <a:custGeom>
            <a:avLst/>
            <a:gdLst/>
            <a:ahLst/>
            <a:rect l="l" t="t" r="r" b="b"/>
            <a:pathLst>
              <a:path w="2041" h="1417">
                <a:moveTo>
                  <a:pt x="1577" y="330"/>
                </a:moveTo>
                <a:lnTo>
                  <a:pt x="1577" y="331"/>
                </a:lnTo>
                <a:lnTo>
                  <a:pt x="1577" y="330"/>
                </a:lnTo>
                <a:close/>
                <a:moveTo>
                  <a:pt x="1767" y="651"/>
                </a:moveTo>
                <a:lnTo>
                  <a:pt x="1767" y="652"/>
                </a:lnTo>
                <a:lnTo>
                  <a:pt x="1767" y="651"/>
                </a:lnTo>
                <a:close/>
                <a:moveTo>
                  <a:pt x="1576" y="325"/>
                </a:moveTo>
                <a:lnTo>
                  <a:pt x="1577" y="325"/>
                </a:lnTo>
                <a:lnTo>
                  <a:pt x="1577" y="327"/>
                </a:lnTo>
                <a:lnTo>
                  <a:pt x="1577" y="330"/>
                </a:lnTo>
                <a:lnTo>
                  <a:pt x="1579" y="331"/>
                </a:lnTo>
                <a:lnTo>
                  <a:pt x="1592" y="338"/>
                </a:lnTo>
                <a:lnTo>
                  <a:pt x="1605" y="344"/>
                </a:lnTo>
                <a:lnTo>
                  <a:pt x="1618" y="350"/>
                </a:lnTo>
                <a:lnTo>
                  <a:pt x="1630" y="357"/>
                </a:lnTo>
                <a:lnTo>
                  <a:pt x="1643" y="363"/>
                </a:lnTo>
                <a:lnTo>
                  <a:pt x="1655" y="370"/>
                </a:lnTo>
                <a:lnTo>
                  <a:pt x="1666" y="377"/>
                </a:lnTo>
                <a:lnTo>
                  <a:pt x="1677" y="386"/>
                </a:lnTo>
                <a:lnTo>
                  <a:pt x="1688" y="394"/>
                </a:lnTo>
                <a:lnTo>
                  <a:pt x="1698" y="402"/>
                </a:lnTo>
                <a:lnTo>
                  <a:pt x="1707" y="410"/>
                </a:lnTo>
                <a:lnTo>
                  <a:pt x="1717" y="419"/>
                </a:lnTo>
                <a:lnTo>
                  <a:pt x="1725" y="429"/>
                </a:lnTo>
                <a:lnTo>
                  <a:pt x="1733" y="438"/>
                </a:lnTo>
                <a:lnTo>
                  <a:pt x="1741" y="448"/>
                </a:lnTo>
                <a:lnTo>
                  <a:pt x="1749" y="456"/>
                </a:lnTo>
                <a:lnTo>
                  <a:pt x="1754" y="466"/>
                </a:lnTo>
                <a:lnTo>
                  <a:pt x="1760" y="476"/>
                </a:lnTo>
                <a:lnTo>
                  <a:pt x="1766" y="487"/>
                </a:lnTo>
                <a:lnTo>
                  <a:pt x="1772" y="497"/>
                </a:lnTo>
                <a:lnTo>
                  <a:pt x="1776" y="507"/>
                </a:lnTo>
                <a:lnTo>
                  <a:pt x="1779" y="517"/>
                </a:lnTo>
                <a:lnTo>
                  <a:pt x="1783" y="527"/>
                </a:lnTo>
                <a:lnTo>
                  <a:pt x="1784" y="537"/>
                </a:lnTo>
                <a:lnTo>
                  <a:pt x="1787" y="547"/>
                </a:lnTo>
                <a:lnTo>
                  <a:pt x="1789" y="557"/>
                </a:lnTo>
                <a:lnTo>
                  <a:pt x="1789" y="569"/>
                </a:lnTo>
                <a:lnTo>
                  <a:pt x="1789" y="579"/>
                </a:lnTo>
                <a:lnTo>
                  <a:pt x="1787" y="589"/>
                </a:lnTo>
                <a:lnTo>
                  <a:pt x="1786" y="599"/>
                </a:lnTo>
                <a:lnTo>
                  <a:pt x="1784" y="609"/>
                </a:lnTo>
                <a:lnTo>
                  <a:pt x="1782" y="618"/>
                </a:lnTo>
                <a:lnTo>
                  <a:pt x="1780" y="622"/>
                </a:lnTo>
                <a:lnTo>
                  <a:pt x="1779" y="626"/>
                </a:lnTo>
                <a:lnTo>
                  <a:pt x="1777" y="631"/>
                </a:lnTo>
                <a:lnTo>
                  <a:pt x="1774" y="635"/>
                </a:lnTo>
                <a:lnTo>
                  <a:pt x="1773" y="639"/>
                </a:lnTo>
                <a:lnTo>
                  <a:pt x="1772" y="642"/>
                </a:lnTo>
                <a:lnTo>
                  <a:pt x="1769" y="646"/>
                </a:lnTo>
                <a:lnTo>
                  <a:pt x="1766" y="651"/>
                </a:lnTo>
                <a:lnTo>
                  <a:pt x="1767" y="652"/>
                </a:lnTo>
                <a:lnTo>
                  <a:pt x="1769" y="655"/>
                </a:lnTo>
                <a:lnTo>
                  <a:pt x="1779" y="658"/>
                </a:lnTo>
                <a:lnTo>
                  <a:pt x="1790" y="661"/>
                </a:lnTo>
                <a:lnTo>
                  <a:pt x="1800" y="664"/>
                </a:lnTo>
                <a:lnTo>
                  <a:pt x="1810" y="668"/>
                </a:lnTo>
                <a:lnTo>
                  <a:pt x="1819" y="671"/>
                </a:lnTo>
                <a:lnTo>
                  <a:pt x="1829" y="675"/>
                </a:lnTo>
                <a:lnTo>
                  <a:pt x="1839" y="679"/>
                </a:lnTo>
                <a:lnTo>
                  <a:pt x="1848" y="685"/>
                </a:lnTo>
                <a:lnTo>
                  <a:pt x="1856" y="690"/>
                </a:lnTo>
                <a:lnTo>
                  <a:pt x="1865" y="695"/>
                </a:lnTo>
                <a:lnTo>
                  <a:pt x="1874" y="701"/>
                </a:lnTo>
                <a:lnTo>
                  <a:pt x="1881" y="707"/>
                </a:lnTo>
                <a:lnTo>
                  <a:pt x="1890" y="713"/>
                </a:lnTo>
                <a:lnTo>
                  <a:pt x="1897" y="718"/>
                </a:lnTo>
                <a:lnTo>
                  <a:pt x="1904" y="726"/>
                </a:lnTo>
                <a:lnTo>
                  <a:pt x="1911" y="733"/>
                </a:lnTo>
                <a:lnTo>
                  <a:pt x="1917" y="739"/>
                </a:lnTo>
                <a:lnTo>
                  <a:pt x="1923" y="746"/>
                </a:lnTo>
                <a:lnTo>
                  <a:pt x="1928" y="754"/>
                </a:lnTo>
                <a:lnTo>
                  <a:pt x="1934" y="762"/>
                </a:lnTo>
                <a:lnTo>
                  <a:pt x="1940" y="769"/>
                </a:lnTo>
                <a:lnTo>
                  <a:pt x="1944" y="777"/>
                </a:lnTo>
                <a:lnTo>
                  <a:pt x="1949" y="785"/>
                </a:lnTo>
                <a:lnTo>
                  <a:pt x="1953" y="793"/>
                </a:lnTo>
                <a:lnTo>
                  <a:pt x="1956" y="802"/>
                </a:lnTo>
                <a:lnTo>
                  <a:pt x="1959" y="811"/>
                </a:lnTo>
                <a:lnTo>
                  <a:pt x="1962" y="819"/>
                </a:lnTo>
                <a:lnTo>
                  <a:pt x="1963" y="828"/>
                </a:lnTo>
                <a:lnTo>
                  <a:pt x="1964" y="838"/>
                </a:lnTo>
                <a:lnTo>
                  <a:pt x="1966" y="846"/>
                </a:lnTo>
                <a:lnTo>
                  <a:pt x="1967" y="855"/>
                </a:lnTo>
                <a:lnTo>
                  <a:pt x="1967" y="865"/>
                </a:lnTo>
                <a:lnTo>
                  <a:pt x="1967" y="877"/>
                </a:lnTo>
                <a:lnTo>
                  <a:pt x="1966" y="887"/>
                </a:lnTo>
                <a:lnTo>
                  <a:pt x="1964" y="898"/>
                </a:lnTo>
                <a:lnTo>
                  <a:pt x="1962" y="908"/>
                </a:lnTo>
                <a:lnTo>
                  <a:pt x="1959" y="920"/>
                </a:lnTo>
                <a:lnTo>
                  <a:pt x="1956" y="930"/>
                </a:lnTo>
                <a:lnTo>
                  <a:pt x="1951" y="940"/>
                </a:lnTo>
                <a:lnTo>
                  <a:pt x="1946" y="950"/>
                </a:lnTo>
                <a:lnTo>
                  <a:pt x="1940" y="959"/>
                </a:lnTo>
                <a:lnTo>
                  <a:pt x="1934" y="969"/>
                </a:lnTo>
                <a:lnTo>
                  <a:pt x="1928" y="978"/>
                </a:lnTo>
                <a:lnTo>
                  <a:pt x="1921" y="986"/>
                </a:lnTo>
                <a:lnTo>
                  <a:pt x="1914" y="995"/>
                </a:lnTo>
                <a:lnTo>
                  <a:pt x="1905" y="1003"/>
                </a:lnTo>
                <a:lnTo>
                  <a:pt x="1897" y="1011"/>
                </a:lnTo>
                <a:lnTo>
                  <a:pt x="1888" y="1019"/>
                </a:lnTo>
                <a:lnTo>
                  <a:pt x="1879" y="1026"/>
                </a:lnTo>
                <a:lnTo>
                  <a:pt x="1869" y="1032"/>
                </a:lnTo>
                <a:lnTo>
                  <a:pt x="1859" y="1039"/>
                </a:lnTo>
                <a:lnTo>
                  <a:pt x="1848" y="1045"/>
                </a:lnTo>
                <a:lnTo>
                  <a:pt x="1838" y="1051"/>
                </a:lnTo>
                <a:lnTo>
                  <a:pt x="1826" y="1057"/>
                </a:lnTo>
                <a:lnTo>
                  <a:pt x="1815" y="1061"/>
                </a:lnTo>
                <a:lnTo>
                  <a:pt x="1803" y="1065"/>
                </a:lnTo>
                <a:lnTo>
                  <a:pt x="1790" y="1070"/>
                </a:lnTo>
                <a:lnTo>
                  <a:pt x="1777" y="1073"/>
                </a:lnTo>
                <a:lnTo>
                  <a:pt x="1764" y="1075"/>
                </a:lnTo>
                <a:lnTo>
                  <a:pt x="1751" y="1078"/>
                </a:lnTo>
                <a:lnTo>
                  <a:pt x="1738" y="1080"/>
                </a:lnTo>
                <a:lnTo>
                  <a:pt x="1725" y="1081"/>
                </a:lnTo>
                <a:lnTo>
                  <a:pt x="1711" y="1083"/>
                </a:lnTo>
                <a:lnTo>
                  <a:pt x="1698" y="1083"/>
                </a:lnTo>
                <a:lnTo>
                  <a:pt x="1687" y="1083"/>
                </a:lnTo>
                <a:lnTo>
                  <a:pt x="1681" y="1083"/>
                </a:lnTo>
                <a:lnTo>
                  <a:pt x="1669" y="1081"/>
                </a:lnTo>
                <a:lnTo>
                  <a:pt x="1664" y="1081"/>
                </a:lnTo>
                <a:lnTo>
                  <a:pt x="1658" y="1080"/>
                </a:lnTo>
                <a:lnTo>
                  <a:pt x="1652" y="1080"/>
                </a:lnTo>
                <a:lnTo>
                  <a:pt x="1654" y="1083"/>
                </a:lnTo>
                <a:lnTo>
                  <a:pt x="1655" y="1085"/>
                </a:lnTo>
                <a:lnTo>
                  <a:pt x="1656" y="1088"/>
                </a:lnTo>
                <a:lnTo>
                  <a:pt x="1658" y="1091"/>
                </a:lnTo>
                <a:lnTo>
                  <a:pt x="1659" y="1096"/>
                </a:lnTo>
                <a:lnTo>
                  <a:pt x="1659" y="1098"/>
                </a:lnTo>
                <a:lnTo>
                  <a:pt x="1661" y="1101"/>
                </a:lnTo>
                <a:lnTo>
                  <a:pt x="1662" y="1104"/>
                </a:lnTo>
                <a:lnTo>
                  <a:pt x="1662" y="1109"/>
                </a:lnTo>
                <a:lnTo>
                  <a:pt x="1664" y="1111"/>
                </a:lnTo>
                <a:lnTo>
                  <a:pt x="1664" y="1114"/>
                </a:lnTo>
                <a:lnTo>
                  <a:pt x="1664" y="1119"/>
                </a:lnTo>
                <a:lnTo>
                  <a:pt x="1665" y="1121"/>
                </a:lnTo>
                <a:lnTo>
                  <a:pt x="1665" y="1124"/>
                </a:lnTo>
                <a:lnTo>
                  <a:pt x="1665" y="1132"/>
                </a:lnTo>
                <a:lnTo>
                  <a:pt x="1665" y="1140"/>
                </a:lnTo>
                <a:lnTo>
                  <a:pt x="1664" y="1149"/>
                </a:lnTo>
                <a:lnTo>
                  <a:pt x="1662" y="1157"/>
                </a:lnTo>
                <a:lnTo>
                  <a:pt x="1659" y="1165"/>
                </a:lnTo>
                <a:lnTo>
                  <a:pt x="1656" y="1173"/>
                </a:lnTo>
                <a:lnTo>
                  <a:pt x="1654" y="1181"/>
                </a:lnTo>
                <a:lnTo>
                  <a:pt x="1649" y="1188"/>
                </a:lnTo>
                <a:lnTo>
                  <a:pt x="1645" y="1196"/>
                </a:lnTo>
                <a:lnTo>
                  <a:pt x="1641" y="1204"/>
                </a:lnTo>
                <a:lnTo>
                  <a:pt x="1635" y="1211"/>
                </a:lnTo>
                <a:lnTo>
                  <a:pt x="1629" y="1217"/>
                </a:lnTo>
                <a:lnTo>
                  <a:pt x="1622" y="1224"/>
                </a:lnTo>
                <a:lnTo>
                  <a:pt x="1615" y="1231"/>
                </a:lnTo>
                <a:lnTo>
                  <a:pt x="1607" y="1237"/>
                </a:lnTo>
                <a:lnTo>
                  <a:pt x="1600" y="1242"/>
                </a:lnTo>
                <a:lnTo>
                  <a:pt x="1592" y="1248"/>
                </a:lnTo>
                <a:lnTo>
                  <a:pt x="1583" y="1254"/>
                </a:lnTo>
                <a:lnTo>
                  <a:pt x="1574" y="1260"/>
                </a:lnTo>
                <a:lnTo>
                  <a:pt x="1564" y="1264"/>
                </a:lnTo>
                <a:lnTo>
                  <a:pt x="1554" y="1268"/>
                </a:lnTo>
                <a:lnTo>
                  <a:pt x="1544" y="1273"/>
                </a:lnTo>
                <a:lnTo>
                  <a:pt x="1534" y="1277"/>
                </a:lnTo>
                <a:lnTo>
                  <a:pt x="1524" y="1281"/>
                </a:lnTo>
                <a:lnTo>
                  <a:pt x="1512" y="1284"/>
                </a:lnTo>
                <a:lnTo>
                  <a:pt x="1501" y="1287"/>
                </a:lnTo>
                <a:lnTo>
                  <a:pt x="1489" y="1290"/>
                </a:lnTo>
                <a:lnTo>
                  <a:pt x="1478" y="1291"/>
                </a:lnTo>
                <a:lnTo>
                  <a:pt x="1465" y="1293"/>
                </a:lnTo>
                <a:lnTo>
                  <a:pt x="1453" y="1296"/>
                </a:lnTo>
                <a:lnTo>
                  <a:pt x="1441" y="1296"/>
                </a:lnTo>
                <a:lnTo>
                  <a:pt x="1429" y="1297"/>
                </a:lnTo>
                <a:lnTo>
                  <a:pt x="1416" y="1297"/>
                </a:lnTo>
                <a:lnTo>
                  <a:pt x="1409" y="1297"/>
                </a:lnTo>
                <a:lnTo>
                  <a:pt x="1403" y="1297"/>
                </a:lnTo>
                <a:lnTo>
                  <a:pt x="1396" y="1297"/>
                </a:lnTo>
                <a:lnTo>
                  <a:pt x="1390" y="1296"/>
                </a:lnTo>
                <a:lnTo>
                  <a:pt x="1383" y="1296"/>
                </a:lnTo>
                <a:lnTo>
                  <a:pt x="1377" y="1294"/>
                </a:lnTo>
                <a:lnTo>
                  <a:pt x="1371" y="1294"/>
                </a:lnTo>
                <a:lnTo>
                  <a:pt x="1364" y="1293"/>
                </a:lnTo>
                <a:lnTo>
                  <a:pt x="1358" y="1293"/>
                </a:lnTo>
                <a:lnTo>
                  <a:pt x="1353" y="1291"/>
                </a:lnTo>
                <a:lnTo>
                  <a:pt x="1347" y="1290"/>
                </a:lnTo>
                <a:lnTo>
                  <a:pt x="1340" y="1289"/>
                </a:lnTo>
                <a:lnTo>
                  <a:pt x="1334" y="1289"/>
                </a:lnTo>
                <a:lnTo>
                  <a:pt x="1328" y="1287"/>
                </a:lnTo>
                <a:lnTo>
                  <a:pt x="1323" y="1286"/>
                </a:lnTo>
                <a:lnTo>
                  <a:pt x="1317" y="1283"/>
                </a:lnTo>
                <a:lnTo>
                  <a:pt x="1311" y="1281"/>
                </a:lnTo>
                <a:lnTo>
                  <a:pt x="1307" y="1280"/>
                </a:lnTo>
                <a:lnTo>
                  <a:pt x="1301" y="1278"/>
                </a:lnTo>
                <a:lnTo>
                  <a:pt x="1295" y="1277"/>
                </a:lnTo>
                <a:lnTo>
                  <a:pt x="1289" y="1274"/>
                </a:lnTo>
                <a:lnTo>
                  <a:pt x="1285" y="1273"/>
                </a:lnTo>
                <a:lnTo>
                  <a:pt x="1279" y="1270"/>
                </a:lnTo>
                <a:lnTo>
                  <a:pt x="1275" y="1268"/>
                </a:lnTo>
                <a:lnTo>
                  <a:pt x="1269" y="1265"/>
                </a:lnTo>
                <a:lnTo>
                  <a:pt x="1265" y="1263"/>
                </a:lnTo>
                <a:lnTo>
                  <a:pt x="1259" y="1261"/>
                </a:lnTo>
                <a:lnTo>
                  <a:pt x="1255" y="1258"/>
                </a:lnTo>
                <a:lnTo>
                  <a:pt x="1251" y="1255"/>
                </a:lnTo>
                <a:lnTo>
                  <a:pt x="1246" y="1253"/>
                </a:lnTo>
                <a:lnTo>
                  <a:pt x="1242" y="1250"/>
                </a:lnTo>
                <a:lnTo>
                  <a:pt x="1238" y="1247"/>
                </a:lnTo>
                <a:lnTo>
                  <a:pt x="1235" y="1247"/>
                </a:lnTo>
                <a:lnTo>
                  <a:pt x="1232" y="1248"/>
                </a:lnTo>
                <a:lnTo>
                  <a:pt x="1230" y="1248"/>
                </a:lnTo>
                <a:lnTo>
                  <a:pt x="1226" y="1248"/>
                </a:lnTo>
                <a:lnTo>
                  <a:pt x="1225" y="1250"/>
                </a:lnTo>
                <a:lnTo>
                  <a:pt x="1223" y="1250"/>
                </a:lnTo>
                <a:lnTo>
                  <a:pt x="1216" y="1255"/>
                </a:lnTo>
                <a:lnTo>
                  <a:pt x="1210" y="1261"/>
                </a:lnTo>
                <a:lnTo>
                  <a:pt x="1203" y="1267"/>
                </a:lnTo>
                <a:lnTo>
                  <a:pt x="1196" y="1271"/>
                </a:lnTo>
                <a:lnTo>
                  <a:pt x="1189" y="1277"/>
                </a:lnTo>
                <a:lnTo>
                  <a:pt x="1181" y="1283"/>
                </a:lnTo>
                <a:lnTo>
                  <a:pt x="1173" y="1287"/>
                </a:lnTo>
                <a:lnTo>
                  <a:pt x="1166" y="1291"/>
                </a:lnTo>
                <a:lnTo>
                  <a:pt x="1157" y="1297"/>
                </a:lnTo>
                <a:lnTo>
                  <a:pt x="1148" y="1301"/>
                </a:lnTo>
                <a:lnTo>
                  <a:pt x="1140" y="1306"/>
                </a:lnTo>
                <a:lnTo>
                  <a:pt x="1130" y="1310"/>
                </a:lnTo>
                <a:lnTo>
                  <a:pt x="1121" y="1313"/>
                </a:lnTo>
                <a:lnTo>
                  <a:pt x="1111" y="1317"/>
                </a:lnTo>
                <a:lnTo>
                  <a:pt x="1101" y="1320"/>
                </a:lnTo>
                <a:lnTo>
                  <a:pt x="1091" y="1324"/>
                </a:lnTo>
                <a:lnTo>
                  <a:pt x="1081" y="1327"/>
                </a:lnTo>
                <a:lnTo>
                  <a:pt x="1071" y="1330"/>
                </a:lnTo>
                <a:lnTo>
                  <a:pt x="1061" y="1333"/>
                </a:lnTo>
                <a:lnTo>
                  <a:pt x="1049" y="1336"/>
                </a:lnTo>
                <a:lnTo>
                  <a:pt x="1038" y="1337"/>
                </a:lnTo>
                <a:lnTo>
                  <a:pt x="1027" y="1340"/>
                </a:lnTo>
                <a:lnTo>
                  <a:pt x="1016" y="1342"/>
                </a:lnTo>
                <a:lnTo>
                  <a:pt x="1004" y="1343"/>
                </a:lnTo>
                <a:lnTo>
                  <a:pt x="993" y="1345"/>
                </a:lnTo>
                <a:lnTo>
                  <a:pt x="981" y="1346"/>
                </a:lnTo>
                <a:lnTo>
                  <a:pt x="970" y="1348"/>
                </a:lnTo>
                <a:lnTo>
                  <a:pt x="957" y="1348"/>
                </a:lnTo>
                <a:lnTo>
                  <a:pt x="945" y="1349"/>
                </a:lnTo>
                <a:lnTo>
                  <a:pt x="934" y="1349"/>
                </a:lnTo>
                <a:lnTo>
                  <a:pt x="921" y="1349"/>
                </a:lnTo>
                <a:lnTo>
                  <a:pt x="908" y="1349"/>
                </a:lnTo>
                <a:lnTo>
                  <a:pt x="894" y="1348"/>
                </a:lnTo>
                <a:lnTo>
                  <a:pt x="879" y="1346"/>
                </a:lnTo>
                <a:lnTo>
                  <a:pt x="865" y="1345"/>
                </a:lnTo>
                <a:lnTo>
                  <a:pt x="850" y="1343"/>
                </a:lnTo>
                <a:lnTo>
                  <a:pt x="836" y="1342"/>
                </a:lnTo>
                <a:lnTo>
                  <a:pt x="823" y="1339"/>
                </a:lnTo>
                <a:lnTo>
                  <a:pt x="809" y="1336"/>
                </a:lnTo>
                <a:lnTo>
                  <a:pt x="796" y="1333"/>
                </a:lnTo>
                <a:lnTo>
                  <a:pt x="783" y="1330"/>
                </a:lnTo>
                <a:lnTo>
                  <a:pt x="770" y="1327"/>
                </a:lnTo>
                <a:lnTo>
                  <a:pt x="757" y="1323"/>
                </a:lnTo>
                <a:lnTo>
                  <a:pt x="745" y="1319"/>
                </a:lnTo>
                <a:lnTo>
                  <a:pt x="732" y="1314"/>
                </a:lnTo>
                <a:lnTo>
                  <a:pt x="721" y="1310"/>
                </a:lnTo>
                <a:lnTo>
                  <a:pt x="709" y="1304"/>
                </a:lnTo>
                <a:lnTo>
                  <a:pt x="699" y="1299"/>
                </a:lnTo>
                <a:lnTo>
                  <a:pt x="688" y="1294"/>
                </a:lnTo>
                <a:lnTo>
                  <a:pt x="678" y="1289"/>
                </a:lnTo>
                <a:lnTo>
                  <a:pt x="668" y="1283"/>
                </a:lnTo>
                <a:lnTo>
                  <a:pt x="658" y="1276"/>
                </a:lnTo>
                <a:lnTo>
                  <a:pt x="649" y="1270"/>
                </a:lnTo>
                <a:lnTo>
                  <a:pt x="640" y="1263"/>
                </a:lnTo>
                <a:lnTo>
                  <a:pt x="632" y="1257"/>
                </a:lnTo>
                <a:lnTo>
                  <a:pt x="623" y="1250"/>
                </a:lnTo>
                <a:lnTo>
                  <a:pt x="616" y="1242"/>
                </a:lnTo>
                <a:lnTo>
                  <a:pt x="609" y="1235"/>
                </a:lnTo>
                <a:lnTo>
                  <a:pt x="601" y="1228"/>
                </a:lnTo>
                <a:lnTo>
                  <a:pt x="596" y="1219"/>
                </a:lnTo>
                <a:lnTo>
                  <a:pt x="590" y="1212"/>
                </a:lnTo>
                <a:lnTo>
                  <a:pt x="584" y="1204"/>
                </a:lnTo>
                <a:lnTo>
                  <a:pt x="580" y="1196"/>
                </a:lnTo>
                <a:lnTo>
                  <a:pt x="576" y="1188"/>
                </a:lnTo>
                <a:lnTo>
                  <a:pt x="568" y="1189"/>
                </a:lnTo>
                <a:lnTo>
                  <a:pt x="560" y="1191"/>
                </a:lnTo>
                <a:lnTo>
                  <a:pt x="553" y="1191"/>
                </a:lnTo>
                <a:lnTo>
                  <a:pt x="544" y="1191"/>
                </a:lnTo>
                <a:lnTo>
                  <a:pt x="535" y="1191"/>
                </a:lnTo>
                <a:lnTo>
                  <a:pt x="528" y="1191"/>
                </a:lnTo>
                <a:lnTo>
                  <a:pt x="519" y="1189"/>
                </a:lnTo>
                <a:lnTo>
                  <a:pt x="512" y="1189"/>
                </a:lnTo>
                <a:lnTo>
                  <a:pt x="504" y="1188"/>
                </a:lnTo>
                <a:lnTo>
                  <a:pt x="496" y="1186"/>
                </a:lnTo>
                <a:lnTo>
                  <a:pt x="488" y="1183"/>
                </a:lnTo>
                <a:lnTo>
                  <a:pt x="481" y="1182"/>
                </a:lnTo>
                <a:lnTo>
                  <a:pt x="472" y="1179"/>
                </a:lnTo>
                <a:lnTo>
                  <a:pt x="465" y="1176"/>
                </a:lnTo>
                <a:lnTo>
                  <a:pt x="458" y="1173"/>
                </a:lnTo>
                <a:lnTo>
                  <a:pt x="450" y="1170"/>
                </a:lnTo>
                <a:lnTo>
                  <a:pt x="443" y="1166"/>
                </a:lnTo>
                <a:lnTo>
                  <a:pt x="436" y="1163"/>
                </a:lnTo>
                <a:lnTo>
                  <a:pt x="429" y="1159"/>
                </a:lnTo>
                <a:lnTo>
                  <a:pt x="422" y="1155"/>
                </a:lnTo>
                <a:lnTo>
                  <a:pt x="414" y="1149"/>
                </a:lnTo>
                <a:lnTo>
                  <a:pt x="409" y="1145"/>
                </a:lnTo>
                <a:lnTo>
                  <a:pt x="401" y="1139"/>
                </a:lnTo>
                <a:lnTo>
                  <a:pt x="396" y="1134"/>
                </a:lnTo>
                <a:lnTo>
                  <a:pt x="390" y="1129"/>
                </a:lnTo>
                <a:lnTo>
                  <a:pt x="384" y="1123"/>
                </a:lnTo>
                <a:lnTo>
                  <a:pt x="378" y="1116"/>
                </a:lnTo>
                <a:lnTo>
                  <a:pt x="374" y="1110"/>
                </a:lnTo>
                <a:lnTo>
                  <a:pt x="368" y="1103"/>
                </a:lnTo>
                <a:lnTo>
                  <a:pt x="364" y="1097"/>
                </a:lnTo>
                <a:lnTo>
                  <a:pt x="360" y="1090"/>
                </a:lnTo>
                <a:lnTo>
                  <a:pt x="355" y="1083"/>
                </a:lnTo>
                <a:lnTo>
                  <a:pt x="354" y="1080"/>
                </a:lnTo>
                <a:lnTo>
                  <a:pt x="353" y="1075"/>
                </a:lnTo>
                <a:lnTo>
                  <a:pt x="351" y="1073"/>
                </a:lnTo>
                <a:lnTo>
                  <a:pt x="350" y="1070"/>
                </a:lnTo>
                <a:lnTo>
                  <a:pt x="347" y="1062"/>
                </a:lnTo>
                <a:lnTo>
                  <a:pt x="345" y="1060"/>
                </a:lnTo>
                <a:lnTo>
                  <a:pt x="342" y="1052"/>
                </a:lnTo>
                <a:lnTo>
                  <a:pt x="341" y="1050"/>
                </a:lnTo>
                <a:lnTo>
                  <a:pt x="341" y="1047"/>
                </a:lnTo>
                <a:lnTo>
                  <a:pt x="340" y="1042"/>
                </a:lnTo>
                <a:lnTo>
                  <a:pt x="338" y="1039"/>
                </a:lnTo>
                <a:lnTo>
                  <a:pt x="338" y="1037"/>
                </a:lnTo>
                <a:lnTo>
                  <a:pt x="337" y="1032"/>
                </a:lnTo>
                <a:lnTo>
                  <a:pt x="337" y="1029"/>
                </a:lnTo>
                <a:lnTo>
                  <a:pt x="328" y="1028"/>
                </a:lnTo>
                <a:lnTo>
                  <a:pt x="319" y="1025"/>
                </a:lnTo>
                <a:lnTo>
                  <a:pt x="311" y="1024"/>
                </a:lnTo>
                <a:lnTo>
                  <a:pt x="304" y="1021"/>
                </a:lnTo>
                <a:lnTo>
                  <a:pt x="295" y="1018"/>
                </a:lnTo>
                <a:lnTo>
                  <a:pt x="286" y="1015"/>
                </a:lnTo>
                <a:lnTo>
                  <a:pt x="279" y="1012"/>
                </a:lnTo>
                <a:lnTo>
                  <a:pt x="270" y="1009"/>
                </a:lnTo>
                <a:lnTo>
                  <a:pt x="263" y="1006"/>
                </a:lnTo>
                <a:lnTo>
                  <a:pt x="255" y="1002"/>
                </a:lnTo>
                <a:lnTo>
                  <a:pt x="247" y="998"/>
                </a:lnTo>
                <a:lnTo>
                  <a:pt x="240" y="995"/>
                </a:lnTo>
                <a:lnTo>
                  <a:pt x="233" y="990"/>
                </a:lnTo>
                <a:lnTo>
                  <a:pt x="226" y="986"/>
                </a:lnTo>
                <a:lnTo>
                  <a:pt x="219" y="982"/>
                </a:lnTo>
                <a:lnTo>
                  <a:pt x="211" y="976"/>
                </a:lnTo>
                <a:lnTo>
                  <a:pt x="201" y="969"/>
                </a:lnTo>
                <a:lnTo>
                  <a:pt x="191" y="960"/>
                </a:lnTo>
                <a:lnTo>
                  <a:pt x="183" y="952"/>
                </a:lnTo>
                <a:lnTo>
                  <a:pt x="174" y="944"/>
                </a:lnTo>
                <a:lnTo>
                  <a:pt x="167" y="934"/>
                </a:lnTo>
                <a:lnTo>
                  <a:pt x="160" y="926"/>
                </a:lnTo>
                <a:lnTo>
                  <a:pt x="152" y="917"/>
                </a:lnTo>
                <a:lnTo>
                  <a:pt x="147" y="907"/>
                </a:lnTo>
                <a:lnTo>
                  <a:pt x="141" y="898"/>
                </a:lnTo>
                <a:lnTo>
                  <a:pt x="137" y="888"/>
                </a:lnTo>
                <a:lnTo>
                  <a:pt x="132" y="878"/>
                </a:lnTo>
                <a:lnTo>
                  <a:pt x="129" y="868"/>
                </a:lnTo>
                <a:lnTo>
                  <a:pt x="127" y="859"/>
                </a:lnTo>
                <a:lnTo>
                  <a:pt x="124" y="849"/>
                </a:lnTo>
                <a:lnTo>
                  <a:pt x="122" y="839"/>
                </a:lnTo>
                <a:lnTo>
                  <a:pt x="122" y="829"/>
                </a:lnTo>
                <a:lnTo>
                  <a:pt x="122" y="819"/>
                </a:lnTo>
                <a:lnTo>
                  <a:pt x="122" y="809"/>
                </a:lnTo>
                <a:lnTo>
                  <a:pt x="124" y="799"/>
                </a:lnTo>
                <a:lnTo>
                  <a:pt x="125" y="789"/>
                </a:lnTo>
                <a:lnTo>
                  <a:pt x="127" y="779"/>
                </a:lnTo>
                <a:lnTo>
                  <a:pt x="129" y="769"/>
                </a:lnTo>
                <a:lnTo>
                  <a:pt x="134" y="760"/>
                </a:lnTo>
                <a:lnTo>
                  <a:pt x="138" y="750"/>
                </a:lnTo>
                <a:lnTo>
                  <a:pt x="142" y="740"/>
                </a:lnTo>
                <a:lnTo>
                  <a:pt x="148" y="731"/>
                </a:lnTo>
                <a:lnTo>
                  <a:pt x="154" y="723"/>
                </a:lnTo>
                <a:lnTo>
                  <a:pt x="161" y="714"/>
                </a:lnTo>
                <a:lnTo>
                  <a:pt x="168" y="705"/>
                </a:lnTo>
                <a:lnTo>
                  <a:pt x="175" y="697"/>
                </a:lnTo>
                <a:lnTo>
                  <a:pt x="184" y="688"/>
                </a:lnTo>
                <a:lnTo>
                  <a:pt x="194" y="681"/>
                </a:lnTo>
                <a:lnTo>
                  <a:pt x="203" y="674"/>
                </a:lnTo>
                <a:lnTo>
                  <a:pt x="207" y="671"/>
                </a:lnTo>
                <a:lnTo>
                  <a:pt x="213" y="667"/>
                </a:lnTo>
                <a:lnTo>
                  <a:pt x="217" y="664"/>
                </a:lnTo>
                <a:lnTo>
                  <a:pt x="223" y="661"/>
                </a:lnTo>
                <a:lnTo>
                  <a:pt x="227" y="658"/>
                </a:lnTo>
                <a:lnTo>
                  <a:pt x="233" y="655"/>
                </a:lnTo>
                <a:lnTo>
                  <a:pt x="237" y="652"/>
                </a:lnTo>
                <a:lnTo>
                  <a:pt x="243" y="651"/>
                </a:lnTo>
                <a:lnTo>
                  <a:pt x="249" y="648"/>
                </a:lnTo>
                <a:lnTo>
                  <a:pt x="253" y="645"/>
                </a:lnTo>
                <a:lnTo>
                  <a:pt x="259" y="643"/>
                </a:lnTo>
                <a:lnTo>
                  <a:pt x="265" y="641"/>
                </a:lnTo>
                <a:lnTo>
                  <a:pt x="270" y="639"/>
                </a:lnTo>
                <a:lnTo>
                  <a:pt x="276" y="636"/>
                </a:lnTo>
                <a:lnTo>
                  <a:pt x="272" y="635"/>
                </a:lnTo>
                <a:lnTo>
                  <a:pt x="268" y="632"/>
                </a:lnTo>
                <a:lnTo>
                  <a:pt x="265" y="629"/>
                </a:lnTo>
                <a:lnTo>
                  <a:pt x="260" y="626"/>
                </a:lnTo>
                <a:lnTo>
                  <a:pt x="256" y="623"/>
                </a:lnTo>
                <a:lnTo>
                  <a:pt x="253" y="622"/>
                </a:lnTo>
                <a:lnTo>
                  <a:pt x="249" y="619"/>
                </a:lnTo>
                <a:lnTo>
                  <a:pt x="246" y="616"/>
                </a:lnTo>
                <a:lnTo>
                  <a:pt x="243" y="613"/>
                </a:lnTo>
                <a:lnTo>
                  <a:pt x="239" y="610"/>
                </a:lnTo>
                <a:lnTo>
                  <a:pt x="233" y="605"/>
                </a:lnTo>
                <a:lnTo>
                  <a:pt x="230" y="600"/>
                </a:lnTo>
                <a:lnTo>
                  <a:pt x="227" y="597"/>
                </a:lnTo>
                <a:lnTo>
                  <a:pt x="222" y="592"/>
                </a:lnTo>
                <a:lnTo>
                  <a:pt x="216" y="584"/>
                </a:lnTo>
                <a:lnTo>
                  <a:pt x="214" y="582"/>
                </a:lnTo>
                <a:lnTo>
                  <a:pt x="210" y="574"/>
                </a:lnTo>
                <a:lnTo>
                  <a:pt x="207" y="572"/>
                </a:lnTo>
                <a:lnTo>
                  <a:pt x="206" y="567"/>
                </a:lnTo>
                <a:lnTo>
                  <a:pt x="203" y="564"/>
                </a:lnTo>
                <a:lnTo>
                  <a:pt x="201" y="560"/>
                </a:lnTo>
                <a:lnTo>
                  <a:pt x="200" y="556"/>
                </a:lnTo>
                <a:lnTo>
                  <a:pt x="199" y="553"/>
                </a:lnTo>
                <a:lnTo>
                  <a:pt x="196" y="546"/>
                </a:lnTo>
                <a:lnTo>
                  <a:pt x="194" y="541"/>
                </a:lnTo>
                <a:lnTo>
                  <a:pt x="193" y="533"/>
                </a:lnTo>
                <a:lnTo>
                  <a:pt x="190" y="523"/>
                </a:lnTo>
                <a:lnTo>
                  <a:pt x="188" y="511"/>
                </a:lnTo>
                <a:lnTo>
                  <a:pt x="188" y="501"/>
                </a:lnTo>
                <a:lnTo>
                  <a:pt x="188" y="489"/>
                </a:lnTo>
                <a:lnTo>
                  <a:pt x="190" y="479"/>
                </a:lnTo>
                <a:lnTo>
                  <a:pt x="193" y="468"/>
                </a:lnTo>
                <a:lnTo>
                  <a:pt x="196" y="456"/>
                </a:lnTo>
                <a:lnTo>
                  <a:pt x="199" y="446"/>
                </a:lnTo>
                <a:lnTo>
                  <a:pt x="203" y="435"/>
                </a:lnTo>
                <a:lnTo>
                  <a:pt x="209" y="425"/>
                </a:lnTo>
                <a:lnTo>
                  <a:pt x="214" y="415"/>
                </a:lnTo>
                <a:lnTo>
                  <a:pt x="222" y="404"/>
                </a:lnTo>
                <a:lnTo>
                  <a:pt x="229" y="393"/>
                </a:lnTo>
                <a:lnTo>
                  <a:pt x="236" y="383"/>
                </a:lnTo>
                <a:lnTo>
                  <a:pt x="246" y="374"/>
                </a:lnTo>
                <a:lnTo>
                  <a:pt x="255" y="364"/>
                </a:lnTo>
                <a:lnTo>
                  <a:pt x="265" y="354"/>
                </a:lnTo>
                <a:lnTo>
                  <a:pt x="275" y="345"/>
                </a:lnTo>
                <a:lnTo>
                  <a:pt x="286" y="337"/>
                </a:lnTo>
                <a:lnTo>
                  <a:pt x="298" y="328"/>
                </a:lnTo>
                <a:lnTo>
                  <a:pt x="309" y="320"/>
                </a:lnTo>
                <a:lnTo>
                  <a:pt x="322" y="311"/>
                </a:lnTo>
                <a:lnTo>
                  <a:pt x="335" y="304"/>
                </a:lnTo>
                <a:lnTo>
                  <a:pt x="350" y="297"/>
                </a:lnTo>
                <a:lnTo>
                  <a:pt x="364" y="289"/>
                </a:lnTo>
                <a:lnTo>
                  <a:pt x="378" y="282"/>
                </a:lnTo>
                <a:lnTo>
                  <a:pt x="393" y="276"/>
                </a:lnTo>
                <a:lnTo>
                  <a:pt x="409" y="269"/>
                </a:lnTo>
                <a:lnTo>
                  <a:pt x="424" y="265"/>
                </a:lnTo>
                <a:lnTo>
                  <a:pt x="442" y="259"/>
                </a:lnTo>
                <a:lnTo>
                  <a:pt x="458" y="255"/>
                </a:lnTo>
                <a:lnTo>
                  <a:pt x="475" y="250"/>
                </a:lnTo>
                <a:lnTo>
                  <a:pt x="482" y="249"/>
                </a:lnTo>
                <a:lnTo>
                  <a:pt x="491" y="248"/>
                </a:lnTo>
                <a:lnTo>
                  <a:pt x="498" y="246"/>
                </a:lnTo>
                <a:lnTo>
                  <a:pt x="505" y="245"/>
                </a:lnTo>
                <a:lnTo>
                  <a:pt x="514" y="243"/>
                </a:lnTo>
                <a:lnTo>
                  <a:pt x="521" y="243"/>
                </a:lnTo>
                <a:lnTo>
                  <a:pt x="528" y="242"/>
                </a:lnTo>
                <a:lnTo>
                  <a:pt x="535" y="240"/>
                </a:lnTo>
                <a:lnTo>
                  <a:pt x="551" y="239"/>
                </a:lnTo>
                <a:lnTo>
                  <a:pt x="558" y="239"/>
                </a:lnTo>
                <a:lnTo>
                  <a:pt x="566" y="239"/>
                </a:lnTo>
                <a:lnTo>
                  <a:pt x="573" y="239"/>
                </a:lnTo>
                <a:lnTo>
                  <a:pt x="581" y="239"/>
                </a:lnTo>
                <a:lnTo>
                  <a:pt x="596" y="239"/>
                </a:lnTo>
                <a:lnTo>
                  <a:pt x="603" y="239"/>
                </a:lnTo>
                <a:lnTo>
                  <a:pt x="610" y="239"/>
                </a:lnTo>
                <a:lnTo>
                  <a:pt x="617" y="239"/>
                </a:lnTo>
                <a:lnTo>
                  <a:pt x="625" y="240"/>
                </a:lnTo>
                <a:lnTo>
                  <a:pt x="630" y="240"/>
                </a:lnTo>
                <a:lnTo>
                  <a:pt x="637" y="240"/>
                </a:lnTo>
                <a:lnTo>
                  <a:pt x="652" y="243"/>
                </a:lnTo>
                <a:lnTo>
                  <a:pt x="658" y="243"/>
                </a:lnTo>
                <a:lnTo>
                  <a:pt x="665" y="245"/>
                </a:lnTo>
                <a:lnTo>
                  <a:pt x="672" y="246"/>
                </a:lnTo>
                <a:lnTo>
                  <a:pt x="678" y="248"/>
                </a:lnTo>
                <a:lnTo>
                  <a:pt x="685" y="249"/>
                </a:lnTo>
                <a:lnTo>
                  <a:pt x="691" y="250"/>
                </a:lnTo>
                <a:lnTo>
                  <a:pt x="696" y="252"/>
                </a:lnTo>
                <a:lnTo>
                  <a:pt x="704" y="253"/>
                </a:lnTo>
                <a:lnTo>
                  <a:pt x="709" y="246"/>
                </a:lnTo>
                <a:lnTo>
                  <a:pt x="717" y="237"/>
                </a:lnTo>
                <a:lnTo>
                  <a:pt x="722" y="230"/>
                </a:lnTo>
                <a:lnTo>
                  <a:pt x="730" y="223"/>
                </a:lnTo>
                <a:lnTo>
                  <a:pt x="738" y="214"/>
                </a:lnTo>
                <a:lnTo>
                  <a:pt x="745" y="207"/>
                </a:lnTo>
                <a:lnTo>
                  <a:pt x="753" y="200"/>
                </a:lnTo>
                <a:lnTo>
                  <a:pt x="761" y="193"/>
                </a:lnTo>
                <a:lnTo>
                  <a:pt x="770" y="187"/>
                </a:lnTo>
                <a:lnTo>
                  <a:pt x="778" y="180"/>
                </a:lnTo>
                <a:lnTo>
                  <a:pt x="787" y="173"/>
                </a:lnTo>
                <a:lnTo>
                  <a:pt x="797" y="167"/>
                </a:lnTo>
                <a:lnTo>
                  <a:pt x="806" y="160"/>
                </a:lnTo>
                <a:lnTo>
                  <a:pt x="816" y="154"/>
                </a:lnTo>
                <a:lnTo>
                  <a:pt x="826" y="148"/>
                </a:lnTo>
                <a:lnTo>
                  <a:pt x="836" y="142"/>
                </a:lnTo>
                <a:lnTo>
                  <a:pt x="846" y="137"/>
                </a:lnTo>
                <a:lnTo>
                  <a:pt x="856" y="131"/>
                </a:lnTo>
                <a:lnTo>
                  <a:pt x="868" y="127"/>
                </a:lnTo>
                <a:lnTo>
                  <a:pt x="879" y="121"/>
                </a:lnTo>
                <a:lnTo>
                  <a:pt x="889" y="117"/>
                </a:lnTo>
                <a:lnTo>
                  <a:pt x="901" y="112"/>
                </a:lnTo>
                <a:lnTo>
                  <a:pt x="912" y="108"/>
                </a:lnTo>
                <a:lnTo>
                  <a:pt x="924" y="104"/>
                </a:lnTo>
                <a:lnTo>
                  <a:pt x="937" y="99"/>
                </a:lnTo>
                <a:lnTo>
                  <a:pt x="948" y="95"/>
                </a:lnTo>
                <a:lnTo>
                  <a:pt x="961" y="92"/>
                </a:lnTo>
                <a:lnTo>
                  <a:pt x="973" y="88"/>
                </a:lnTo>
                <a:lnTo>
                  <a:pt x="986" y="85"/>
                </a:lnTo>
                <a:lnTo>
                  <a:pt x="999" y="82"/>
                </a:lnTo>
                <a:lnTo>
                  <a:pt x="1012" y="79"/>
                </a:lnTo>
                <a:lnTo>
                  <a:pt x="1025" y="78"/>
                </a:lnTo>
                <a:lnTo>
                  <a:pt x="1049" y="73"/>
                </a:lnTo>
                <a:lnTo>
                  <a:pt x="1074" y="70"/>
                </a:lnTo>
                <a:lnTo>
                  <a:pt x="1097" y="69"/>
                </a:lnTo>
                <a:lnTo>
                  <a:pt x="1120" y="68"/>
                </a:lnTo>
                <a:lnTo>
                  <a:pt x="1144" y="68"/>
                </a:lnTo>
                <a:lnTo>
                  <a:pt x="1167" y="69"/>
                </a:lnTo>
                <a:lnTo>
                  <a:pt x="1190" y="70"/>
                </a:lnTo>
                <a:lnTo>
                  <a:pt x="1212" y="72"/>
                </a:lnTo>
                <a:lnTo>
                  <a:pt x="1235" y="75"/>
                </a:lnTo>
                <a:lnTo>
                  <a:pt x="1256" y="79"/>
                </a:lnTo>
                <a:lnTo>
                  <a:pt x="1278" y="83"/>
                </a:lnTo>
                <a:lnTo>
                  <a:pt x="1298" y="89"/>
                </a:lnTo>
                <a:lnTo>
                  <a:pt x="1320" y="95"/>
                </a:lnTo>
                <a:lnTo>
                  <a:pt x="1340" y="102"/>
                </a:lnTo>
                <a:lnTo>
                  <a:pt x="1358" y="109"/>
                </a:lnTo>
                <a:lnTo>
                  <a:pt x="1379" y="118"/>
                </a:lnTo>
                <a:lnTo>
                  <a:pt x="1396" y="127"/>
                </a:lnTo>
                <a:lnTo>
                  <a:pt x="1415" y="135"/>
                </a:lnTo>
                <a:lnTo>
                  <a:pt x="1432" y="145"/>
                </a:lnTo>
                <a:lnTo>
                  <a:pt x="1448" y="155"/>
                </a:lnTo>
                <a:lnTo>
                  <a:pt x="1464" y="167"/>
                </a:lnTo>
                <a:lnTo>
                  <a:pt x="1478" y="178"/>
                </a:lnTo>
                <a:lnTo>
                  <a:pt x="1492" y="191"/>
                </a:lnTo>
                <a:lnTo>
                  <a:pt x="1505" y="204"/>
                </a:lnTo>
                <a:lnTo>
                  <a:pt x="1518" y="217"/>
                </a:lnTo>
                <a:lnTo>
                  <a:pt x="1530" y="232"/>
                </a:lnTo>
                <a:lnTo>
                  <a:pt x="1540" y="246"/>
                </a:lnTo>
                <a:lnTo>
                  <a:pt x="1550" y="261"/>
                </a:lnTo>
                <a:lnTo>
                  <a:pt x="1557" y="276"/>
                </a:lnTo>
                <a:lnTo>
                  <a:pt x="1566" y="292"/>
                </a:lnTo>
                <a:lnTo>
                  <a:pt x="1571" y="308"/>
                </a:lnTo>
                <a:lnTo>
                  <a:pt x="1576" y="325"/>
                </a:lnTo>
                <a:close/>
                <a:moveTo>
                  <a:pt x="1769" y="655"/>
                </a:moveTo>
                <a:lnTo>
                  <a:pt x="1769" y="655"/>
                </a:lnTo>
                <a:lnTo>
                  <a:pt x="1769" y="655"/>
                </a:lnTo>
                <a:close/>
                <a:moveTo>
                  <a:pt x="1767" y="652"/>
                </a:moveTo>
                <a:lnTo>
                  <a:pt x="1767" y="654"/>
                </a:lnTo>
                <a:lnTo>
                  <a:pt x="1767" y="652"/>
                </a:lnTo>
                <a:close/>
                <a:moveTo>
                  <a:pt x="1766" y="651"/>
                </a:moveTo>
                <a:lnTo>
                  <a:pt x="1767" y="651"/>
                </a:lnTo>
                <a:lnTo>
                  <a:pt x="1766" y="651"/>
                </a:lnTo>
                <a:close/>
                <a:moveTo>
                  <a:pt x="1579" y="331"/>
                </a:moveTo>
                <a:lnTo>
                  <a:pt x="1579" y="333"/>
                </a:lnTo>
                <a:lnTo>
                  <a:pt x="1579" y="331"/>
                </a:lnTo>
                <a:close/>
                <a:moveTo>
                  <a:pt x="1577" y="327"/>
                </a:moveTo>
                <a:lnTo>
                  <a:pt x="1577" y="328"/>
                </a:lnTo>
                <a:lnTo>
                  <a:pt x="1577" y="327"/>
                </a:lnTo>
                <a:close/>
                <a:moveTo>
                  <a:pt x="1577" y="325"/>
                </a:moveTo>
                <a:lnTo>
                  <a:pt x="1577" y="327"/>
                </a:lnTo>
                <a:lnTo>
                  <a:pt x="1577" y="325"/>
                </a:lnTo>
                <a:close/>
                <a:moveTo>
                  <a:pt x="1820" y="649"/>
                </a:moveTo>
                <a:lnTo>
                  <a:pt x="1820" y="648"/>
                </a:lnTo>
                <a:lnTo>
                  <a:pt x="1820" y="649"/>
                </a:lnTo>
                <a:close/>
                <a:moveTo>
                  <a:pt x="1820" y="648"/>
                </a:moveTo>
                <a:lnTo>
                  <a:pt x="1819" y="646"/>
                </a:lnTo>
                <a:lnTo>
                  <a:pt x="1820" y="648"/>
                </a:lnTo>
                <a:close/>
                <a:moveTo>
                  <a:pt x="1819" y="645"/>
                </a:moveTo>
                <a:lnTo>
                  <a:pt x="1819" y="645"/>
                </a:lnTo>
                <a:lnTo>
                  <a:pt x="1819" y="645"/>
                </a:lnTo>
                <a:close/>
                <a:moveTo>
                  <a:pt x="1819" y="645"/>
                </a:moveTo>
                <a:lnTo>
                  <a:pt x="1818" y="643"/>
                </a:lnTo>
                <a:lnTo>
                  <a:pt x="1819" y="645"/>
                </a:lnTo>
                <a:close/>
                <a:moveTo>
                  <a:pt x="1610" y="292"/>
                </a:moveTo>
                <a:lnTo>
                  <a:pt x="1610" y="292"/>
                </a:lnTo>
                <a:lnTo>
                  <a:pt x="1610" y="292"/>
                </a:lnTo>
                <a:close/>
                <a:moveTo>
                  <a:pt x="1820" y="648"/>
                </a:moveTo>
                <a:lnTo>
                  <a:pt x="1820" y="648"/>
                </a:lnTo>
                <a:lnTo>
                  <a:pt x="1819" y="645"/>
                </a:lnTo>
                <a:lnTo>
                  <a:pt x="1820" y="641"/>
                </a:lnTo>
                <a:lnTo>
                  <a:pt x="1823" y="636"/>
                </a:lnTo>
                <a:lnTo>
                  <a:pt x="1825" y="632"/>
                </a:lnTo>
                <a:lnTo>
                  <a:pt x="1828" y="628"/>
                </a:lnTo>
                <a:lnTo>
                  <a:pt x="1829" y="622"/>
                </a:lnTo>
                <a:lnTo>
                  <a:pt x="1832" y="618"/>
                </a:lnTo>
                <a:lnTo>
                  <a:pt x="1833" y="613"/>
                </a:lnTo>
                <a:lnTo>
                  <a:pt x="1835" y="609"/>
                </a:lnTo>
                <a:lnTo>
                  <a:pt x="1838" y="597"/>
                </a:lnTo>
                <a:lnTo>
                  <a:pt x="1841" y="587"/>
                </a:lnTo>
                <a:lnTo>
                  <a:pt x="1842" y="576"/>
                </a:lnTo>
                <a:lnTo>
                  <a:pt x="1843" y="564"/>
                </a:lnTo>
                <a:lnTo>
                  <a:pt x="1843" y="553"/>
                </a:lnTo>
                <a:lnTo>
                  <a:pt x="1842" y="541"/>
                </a:lnTo>
                <a:lnTo>
                  <a:pt x="1841" y="531"/>
                </a:lnTo>
                <a:lnTo>
                  <a:pt x="1839" y="520"/>
                </a:lnTo>
                <a:lnTo>
                  <a:pt x="1836" y="508"/>
                </a:lnTo>
                <a:lnTo>
                  <a:pt x="1832" y="497"/>
                </a:lnTo>
                <a:lnTo>
                  <a:pt x="1829" y="485"/>
                </a:lnTo>
                <a:lnTo>
                  <a:pt x="1823" y="474"/>
                </a:lnTo>
                <a:lnTo>
                  <a:pt x="1818" y="464"/>
                </a:lnTo>
                <a:lnTo>
                  <a:pt x="1812" y="452"/>
                </a:lnTo>
                <a:lnTo>
                  <a:pt x="1805" y="440"/>
                </a:lnTo>
                <a:lnTo>
                  <a:pt x="1797" y="430"/>
                </a:lnTo>
                <a:lnTo>
                  <a:pt x="1790" y="420"/>
                </a:lnTo>
                <a:lnTo>
                  <a:pt x="1782" y="409"/>
                </a:lnTo>
                <a:lnTo>
                  <a:pt x="1773" y="399"/>
                </a:lnTo>
                <a:lnTo>
                  <a:pt x="1763" y="389"/>
                </a:lnTo>
                <a:lnTo>
                  <a:pt x="1753" y="380"/>
                </a:lnTo>
                <a:lnTo>
                  <a:pt x="1743" y="370"/>
                </a:lnTo>
                <a:lnTo>
                  <a:pt x="1731" y="361"/>
                </a:lnTo>
                <a:lnTo>
                  <a:pt x="1720" y="351"/>
                </a:lnTo>
                <a:lnTo>
                  <a:pt x="1707" y="343"/>
                </a:lnTo>
                <a:lnTo>
                  <a:pt x="1695" y="335"/>
                </a:lnTo>
                <a:lnTo>
                  <a:pt x="1682" y="327"/>
                </a:lnTo>
                <a:lnTo>
                  <a:pt x="1668" y="320"/>
                </a:lnTo>
                <a:lnTo>
                  <a:pt x="1655" y="312"/>
                </a:lnTo>
                <a:lnTo>
                  <a:pt x="1641" y="305"/>
                </a:lnTo>
                <a:lnTo>
                  <a:pt x="1626" y="299"/>
                </a:lnTo>
                <a:lnTo>
                  <a:pt x="1610" y="292"/>
                </a:lnTo>
                <a:lnTo>
                  <a:pt x="1610" y="291"/>
                </a:lnTo>
                <a:lnTo>
                  <a:pt x="1609" y="288"/>
                </a:lnTo>
                <a:lnTo>
                  <a:pt x="1609" y="286"/>
                </a:lnTo>
                <a:lnTo>
                  <a:pt x="1609" y="284"/>
                </a:lnTo>
                <a:lnTo>
                  <a:pt x="1603" y="266"/>
                </a:lnTo>
                <a:lnTo>
                  <a:pt x="1596" y="248"/>
                </a:lnTo>
                <a:lnTo>
                  <a:pt x="1587" y="230"/>
                </a:lnTo>
                <a:lnTo>
                  <a:pt x="1579" y="213"/>
                </a:lnTo>
                <a:lnTo>
                  <a:pt x="1567" y="197"/>
                </a:lnTo>
                <a:lnTo>
                  <a:pt x="1556" y="181"/>
                </a:lnTo>
                <a:lnTo>
                  <a:pt x="1544" y="165"/>
                </a:lnTo>
                <a:lnTo>
                  <a:pt x="1530" y="151"/>
                </a:lnTo>
                <a:lnTo>
                  <a:pt x="1515" y="137"/>
                </a:lnTo>
                <a:lnTo>
                  <a:pt x="1500" y="124"/>
                </a:lnTo>
                <a:lnTo>
                  <a:pt x="1484" y="111"/>
                </a:lnTo>
                <a:lnTo>
                  <a:pt x="1466" y="98"/>
                </a:lnTo>
                <a:lnTo>
                  <a:pt x="1448" y="86"/>
                </a:lnTo>
                <a:lnTo>
                  <a:pt x="1429" y="75"/>
                </a:lnTo>
                <a:lnTo>
                  <a:pt x="1409" y="65"/>
                </a:lnTo>
                <a:lnTo>
                  <a:pt x="1389" y="55"/>
                </a:lnTo>
                <a:lnTo>
                  <a:pt x="1369" y="46"/>
                </a:lnTo>
                <a:lnTo>
                  <a:pt x="1347" y="37"/>
                </a:lnTo>
                <a:lnTo>
                  <a:pt x="1324" y="30"/>
                </a:lnTo>
                <a:lnTo>
                  <a:pt x="1301" y="24"/>
                </a:lnTo>
                <a:lnTo>
                  <a:pt x="1278" y="19"/>
                </a:lnTo>
                <a:lnTo>
                  <a:pt x="1255" y="13"/>
                </a:lnTo>
                <a:lnTo>
                  <a:pt x="1230" y="9"/>
                </a:lnTo>
                <a:lnTo>
                  <a:pt x="1206" y="6"/>
                </a:lnTo>
                <a:lnTo>
                  <a:pt x="1180" y="3"/>
                </a:lnTo>
                <a:lnTo>
                  <a:pt x="1156" y="1"/>
                </a:lnTo>
                <a:lnTo>
                  <a:pt x="1130" y="0"/>
                </a:lnTo>
                <a:lnTo>
                  <a:pt x="1104" y="0"/>
                </a:lnTo>
                <a:lnTo>
                  <a:pt x="1078" y="1"/>
                </a:lnTo>
                <a:lnTo>
                  <a:pt x="1052" y="4"/>
                </a:lnTo>
                <a:lnTo>
                  <a:pt x="1026" y="7"/>
                </a:lnTo>
                <a:lnTo>
                  <a:pt x="999" y="11"/>
                </a:lnTo>
                <a:lnTo>
                  <a:pt x="984" y="13"/>
                </a:lnTo>
                <a:lnTo>
                  <a:pt x="970" y="16"/>
                </a:lnTo>
                <a:lnTo>
                  <a:pt x="956" y="20"/>
                </a:lnTo>
                <a:lnTo>
                  <a:pt x="941" y="23"/>
                </a:lnTo>
                <a:lnTo>
                  <a:pt x="928" y="27"/>
                </a:lnTo>
                <a:lnTo>
                  <a:pt x="914" y="30"/>
                </a:lnTo>
                <a:lnTo>
                  <a:pt x="901" y="34"/>
                </a:lnTo>
                <a:lnTo>
                  <a:pt x="888" y="39"/>
                </a:lnTo>
                <a:lnTo>
                  <a:pt x="875" y="45"/>
                </a:lnTo>
                <a:lnTo>
                  <a:pt x="862" y="49"/>
                </a:lnTo>
                <a:lnTo>
                  <a:pt x="849" y="53"/>
                </a:lnTo>
                <a:lnTo>
                  <a:pt x="838" y="59"/>
                </a:lnTo>
                <a:lnTo>
                  <a:pt x="825" y="65"/>
                </a:lnTo>
                <a:lnTo>
                  <a:pt x="813" y="70"/>
                </a:lnTo>
                <a:lnTo>
                  <a:pt x="802" y="76"/>
                </a:lnTo>
                <a:lnTo>
                  <a:pt x="790" y="83"/>
                </a:lnTo>
                <a:lnTo>
                  <a:pt x="778" y="89"/>
                </a:lnTo>
                <a:lnTo>
                  <a:pt x="767" y="96"/>
                </a:lnTo>
                <a:lnTo>
                  <a:pt x="757" y="102"/>
                </a:lnTo>
                <a:lnTo>
                  <a:pt x="747" y="109"/>
                </a:lnTo>
                <a:lnTo>
                  <a:pt x="737" y="117"/>
                </a:lnTo>
                <a:lnTo>
                  <a:pt x="727" y="124"/>
                </a:lnTo>
                <a:lnTo>
                  <a:pt x="717" y="131"/>
                </a:lnTo>
                <a:lnTo>
                  <a:pt x="708" y="140"/>
                </a:lnTo>
                <a:lnTo>
                  <a:pt x="698" y="147"/>
                </a:lnTo>
                <a:lnTo>
                  <a:pt x="689" y="155"/>
                </a:lnTo>
                <a:lnTo>
                  <a:pt x="681" y="163"/>
                </a:lnTo>
                <a:lnTo>
                  <a:pt x="673" y="171"/>
                </a:lnTo>
                <a:lnTo>
                  <a:pt x="665" y="180"/>
                </a:lnTo>
                <a:lnTo>
                  <a:pt x="658" y="189"/>
                </a:lnTo>
                <a:lnTo>
                  <a:pt x="650" y="197"/>
                </a:lnTo>
                <a:lnTo>
                  <a:pt x="643" y="206"/>
                </a:lnTo>
                <a:lnTo>
                  <a:pt x="636" y="204"/>
                </a:lnTo>
                <a:lnTo>
                  <a:pt x="629" y="201"/>
                </a:lnTo>
                <a:lnTo>
                  <a:pt x="622" y="200"/>
                </a:lnTo>
                <a:lnTo>
                  <a:pt x="616" y="199"/>
                </a:lnTo>
                <a:lnTo>
                  <a:pt x="609" y="197"/>
                </a:lnTo>
                <a:lnTo>
                  <a:pt x="601" y="196"/>
                </a:lnTo>
                <a:lnTo>
                  <a:pt x="593" y="194"/>
                </a:lnTo>
                <a:lnTo>
                  <a:pt x="578" y="193"/>
                </a:lnTo>
                <a:lnTo>
                  <a:pt x="571" y="191"/>
                </a:lnTo>
                <a:lnTo>
                  <a:pt x="563" y="191"/>
                </a:lnTo>
                <a:lnTo>
                  <a:pt x="555" y="190"/>
                </a:lnTo>
                <a:lnTo>
                  <a:pt x="548" y="190"/>
                </a:lnTo>
                <a:lnTo>
                  <a:pt x="540" y="190"/>
                </a:lnTo>
                <a:lnTo>
                  <a:pt x="532" y="189"/>
                </a:lnTo>
                <a:lnTo>
                  <a:pt x="524" y="189"/>
                </a:lnTo>
                <a:lnTo>
                  <a:pt x="508" y="189"/>
                </a:lnTo>
                <a:lnTo>
                  <a:pt x="492" y="190"/>
                </a:lnTo>
                <a:lnTo>
                  <a:pt x="483" y="190"/>
                </a:lnTo>
                <a:lnTo>
                  <a:pt x="475" y="190"/>
                </a:lnTo>
                <a:lnTo>
                  <a:pt x="466" y="191"/>
                </a:lnTo>
                <a:lnTo>
                  <a:pt x="459" y="191"/>
                </a:lnTo>
                <a:lnTo>
                  <a:pt x="450" y="193"/>
                </a:lnTo>
                <a:lnTo>
                  <a:pt x="442" y="194"/>
                </a:lnTo>
                <a:lnTo>
                  <a:pt x="433" y="194"/>
                </a:lnTo>
                <a:lnTo>
                  <a:pt x="424" y="196"/>
                </a:lnTo>
                <a:lnTo>
                  <a:pt x="407" y="199"/>
                </a:lnTo>
                <a:lnTo>
                  <a:pt x="399" y="200"/>
                </a:lnTo>
                <a:lnTo>
                  <a:pt x="390" y="203"/>
                </a:lnTo>
                <a:lnTo>
                  <a:pt x="371" y="207"/>
                </a:lnTo>
                <a:lnTo>
                  <a:pt x="354" y="212"/>
                </a:lnTo>
                <a:lnTo>
                  <a:pt x="335" y="217"/>
                </a:lnTo>
                <a:lnTo>
                  <a:pt x="318" y="223"/>
                </a:lnTo>
                <a:lnTo>
                  <a:pt x="301" y="230"/>
                </a:lnTo>
                <a:lnTo>
                  <a:pt x="283" y="237"/>
                </a:lnTo>
                <a:lnTo>
                  <a:pt x="268" y="245"/>
                </a:lnTo>
                <a:lnTo>
                  <a:pt x="252" y="252"/>
                </a:lnTo>
                <a:lnTo>
                  <a:pt x="237" y="261"/>
                </a:lnTo>
                <a:lnTo>
                  <a:pt x="223" y="269"/>
                </a:lnTo>
                <a:lnTo>
                  <a:pt x="209" y="278"/>
                </a:lnTo>
                <a:lnTo>
                  <a:pt x="194" y="288"/>
                </a:lnTo>
                <a:lnTo>
                  <a:pt x="183" y="297"/>
                </a:lnTo>
                <a:lnTo>
                  <a:pt x="170" y="307"/>
                </a:lnTo>
                <a:lnTo>
                  <a:pt x="158" y="317"/>
                </a:lnTo>
                <a:lnTo>
                  <a:pt x="147" y="328"/>
                </a:lnTo>
                <a:lnTo>
                  <a:pt x="137" y="338"/>
                </a:lnTo>
                <a:lnTo>
                  <a:pt x="128" y="350"/>
                </a:lnTo>
                <a:lnTo>
                  <a:pt x="118" y="360"/>
                </a:lnTo>
                <a:lnTo>
                  <a:pt x="111" y="371"/>
                </a:lnTo>
                <a:lnTo>
                  <a:pt x="104" y="383"/>
                </a:lnTo>
                <a:lnTo>
                  <a:pt x="96" y="394"/>
                </a:lnTo>
                <a:lnTo>
                  <a:pt x="91" y="407"/>
                </a:lnTo>
                <a:lnTo>
                  <a:pt x="86" y="419"/>
                </a:lnTo>
                <a:lnTo>
                  <a:pt x="82" y="430"/>
                </a:lnTo>
                <a:lnTo>
                  <a:pt x="79" y="442"/>
                </a:lnTo>
                <a:lnTo>
                  <a:pt x="76" y="455"/>
                </a:lnTo>
                <a:lnTo>
                  <a:pt x="75" y="466"/>
                </a:lnTo>
                <a:lnTo>
                  <a:pt x="75" y="478"/>
                </a:lnTo>
                <a:lnTo>
                  <a:pt x="75" y="491"/>
                </a:lnTo>
                <a:lnTo>
                  <a:pt x="76" y="502"/>
                </a:lnTo>
                <a:lnTo>
                  <a:pt x="78" y="514"/>
                </a:lnTo>
                <a:lnTo>
                  <a:pt x="79" y="520"/>
                </a:lnTo>
                <a:lnTo>
                  <a:pt x="80" y="524"/>
                </a:lnTo>
                <a:lnTo>
                  <a:pt x="82" y="528"/>
                </a:lnTo>
                <a:lnTo>
                  <a:pt x="83" y="533"/>
                </a:lnTo>
                <a:lnTo>
                  <a:pt x="85" y="536"/>
                </a:lnTo>
                <a:lnTo>
                  <a:pt x="86" y="540"/>
                </a:lnTo>
                <a:lnTo>
                  <a:pt x="89" y="544"/>
                </a:lnTo>
                <a:lnTo>
                  <a:pt x="91" y="548"/>
                </a:lnTo>
                <a:lnTo>
                  <a:pt x="92" y="553"/>
                </a:lnTo>
                <a:lnTo>
                  <a:pt x="95" y="557"/>
                </a:lnTo>
                <a:lnTo>
                  <a:pt x="98" y="560"/>
                </a:lnTo>
                <a:lnTo>
                  <a:pt x="99" y="564"/>
                </a:lnTo>
                <a:lnTo>
                  <a:pt x="102" y="569"/>
                </a:lnTo>
                <a:lnTo>
                  <a:pt x="105" y="572"/>
                </a:lnTo>
                <a:lnTo>
                  <a:pt x="108" y="576"/>
                </a:lnTo>
                <a:lnTo>
                  <a:pt x="111" y="579"/>
                </a:lnTo>
                <a:lnTo>
                  <a:pt x="114" y="583"/>
                </a:lnTo>
                <a:lnTo>
                  <a:pt x="116" y="586"/>
                </a:lnTo>
                <a:lnTo>
                  <a:pt x="119" y="590"/>
                </a:lnTo>
                <a:lnTo>
                  <a:pt x="127" y="596"/>
                </a:lnTo>
                <a:lnTo>
                  <a:pt x="131" y="600"/>
                </a:lnTo>
                <a:lnTo>
                  <a:pt x="134" y="603"/>
                </a:lnTo>
                <a:lnTo>
                  <a:pt x="138" y="606"/>
                </a:lnTo>
                <a:lnTo>
                  <a:pt x="141" y="609"/>
                </a:lnTo>
                <a:lnTo>
                  <a:pt x="145" y="612"/>
                </a:lnTo>
                <a:lnTo>
                  <a:pt x="154" y="618"/>
                </a:lnTo>
                <a:lnTo>
                  <a:pt x="158" y="620"/>
                </a:lnTo>
                <a:lnTo>
                  <a:pt x="163" y="623"/>
                </a:lnTo>
                <a:lnTo>
                  <a:pt x="167" y="626"/>
                </a:lnTo>
                <a:lnTo>
                  <a:pt x="171" y="629"/>
                </a:lnTo>
                <a:lnTo>
                  <a:pt x="164" y="632"/>
                </a:lnTo>
                <a:lnTo>
                  <a:pt x="158" y="633"/>
                </a:lnTo>
                <a:lnTo>
                  <a:pt x="152" y="636"/>
                </a:lnTo>
                <a:lnTo>
                  <a:pt x="147" y="639"/>
                </a:lnTo>
                <a:lnTo>
                  <a:pt x="141" y="641"/>
                </a:lnTo>
                <a:lnTo>
                  <a:pt x="134" y="643"/>
                </a:lnTo>
                <a:lnTo>
                  <a:pt x="128" y="646"/>
                </a:lnTo>
                <a:lnTo>
                  <a:pt x="122" y="649"/>
                </a:lnTo>
                <a:lnTo>
                  <a:pt x="118" y="652"/>
                </a:lnTo>
                <a:lnTo>
                  <a:pt x="112" y="656"/>
                </a:lnTo>
                <a:lnTo>
                  <a:pt x="106" y="659"/>
                </a:lnTo>
                <a:lnTo>
                  <a:pt x="101" y="662"/>
                </a:lnTo>
                <a:lnTo>
                  <a:pt x="95" y="667"/>
                </a:lnTo>
                <a:lnTo>
                  <a:pt x="91" y="669"/>
                </a:lnTo>
                <a:lnTo>
                  <a:pt x="85" y="674"/>
                </a:lnTo>
                <a:lnTo>
                  <a:pt x="80" y="678"/>
                </a:lnTo>
                <a:lnTo>
                  <a:pt x="70" y="687"/>
                </a:lnTo>
                <a:lnTo>
                  <a:pt x="60" y="695"/>
                </a:lnTo>
                <a:lnTo>
                  <a:pt x="52" y="704"/>
                </a:lnTo>
                <a:lnTo>
                  <a:pt x="43" y="714"/>
                </a:lnTo>
                <a:lnTo>
                  <a:pt x="36" y="724"/>
                </a:lnTo>
                <a:lnTo>
                  <a:pt x="29" y="734"/>
                </a:lnTo>
                <a:lnTo>
                  <a:pt x="23" y="744"/>
                </a:lnTo>
                <a:lnTo>
                  <a:pt x="17" y="754"/>
                </a:lnTo>
                <a:lnTo>
                  <a:pt x="13" y="764"/>
                </a:lnTo>
                <a:lnTo>
                  <a:pt x="9" y="776"/>
                </a:lnTo>
                <a:lnTo>
                  <a:pt x="6" y="786"/>
                </a:lnTo>
                <a:lnTo>
                  <a:pt x="3" y="798"/>
                </a:lnTo>
                <a:lnTo>
                  <a:pt x="1" y="808"/>
                </a:lnTo>
                <a:lnTo>
                  <a:pt x="1" y="819"/>
                </a:lnTo>
                <a:lnTo>
                  <a:pt x="0" y="831"/>
                </a:lnTo>
                <a:lnTo>
                  <a:pt x="0" y="841"/>
                </a:lnTo>
                <a:lnTo>
                  <a:pt x="1" y="852"/>
                </a:lnTo>
                <a:lnTo>
                  <a:pt x="3" y="864"/>
                </a:lnTo>
                <a:lnTo>
                  <a:pt x="6" y="875"/>
                </a:lnTo>
                <a:lnTo>
                  <a:pt x="9" y="885"/>
                </a:lnTo>
                <a:lnTo>
                  <a:pt x="13" y="897"/>
                </a:lnTo>
                <a:lnTo>
                  <a:pt x="17" y="907"/>
                </a:lnTo>
                <a:lnTo>
                  <a:pt x="23" y="918"/>
                </a:lnTo>
                <a:lnTo>
                  <a:pt x="29" y="929"/>
                </a:lnTo>
                <a:lnTo>
                  <a:pt x="34" y="939"/>
                </a:lnTo>
                <a:lnTo>
                  <a:pt x="42" y="949"/>
                </a:lnTo>
                <a:lnTo>
                  <a:pt x="50" y="959"/>
                </a:lnTo>
                <a:lnTo>
                  <a:pt x="59" y="969"/>
                </a:lnTo>
                <a:lnTo>
                  <a:pt x="68" y="978"/>
                </a:lnTo>
                <a:lnTo>
                  <a:pt x="78" y="988"/>
                </a:lnTo>
                <a:lnTo>
                  <a:pt x="89" y="996"/>
                </a:lnTo>
                <a:lnTo>
                  <a:pt x="101" y="1005"/>
                </a:lnTo>
                <a:lnTo>
                  <a:pt x="104" y="1008"/>
                </a:lnTo>
                <a:lnTo>
                  <a:pt x="108" y="1009"/>
                </a:lnTo>
                <a:lnTo>
                  <a:pt x="112" y="1012"/>
                </a:lnTo>
                <a:lnTo>
                  <a:pt x="115" y="1015"/>
                </a:lnTo>
                <a:lnTo>
                  <a:pt x="124" y="1019"/>
                </a:lnTo>
                <a:lnTo>
                  <a:pt x="128" y="1022"/>
                </a:lnTo>
                <a:lnTo>
                  <a:pt x="131" y="1025"/>
                </a:lnTo>
                <a:lnTo>
                  <a:pt x="135" y="1026"/>
                </a:lnTo>
                <a:lnTo>
                  <a:pt x="140" y="1029"/>
                </a:lnTo>
                <a:lnTo>
                  <a:pt x="144" y="1031"/>
                </a:lnTo>
                <a:lnTo>
                  <a:pt x="148" y="1034"/>
                </a:lnTo>
                <a:lnTo>
                  <a:pt x="157" y="1037"/>
                </a:lnTo>
                <a:lnTo>
                  <a:pt x="165" y="1041"/>
                </a:lnTo>
                <a:lnTo>
                  <a:pt x="174" y="1044"/>
                </a:lnTo>
                <a:lnTo>
                  <a:pt x="183" y="1048"/>
                </a:lnTo>
                <a:lnTo>
                  <a:pt x="191" y="1051"/>
                </a:lnTo>
                <a:lnTo>
                  <a:pt x="201" y="1054"/>
                </a:lnTo>
                <a:lnTo>
                  <a:pt x="210" y="1057"/>
                </a:lnTo>
                <a:lnTo>
                  <a:pt x="219" y="1058"/>
                </a:lnTo>
                <a:lnTo>
                  <a:pt x="229" y="1061"/>
                </a:lnTo>
                <a:lnTo>
                  <a:pt x="237" y="1062"/>
                </a:lnTo>
                <a:lnTo>
                  <a:pt x="239" y="1067"/>
                </a:lnTo>
                <a:lnTo>
                  <a:pt x="239" y="1071"/>
                </a:lnTo>
                <a:lnTo>
                  <a:pt x="240" y="1074"/>
                </a:lnTo>
                <a:lnTo>
                  <a:pt x="242" y="1078"/>
                </a:lnTo>
                <a:lnTo>
                  <a:pt x="242" y="1081"/>
                </a:lnTo>
                <a:lnTo>
                  <a:pt x="243" y="1085"/>
                </a:lnTo>
                <a:lnTo>
                  <a:pt x="245" y="1088"/>
                </a:lnTo>
                <a:lnTo>
                  <a:pt x="246" y="1093"/>
                </a:lnTo>
                <a:lnTo>
                  <a:pt x="247" y="1096"/>
                </a:lnTo>
                <a:lnTo>
                  <a:pt x="249" y="1100"/>
                </a:lnTo>
                <a:lnTo>
                  <a:pt x="250" y="1104"/>
                </a:lnTo>
                <a:lnTo>
                  <a:pt x="252" y="1107"/>
                </a:lnTo>
                <a:lnTo>
                  <a:pt x="253" y="1111"/>
                </a:lnTo>
                <a:lnTo>
                  <a:pt x="255" y="1114"/>
                </a:lnTo>
                <a:lnTo>
                  <a:pt x="258" y="1119"/>
                </a:lnTo>
                <a:lnTo>
                  <a:pt x="259" y="1121"/>
                </a:lnTo>
                <a:lnTo>
                  <a:pt x="263" y="1130"/>
                </a:lnTo>
                <a:lnTo>
                  <a:pt x="268" y="1137"/>
                </a:lnTo>
                <a:lnTo>
                  <a:pt x="273" y="1145"/>
                </a:lnTo>
                <a:lnTo>
                  <a:pt x="279" y="1152"/>
                </a:lnTo>
                <a:lnTo>
                  <a:pt x="285" y="1159"/>
                </a:lnTo>
                <a:lnTo>
                  <a:pt x="291" y="1166"/>
                </a:lnTo>
                <a:lnTo>
                  <a:pt x="296" y="1172"/>
                </a:lnTo>
                <a:lnTo>
                  <a:pt x="304" y="1179"/>
                </a:lnTo>
                <a:lnTo>
                  <a:pt x="311" y="1185"/>
                </a:lnTo>
                <a:lnTo>
                  <a:pt x="317" y="1191"/>
                </a:lnTo>
                <a:lnTo>
                  <a:pt x="325" y="1196"/>
                </a:lnTo>
                <a:lnTo>
                  <a:pt x="332" y="1201"/>
                </a:lnTo>
                <a:lnTo>
                  <a:pt x="340" y="1206"/>
                </a:lnTo>
                <a:lnTo>
                  <a:pt x="347" y="1211"/>
                </a:lnTo>
                <a:lnTo>
                  <a:pt x="355" y="1215"/>
                </a:lnTo>
                <a:lnTo>
                  <a:pt x="363" y="1219"/>
                </a:lnTo>
                <a:lnTo>
                  <a:pt x="371" y="1222"/>
                </a:lnTo>
                <a:lnTo>
                  <a:pt x="380" y="1225"/>
                </a:lnTo>
                <a:lnTo>
                  <a:pt x="388" y="1229"/>
                </a:lnTo>
                <a:lnTo>
                  <a:pt x="397" y="1232"/>
                </a:lnTo>
                <a:lnTo>
                  <a:pt x="406" y="1234"/>
                </a:lnTo>
                <a:lnTo>
                  <a:pt x="414" y="1237"/>
                </a:lnTo>
                <a:lnTo>
                  <a:pt x="423" y="1238"/>
                </a:lnTo>
                <a:lnTo>
                  <a:pt x="432" y="1240"/>
                </a:lnTo>
                <a:lnTo>
                  <a:pt x="440" y="1241"/>
                </a:lnTo>
                <a:lnTo>
                  <a:pt x="449" y="1241"/>
                </a:lnTo>
                <a:lnTo>
                  <a:pt x="458" y="1242"/>
                </a:lnTo>
                <a:lnTo>
                  <a:pt x="468" y="1242"/>
                </a:lnTo>
                <a:lnTo>
                  <a:pt x="476" y="1241"/>
                </a:lnTo>
                <a:lnTo>
                  <a:pt x="485" y="1241"/>
                </a:lnTo>
                <a:lnTo>
                  <a:pt x="494" y="1240"/>
                </a:lnTo>
                <a:lnTo>
                  <a:pt x="502" y="1238"/>
                </a:lnTo>
                <a:lnTo>
                  <a:pt x="506" y="1247"/>
                </a:lnTo>
                <a:lnTo>
                  <a:pt x="512" y="1257"/>
                </a:lnTo>
                <a:lnTo>
                  <a:pt x="518" y="1265"/>
                </a:lnTo>
                <a:lnTo>
                  <a:pt x="524" y="1274"/>
                </a:lnTo>
                <a:lnTo>
                  <a:pt x="531" y="1283"/>
                </a:lnTo>
                <a:lnTo>
                  <a:pt x="538" y="1290"/>
                </a:lnTo>
                <a:lnTo>
                  <a:pt x="547" y="1299"/>
                </a:lnTo>
                <a:lnTo>
                  <a:pt x="555" y="1306"/>
                </a:lnTo>
                <a:lnTo>
                  <a:pt x="564" y="1314"/>
                </a:lnTo>
                <a:lnTo>
                  <a:pt x="573" y="1322"/>
                </a:lnTo>
                <a:lnTo>
                  <a:pt x="583" y="1329"/>
                </a:lnTo>
                <a:lnTo>
                  <a:pt x="593" y="1336"/>
                </a:lnTo>
                <a:lnTo>
                  <a:pt x="604" y="1343"/>
                </a:lnTo>
                <a:lnTo>
                  <a:pt x="614" y="1349"/>
                </a:lnTo>
                <a:lnTo>
                  <a:pt x="626" y="1356"/>
                </a:lnTo>
                <a:lnTo>
                  <a:pt x="637" y="1362"/>
                </a:lnTo>
                <a:lnTo>
                  <a:pt x="650" y="1368"/>
                </a:lnTo>
                <a:lnTo>
                  <a:pt x="663" y="1373"/>
                </a:lnTo>
                <a:lnTo>
                  <a:pt x="676" y="1378"/>
                </a:lnTo>
                <a:lnTo>
                  <a:pt x="689" y="1384"/>
                </a:lnTo>
                <a:lnTo>
                  <a:pt x="702" y="1388"/>
                </a:lnTo>
                <a:lnTo>
                  <a:pt x="717" y="1392"/>
                </a:lnTo>
                <a:lnTo>
                  <a:pt x="731" y="1396"/>
                </a:lnTo>
                <a:lnTo>
                  <a:pt x="745" y="1399"/>
                </a:lnTo>
                <a:lnTo>
                  <a:pt x="760" y="1402"/>
                </a:lnTo>
                <a:lnTo>
                  <a:pt x="776" y="1405"/>
                </a:lnTo>
                <a:lnTo>
                  <a:pt x="790" y="1408"/>
                </a:lnTo>
                <a:lnTo>
                  <a:pt x="806" y="1411"/>
                </a:lnTo>
                <a:lnTo>
                  <a:pt x="822" y="1412"/>
                </a:lnTo>
                <a:lnTo>
                  <a:pt x="838" y="1414"/>
                </a:lnTo>
                <a:lnTo>
                  <a:pt x="853" y="1415"/>
                </a:lnTo>
                <a:lnTo>
                  <a:pt x="871" y="1415"/>
                </a:lnTo>
                <a:lnTo>
                  <a:pt x="884" y="1417"/>
                </a:lnTo>
                <a:lnTo>
                  <a:pt x="898" y="1417"/>
                </a:lnTo>
                <a:lnTo>
                  <a:pt x="911" y="1415"/>
                </a:lnTo>
                <a:lnTo>
                  <a:pt x="924" y="1415"/>
                </a:lnTo>
                <a:lnTo>
                  <a:pt x="937" y="1415"/>
                </a:lnTo>
                <a:lnTo>
                  <a:pt x="951" y="1414"/>
                </a:lnTo>
                <a:lnTo>
                  <a:pt x="963" y="1412"/>
                </a:lnTo>
                <a:lnTo>
                  <a:pt x="976" y="1411"/>
                </a:lnTo>
                <a:lnTo>
                  <a:pt x="989" y="1408"/>
                </a:lnTo>
                <a:lnTo>
                  <a:pt x="1002" y="1407"/>
                </a:lnTo>
                <a:lnTo>
                  <a:pt x="1013" y="1404"/>
                </a:lnTo>
                <a:lnTo>
                  <a:pt x="1026" y="1402"/>
                </a:lnTo>
                <a:lnTo>
                  <a:pt x="1038" y="1399"/>
                </a:lnTo>
                <a:lnTo>
                  <a:pt x="1049" y="1395"/>
                </a:lnTo>
                <a:lnTo>
                  <a:pt x="1061" y="1392"/>
                </a:lnTo>
                <a:lnTo>
                  <a:pt x="1072" y="1389"/>
                </a:lnTo>
                <a:lnTo>
                  <a:pt x="1084" y="1385"/>
                </a:lnTo>
                <a:lnTo>
                  <a:pt x="1094" y="1381"/>
                </a:lnTo>
                <a:lnTo>
                  <a:pt x="1105" y="1378"/>
                </a:lnTo>
                <a:lnTo>
                  <a:pt x="1115" y="1373"/>
                </a:lnTo>
                <a:lnTo>
                  <a:pt x="1125" y="1368"/>
                </a:lnTo>
                <a:lnTo>
                  <a:pt x="1135" y="1363"/>
                </a:lnTo>
                <a:lnTo>
                  <a:pt x="1144" y="1359"/>
                </a:lnTo>
                <a:lnTo>
                  <a:pt x="1154" y="1353"/>
                </a:lnTo>
                <a:lnTo>
                  <a:pt x="1163" y="1348"/>
                </a:lnTo>
                <a:lnTo>
                  <a:pt x="1171" y="1343"/>
                </a:lnTo>
                <a:lnTo>
                  <a:pt x="1180" y="1337"/>
                </a:lnTo>
                <a:lnTo>
                  <a:pt x="1189" y="1332"/>
                </a:lnTo>
                <a:lnTo>
                  <a:pt x="1196" y="1324"/>
                </a:lnTo>
                <a:lnTo>
                  <a:pt x="1203" y="1319"/>
                </a:lnTo>
                <a:lnTo>
                  <a:pt x="1210" y="1313"/>
                </a:lnTo>
                <a:lnTo>
                  <a:pt x="1217" y="1306"/>
                </a:lnTo>
                <a:lnTo>
                  <a:pt x="1219" y="1306"/>
                </a:lnTo>
                <a:lnTo>
                  <a:pt x="1222" y="1306"/>
                </a:lnTo>
                <a:lnTo>
                  <a:pt x="1223" y="1306"/>
                </a:lnTo>
                <a:lnTo>
                  <a:pt x="1225" y="1304"/>
                </a:lnTo>
                <a:lnTo>
                  <a:pt x="1228" y="1304"/>
                </a:lnTo>
                <a:lnTo>
                  <a:pt x="1229" y="1304"/>
                </a:lnTo>
                <a:lnTo>
                  <a:pt x="1232" y="1304"/>
                </a:lnTo>
                <a:lnTo>
                  <a:pt x="1233" y="1304"/>
                </a:lnTo>
                <a:lnTo>
                  <a:pt x="1238" y="1307"/>
                </a:lnTo>
                <a:lnTo>
                  <a:pt x="1243" y="1310"/>
                </a:lnTo>
                <a:lnTo>
                  <a:pt x="1248" y="1313"/>
                </a:lnTo>
                <a:lnTo>
                  <a:pt x="1253" y="1316"/>
                </a:lnTo>
                <a:lnTo>
                  <a:pt x="1258" y="1319"/>
                </a:lnTo>
                <a:lnTo>
                  <a:pt x="1264" y="1322"/>
                </a:lnTo>
                <a:lnTo>
                  <a:pt x="1269" y="1324"/>
                </a:lnTo>
                <a:lnTo>
                  <a:pt x="1275" y="1327"/>
                </a:lnTo>
                <a:lnTo>
                  <a:pt x="1279" y="1329"/>
                </a:lnTo>
                <a:lnTo>
                  <a:pt x="1285" y="1332"/>
                </a:lnTo>
                <a:lnTo>
                  <a:pt x="1291" y="1335"/>
                </a:lnTo>
                <a:lnTo>
                  <a:pt x="1297" y="1336"/>
                </a:lnTo>
                <a:lnTo>
                  <a:pt x="1304" y="1339"/>
                </a:lnTo>
                <a:lnTo>
                  <a:pt x="1310" y="1340"/>
                </a:lnTo>
                <a:lnTo>
                  <a:pt x="1315" y="1342"/>
                </a:lnTo>
                <a:lnTo>
                  <a:pt x="1321" y="1345"/>
                </a:lnTo>
                <a:lnTo>
                  <a:pt x="1328" y="1346"/>
                </a:lnTo>
                <a:lnTo>
                  <a:pt x="1334" y="1348"/>
                </a:lnTo>
                <a:lnTo>
                  <a:pt x="1341" y="1349"/>
                </a:lnTo>
                <a:lnTo>
                  <a:pt x="1347" y="1350"/>
                </a:lnTo>
                <a:lnTo>
                  <a:pt x="1354" y="1352"/>
                </a:lnTo>
                <a:lnTo>
                  <a:pt x="1360" y="1353"/>
                </a:lnTo>
                <a:lnTo>
                  <a:pt x="1367" y="1355"/>
                </a:lnTo>
                <a:lnTo>
                  <a:pt x="1374" y="1355"/>
                </a:lnTo>
                <a:lnTo>
                  <a:pt x="1382" y="1356"/>
                </a:lnTo>
                <a:lnTo>
                  <a:pt x="1387" y="1356"/>
                </a:lnTo>
                <a:lnTo>
                  <a:pt x="1394" y="1358"/>
                </a:lnTo>
                <a:lnTo>
                  <a:pt x="1402" y="1358"/>
                </a:lnTo>
                <a:lnTo>
                  <a:pt x="1409" y="1359"/>
                </a:lnTo>
                <a:lnTo>
                  <a:pt x="1423" y="1359"/>
                </a:lnTo>
                <a:lnTo>
                  <a:pt x="1430" y="1359"/>
                </a:lnTo>
                <a:lnTo>
                  <a:pt x="1445" y="1359"/>
                </a:lnTo>
                <a:lnTo>
                  <a:pt x="1459" y="1358"/>
                </a:lnTo>
                <a:lnTo>
                  <a:pt x="1472" y="1356"/>
                </a:lnTo>
                <a:lnTo>
                  <a:pt x="1485" y="1355"/>
                </a:lnTo>
                <a:lnTo>
                  <a:pt x="1500" y="1353"/>
                </a:lnTo>
                <a:lnTo>
                  <a:pt x="1512" y="1350"/>
                </a:lnTo>
                <a:lnTo>
                  <a:pt x="1525" y="1348"/>
                </a:lnTo>
                <a:lnTo>
                  <a:pt x="1537" y="1345"/>
                </a:lnTo>
                <a:lnTo>
                  <a:pt x="1550" y="1340"/>
                </a:lnTo>
                <a:lnTo>
                  <a:pt x="1561" y="1337"/>
                </a:lnTo>
                <a:lnTo>
                  <a:pt x="1573" y="1333"/>
                </a:lnTo>
                <a:lnTo>
                  <a:pt x="1584" y="1327"/>
                </a:lnTo>
                <a:lnTo>
                  <a:pt x="1595" y="1323"/>
                </a:lnTo>
                <a:lnTo>
                  <a:pt x="1606" y="1317"/>
                </a:lnTo>
                <a:lnTo>
                  <a:pt x="1616" y="1312"/>
                </a:lnTo>
                <a:lnTo>
                  <a:pt x="1625" y="1306"/>
                </a:lnTo>
                <a:lnTo>
                  <a:pt x="1635" y="1299"/>
                </a:lnTo>
                <a:lnTo>
                  <a:pt x="1643" y="1293"/>
                </a:lnTo>
                <a:lnTo>
                  <a:pt x="1651" y="1286"/>
                </a:lnTo>
                <a:lnTo>
                  <a:pt x="1659" y="1278"/>
                </a:lnTo>
                <a:lnTo>
                  <a:pt x="1666" y="1271"/>
                </a:lnTo>
                <a:lnTo>
                  <a:pt x="1672" y="1263"/>
                </a:lnTo>
                <a:lnTo>
                  <a:pt x="1679" y="1255"/>
                </a:lnTo>
                <a:lnTo>
                  <a:pt x="1684" y="1247"/>
                </a:lnTo>
                <a:lnTo>
                  <a:pt x="1689" y="1240"/>
                </a:lnTo>
                <a:lnTo>
                  <a:pt x="1694" y="1231"/>
                </a:lnTo>
                <a:lnTo>
                  <a:pt x="1698" y="1222"/>
                </a:lnTo>
                <a:lnTo>
                  <a:pt x="1701" y="1214"/>
                </a:lnTo>
                <a:lnTo>
                  <a:pt x="1702" y="1204"/>
                </a:lnTo>
                <a:lnTo>
                  <a:pt x="1705" y="1195"/>
                </a:lnTo>
                <a:lnTo>
                  <a:pt x="1705" y="1186"/>
                </a:lnTo>
                <a:lnTo>
                  <a:pt x="1707" y="1176"/>
                </a:lnTo>
                <a:lnTo>
                  <a:pt x="1705" y="1172"/>
                </a:lnTo>
                <a:lnTo>
                  <a:pt x="1705" y="1169"/>
                </a:lnTo>
                <a:lnTo>
                  <a:pt x="1705" y="1165"/>
                </a:lnTo>
                <a:lnTo>
                  <a:pt x="1705" y="1162"/>
                </a:lnTo>
                <a:lnTo>
                  <a:pt x="1704" y="1157"/>
                </a:lnTo>
                <a:lnTo>
                  <a:pt x="1704" y="1150"/>
                </a:lnTo>
                <a:lnTo>
                  <a:pt x="1702" y="1146"/>
                </a:lnTo>
                <a:lnTo>
                  <a:pt x="1701" y="1139"/>
                </a:lnTo>
                <a:lnTo>
                  <a:pt x="1700" y="1136"/>
                </a:lnTo>
                <a:lnTo>
                  <a:pt x="1698" y="1132"/>
                </a:lnTo>
                <a:lnTo>
                  <a:pt x="1697" y="1129"/>
                </a:lnTo>
                <a:lnTo>
                  <a:pt x="1695" y="1126"/>
                </a:lnTo>
                <a:lnTo>
                  <a:pt x="1694" y="1121"/>
                </a:lnTo>
                <a:lnTo>
                  <a:pt x="1692" y="1119"/>
                </a:lnTo>
                <a:lnTo>
                  <a:pt x="1698" y="1119"/>
                </a:lnTo>
                <a:lnTo>
                  <a:pt x="1704" y="1120"/>
                </a:lnTo>
                <a:lnTo>
                  <a:pt x="1711" y="1120"/>
                </a:lnTo>
                <a:lnTo>
                  <a:pt x="1717" y="1121"/>
                </a:lnTo>
                <a:lnTo>
                  <a:pt x="1723" y="1121"/>
                </a:lnTo>
                <a:lnTo>
                  <a:pt x="1730" y="1121"/>
                </a:lnTo>
                <a:lnTo>
                  <a:pt x="1743" y="1121"/>
                </a:lnTo>
                <a:lnTo>
                  <a:pt x="1757" y="1121"/>
                </a:lnTo>
                <a:lnTo>
                  <a:pt x="1773" y="1120"/>
                </a:lnTo>
                <a:lnTo>
                  <a:pt x="1787" y="1119"/>
                </a:lnTo>
                <a:lnTo>
                  <a:pt x="1802" y="1117"/>
                </a:lnTo>
                <a:lnTo>
                  <a:pt x="1816" y="1114"/>
                </a:lnTo>
                <a:lnTo>
                  <a:pt x="1831" y="1111"/>
                </a:lnTo>
                <a:lnTo>
                  <a:pt x="1845" y="1107"/>
                </a:lnTo>
                <a:lnTo>
                  <a:pt x="1858" y="1103"/>
                </a:lnTo>
                <a:lnTo>
                  <a:pt x="1871" y="1098"/>
                </a:lnTo>
                <a:lnTo>
                  <a:pt x="1884" y="1093"/>
                </a:lnTo>
                <a:lnTo>
                  <a:pt x="1897" y="1087"/>
                </a:lnTo>
                <a:lnTo>
                  <a:pt x="1908" y="1081"/>
                </a:lnTo>
                <a:lnTo>
                  <a:pt x="1920" y="1074"/>
                </a:lnTo>
                <a:lnTo>
                  <a:pt x="1931" y="1067"/>
                </a:lnTo>
                <a:lnTo>
                  <a:pt x="1943" y="1060"/>
                </a:lnTo>
                <a:lnTo>
                  <a:pt x="1953" y="1051"/>
                </a:lnTo>
                <a:lnTo>
                  <a:pt x="1963" y="1044"/>
                </a:lnTo>
                <a:lnTo>
                  <a:pt x="1972" y="1034"/>
                </a:lnTo>
                <a:lnTo>
                  <a:pt x="1982" y="1025"/>
                </a:lnTo>
                <a:lnTo>
                  <a:pt x="1989" y="1016"/>
                </a:lnTo>
                <a:lnTo>
                  <a:pt x="1997" y="1006"/>
                </a:lnTo>
                <a:lnTo>
                  <a:pt x="2005" y="996"/>
                </a:lnTo>
                <a:lnTo>
                  <a:pt x="2010" y="986"/>
                </a:lnTo>
                <a:lnTo>
                  <a:pt x="2016" y="975"/>
                </a:lnTo>
                <a:lnTo>
                  <a:pt x="2022" y="965"/>
                </a:lnTo>
                <a:lnTo>
                  <a:pt x="2026" y="953"/>
                </a:lnTo>
                <a:lnTo>
                  <a:pt x="2031" y="942"/>
                </a:lnTo>
                <a:lnTo>
                  <a:pt x="2033" y="930"/>
                </a:lnTo>
                <a:lnTo>
                  <a:pt x="2036" y="918"/>
                </a:lnTo>
                <a:lnTo>
                  <a:pt x="2039" y="906"/>
                </a:lnTo>
                <a:lnTo>
                  <a:pt x="2039" y="894"/>
                </a:lnTo>
                <a:lnTo>
                  <a:pt x="2041" y="881"/>
                </a:lnTo>
                <a:lnTo>
                  <a:pt x="2039" y="871"/>
                </a:lnTo>
                <a:lnTo>
                  <a:pt x="2039" y="861"/>
                </a:lnTo>
                <a:lnTo>
                  <a:pt x="2038" y="851"/>
                </a:lnTo>
                <a:lnTo>
                  <a:pt x="2036" y="841"/>
                </a:lnTo>
                <a:lnTo>
                  <a:pt x="2033" y="831"/>
                </a:lnTo>
                <a:lnTo>
                  <a:pt x="2031" y="822"/>
                </a:lnTo>
                <a:lnTo>
                  <a:pt x="2028" y="812"/>
                </a:lnTo>
                <a:lnTo>
                  <a:pt x="2023" y="803"/>
                </a:lnTo>
                <a:lnTo>
                  <a:pt x="2019" y="793"/>
                </a:lnTo>
                <a:lnTo>
                  <a:pt x="2015" y="785"/>
                </a:lnTo>
                <a:lnTo>
                  <a:pt x="2009" y="776"/>
                </a:lnTo>
                <a:lnTo>
                  <a:pt x="2005" y="767"/>
                </a:lnTo>
                <a:lnTo>
                  <a:pt x="1997" y="759"/>
                </a:lnTo>
                <a:lnTo>
                  <a:pt x="1992" y="750"/>
                </a:lnTo>
                <a:lnTo>
                  <a:pt x="1985" y="743"/>
                </a:lnTo>
                <a:lnTo>
                  <a:pt x="1977" y="734"/>
                </a:lnTo>
                <a:lnTo>
                  <a:pt x="1970" y="727"/>
                </a:lnTo>
                <a:lnTo>
                  <a:pt x="1963" y="720"/>
                </a:lnTo>
                <a:lnTo>
                  <a:pt x="1954" y="713"/>
                </a:lnTo>
                <a:lnTo>
                  <a:pt x="1946" y="707"/>
                </a:lnTo>
                <a:lnTo>
                  <a:pt x="1937" y="700"/>
                </a:lnTo>
                <a:lnTo>
                  <a:pt x="1927" y="694"/>
                </a:lnTo>
                <a:lnTo>
                  <a:pt x="1918" y="688"/>
                </a:lnTo>
                <a:lnTo>
                  <a:pt x="1908" y="682"/>
                </a:lnTo>
                <a:lnTo>
                  <a:pt x="1898" y="677"/>
                </a:lnTo>
                <a:lnTo>
                  <a:pt x="1888" y="672"/>
                </a:lnTo>
                <a:lnTo>
                  <a:pt x="1877" y="668"/>
                </a:lnTo>
                <a:lnTo>
                  <a:pt x="1867" y="664"/>
                </a:lnTo>
                <a:lnTo>
                  <a:pt x="1855" y="659"/>
                </a:lnTo>
                <a:lnTo>
                  <a:pt x="1843" y="656"/>
                </a:lnTo>
                <a:lnTo>
                  <a:pt x="1832" y="652"/>
                </a:lnTo>
                <a:lnTo>
                  <a:pt x="1820" y="649"/>
                </a:lnTo>
                <a:lnTo>
                  <a:pt x="1820" y="648"/>
                </a:lnTo>
                <a:close/>
                <a:moveTo>
                  <a:pt x="1820" y="649"/>
                </a:moveTo>
                <a:lnTo>
                  <a:pt x="1820" y="649"/>
                </a:lnTo>
                <a:lnTo>
                  <a:pt x="1820" y="649"/>
                </a:lnTo>
                <a:close/>
                <a:moveTo>
                  <a:pt x="1819" y="646"/>
                </a:moveTo>
                <a:lnTo>
                  <a:pt x="1819" y="646"/>
                </a:lnTo>
                <a:lnTo>
                  <a:pt x="1819" y="646"/>
                </a:lnTo>
                <a:close/>
                <a:moveTo>
                  <a:pt x="1610" y="291"/>
                </a:moveTo>
                <a:lnTo>
                  <a:pt x="1610" y="289"/>
                </a:lnTo>
                <a:lnTo>
                  <a:pt x="1610" y="291"/>
                </a:lnTo>
                <a:close/>
                <a:moveTo>
                  <a:pt x="1609" y="288"/>
                </a:moveTo>
                <a:lnTo>
                  <a:pt x="1609" y="288"/>
                </a:lnTo>
                <a:lnTo>
                  <a:pt x="1609" y="288"/>
                </a:lnTo>
                <a:close/>
                <a:moveTo>
                  <a:pt x="1609" y="286"/>
                </a:moveTo>
                <a:lnTo>
                  <a:pt x="1609" y="285"/>
                </a:lnTo>
                <a:lnTo>
                  <a:pt x="1609" y="286"/>
                </a:lnTo>
                <a:close/>
              </a:path>
            </a:pathLst>
          </a:custGeom>
          <a:solidFill>
            <a:srgbClr val="8e9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99400" y="4605480"/>
            <a:ext cx="1081080" cy="519120"/>
            <a:chOff x="6899400" y="4605480"/>
            <a:chExt cx="1081080" cy="519120"/>
          </a:xfrm>
        </p:grpSpPr>
        <p:sp>
          <p:nvSpPr>
            <p:cNvPr id="557" name=""/>
            <p:cNvSpPr/>
            <p:nvPr/>
          </p:nvSpPr>
          <p:spPr>
            <a:xfrm>
              <a:off x="6899400" y="4605480"/>
              <a:ext cx="333360" cy="114120"/>
            </a:xfrm>
            <a:custGeom>
              <a:avLst/>
              <a:gdLst/>
              <a:ahLst/>
              <a:rect l="l" t="t" r="r" b="b"/>
              <a:pathLst>
                <a:path w="630" h="216">
                  <a:moveTo>
                    <a:pt x="159" y="0"/>
                  </a:moveTo>
                  <a:lnTo>
                    <a:pt x="471" y="0"/>
                  </a:lnTo>
                  <a:lnTo>
                    <a:pt x="630" y="106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6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99400" y="4719600"/>
              <a:ext cx="333360" cy="11592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9400" y="4835520"/>
              <a:ext cx="333360" cy="114480"/>
            </a:xfrm>
            <a:custGeom>
              <a:avLst/>
              <a:gdLst/>
              <a:ahLst/>
              <a:rect l="l" t="t" r="r" b="b"/>
              <a:pathLst>
                <a:path w="630" h="217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99400" y="4950000"/>
              <a:ext cx="333360" cy="11556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46623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8520" y="477828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48520" y="48927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48520" y="500868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97640" y="46054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97640" y="483552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7640" y="472140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97640" y="495144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47120" y="466416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47120" y="47782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47120" y="489420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47120" y="501012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8" y="0"/>
                  </a:moveTo>
                  <a:lnTo>
                    <a:pt x="471" y="0"/>
                  </a:lnTo>
                  <a:lnTo>
                    <a:pt x="629" y="106"/>
                  </a:lnTo>
                  <a:lnTo>
                    <a:pt x="471" y="216"/>
                  </a:lnTo>
                  <a:lnTo>
                    <a:pt x="158" y="216"/>
                  </a:lnTo>
                  <a:lnTo>
                    <a:pt x="0" y="10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468440" cy="71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件化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企业内部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1474920" cy="1139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62728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8472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P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1200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652400" cy="666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>
            <a:off x="2340000" y="3792600"/>
            <a:ext cx="1641600" cy="660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90000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管理平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7164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ervice-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211640" y="3573360"/>
            <a:ext cx="1114560" cy="897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867280" y="3500280"/>
            <a:ext cx="114012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3545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拨号用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328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电话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7"/>
          <a:stretch/>
        </p:blipFill>
        <p:spPr>
          <a:xfrm>
            <a:off x="7451640" y="1700280"/>
            <a:ext cx="1114560" cy="12016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59636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铁路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667640" y="3429000"/>
            <a:ext cx="736560" cy="1087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5963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61128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414036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5651640" y="1989000"/>
            <a:ext cx="1474560" cy="758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30360" y="4795920"/>
            <a:ext cx="699840" cy="12970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43280" y="4795920"/>
            <a:ext cx="1071360" cy="12970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611280" y="148428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2143080" y="148428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2143080" y="314172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8"/>
          <a:stretch/>
        </p:blipFill>
        <p:spPr>
          <a:xfrm>
            <a:off x="6659640" y="1413000"/>
            <a:ext cx="668160" cy="11379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9"/>
          <a:stretch/>
        </p:blipFill>
        <p:spPr>
          <a:xfrm>
            <a:off x="6588000" y="4653000"/>
            <a:ext cx="819360" cy="1440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1596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8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4480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4480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88000" y="2637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636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462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88000" y="6164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0"/>
          <a:stretch/>
        </p:blipFill>
        <p:spPr>
          <a:xfrm>
            <a:off x="5148360" y="1341360"/>
            <a:ext cx="555480" cy="12956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4859280" y="2997360"/>
            <a:ext cx="1112760" cy="1295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00364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0364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排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2"/>
          <a:stretch/>
        </p:blipFill>
        <p:spPr>
          <a:xfrm>
            <a:off x="3751200" y="141300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61152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3"/>
          <a:stretch/>
        </p:blipFill>
        <p:spPr>
          <a:xfrm>
            <a:off x="3751200" y="306864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61332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4"/>
          <a:stretch/>
        </p:blipFill>
        <p:spPr>
          <a:xfrm>
            <a:off x="3348000" y="4869000"/>
            <a:ext cx="1368360" cy="12254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635280" y="61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室外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5"/>
          <a:stretch/>
        </p:blipFill>
        <p:spPr>
          <a:xfrm>
            <a:off x="5003640" y="4797360"/>
            <a:ext cx="1114560" cy="1289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2196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微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6"/>
          <a:stretch/>
        </p:blipFill>
        <p:spPr>
          <a:xfrm>
            <a:off x="6659640" y="2781360"/>
            <a:ext cx="636480" cy="1584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58800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68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826920" y="2027160"/>
            <a:ext cx="1366920" cy="3193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020600" y="2448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3995640" y="1989000"/>
            <a:ext cx="1224000" cy="430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21164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580000" y="2027160"/>
            <a:ext cx="1728720" cy="37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012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826920" y="3179880"/>
            <a:ext cx="1368720" cy="458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971640" y="375912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码器、编码器适配器、复用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6"/>
          <a:stretch/>
        </p:blipFill>
        <p:spPr>
          <a:xfrm>
            <a:off x="2484360" y="3179880"/>
            <a:ext cx="1295640" cy="4539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70036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4140360" y="3179880"/>
            <a:ext cx="1118880" cy="376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421164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1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8"/>
          <a:stretch/>
        </p:blipFill>
        <p:spPr>
          <a:xfrm>
            <a:off x="971640" y="4292640"/>
            <a:ext cx="1114200" cy="9270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14560" y="5373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9"/>
          <a:stretch/>
        </p:blipFill>
        <p:spPr>
          <a:xfrm>
            <a:off x="2411280" y="1916280"/>
            <a:ext cx="1108080" cy="5904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10"/>
          <a:stretch/>
        </p:blipFill>
        <p:spPr>
          <a:xfrm>
            <a:off x="2411280" y="4437000"/>
            <a:ext cx="1511280" cy="3412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771640" y="4797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2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数通产品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80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40328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183528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226836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3059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8"/>
          <a:stretch/>
        </p:blipFill>
        <p:spPr>
          <a:xfrm>
            <a:off x="3562200" y="1916280"/>
            <a:ext cx="455760" cy="299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9"/>
          <a:stretch/>
        </p:blipFill>
        <p:spPr>
          <a:xfrm>
            <a:off x="4067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0"/>
          <a:stretch/>
        </p:blipFill>
        <p:spPr>
          <a:xfrm>
            <a:off x="457056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1"/>
          <a:stretch/>
        </p:blipFill>
        <p:spPr>
          <a:xfrm>
            <a:off x="5075280" y="191628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588000" y="2349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Eud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2"/>
          <a:stretch/>
        </p:blipFill>
        <p:spPr>
          <a:xfrm>
            <a:off x="6084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3"/>
          <a:stretch/>
        </p:blipFill>
        <p:spPr>
          <a:xfrm>
            <a:off x="6462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4"/>
          <a:stretch/>
        </p:blipFill>
        <p:spPr>
          <a:xfrm>
            <a:off x="6840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5"/>
          <a:stretch/>
        </p:blipFill>
        <p:spPr>
          <a:xfrm>
            <a:off x="7218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6"/>
          <a:stretch/>
        </p:blipFill>
        <p:spPr>
          <a:xfrm>
            <a:off x="7596360" y="1922400"/>
            <a:ext cx="323640" cy="28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停用的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32000" y="1989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机资料中以下图标不再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2266920" y="263844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492360" y="2494080"/>
            <a:ext cx="936720" cy="711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5003640" y="2638440"/>
            <a:ext cx="1152720" cy="5763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476360" y="2494080"/>
            <a:ext cx="5616720" cy="115236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使用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目前随机资料中组网图图标存在的一些问题，资料开发部总体组整理优化了《胶片图标库》中的部分图标：重新绘制了部分位图图标、将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relDRAW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式的图标转换为图片格式以减少图片尺寸等，以方便大家在随机资料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中的图标均为矢量图标，放大缩小不失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未使用渐进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可取消组合，根据您的需要来重新填充颜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图标占用磁盘的空间极小，大多数为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~3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有两个版本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和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Visio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，请根据您使用的软件来选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抽象图标主要有三个系列：浅紫、黄色、深蓝，内容一样，只是颜色不同。建议使用时尽量选用同一色系的图标，需要突出或强调的可选用其它色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标库的建设和维护需要依靠大家的努力。如果您有好的建议或在使用本图标库时发现问题请反馈给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966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浅紫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2400" y="1773360"/>
            <a:ext cx="441360" cy="39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473120" y="1773360"/>
            <a:ext cx="44316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8520" y="1773360"/>
            <a:ext cx="436680" cy="39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1780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7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8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9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0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1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2"/>
          <a:stretch/>
        </p:blipFill>
        <p:spPr>
          <a:xfrm>
            <a:off x="1403280" y="4005360"/>
            <a:ext cx="455760" cy="31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3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4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5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6"/>
          <a:stretch/>
        </p:blipFill>
        <p:spPr>
          <a:xfrm>
            <a:off x="8244000" y="2205000"/>
            <a:ext cx="392040" cy="70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7"/>
          <a:stretch/>
        </p:blipFill>
        <p:spPr>
          <a:xfrm>
            <a:off x="8172360" y="3357720"/>
            <a:ext cx="517680" cy="70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8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9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0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1"/>
          <a:stretch/>
        </p:blipFill>
        <p:spPr>
          <a:xfrm>
            <a:off x="684360" y="46530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2"/>
          <a:stretch/>
        </p:blipFill>
        <p:spPr>
          <a:xfrm>
            <a:off x="1476360" y="465300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3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4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5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6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7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8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9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0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1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2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3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4"/>
          <a:stretch/>
        </p:blipFill>
        <p:spPr>
          <a:xfrm>
            <a:off x="370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5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6"/>
          <a:stretch/>
        </p:blipFill>
        <p:spPr>
          <a:xfrm>
            <a:off x="507672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7"/>
          <a:stretch/>
        </p:blipFill>
        <p:spPr>
          <a:xfrm>
            <a:off x="5796000" y="544500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8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9"/>
          <a:stretch/>
        </p:blipFill>
        <p:spPr>
          <a:xfrm>
            <a:off x="7236000" y="551664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1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2"/>
          <a:stretch/>
        </p:blipFill>
        <p:spPr>
          <a:xfrm>
            <a:off x="2171880" y="400536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3"/>
          <a:stretch/>
        </p:blipFill>
        <p:spPr>
          <a:xfrm>
            <a:off x="2987640" y="5430960"/>
            <a:ext cx="345960" cy="30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4880" cy="38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黄色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3280" y="2205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43308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15224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4330800" y="2492280"/>
            <a:ext cx="385560" cy="4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tretch/>
        </p:blipFill>
        <p:spPr>
          <a:xfrm>
            <a:off x="826920" y="3284640"/>
            <a:ext cx="385920" cy="230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3"/>
          <a:stretch/>
        </p:blipFill>
        <p:spPr>
          <a:xfrm>
            <a:off x="15224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428148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4"/>
          <a:stretch/>
        </p:blipFill>
        <p:spPr>
          <a:xfrm>
            <a:off x="2195640" y="400536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0720" cy="45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89160" cy="522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8"/>
          <a:stretch/>
        </p:blipFill>
        <p:spPr>
          <a:xfrm>
            <a:off x="5076720" y="384480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9"/>
          <a:stretch/>
        </p:blipFill>
        <p:spPr>
          <a:xfrm>
            <a:off x="579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0"/>
          <a:stretch/>
        </p:blipFill>
        <p:spPr>
          <a:xfrm>
            <a:off x="651672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1"/>
          <a:stretch/>
        </p:blipFill>
        <p:spPr>
          <a:xfrm>
            <a:off x="723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2"/>
          <a:stretch/>
        </p:blipFill>
        <p:spPr>
          <a:xfrm>
            <a:off x="684360" y="4653000"/>
            <a:ext cx="649080" cy="33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3"/>
          <a:stretch/>
        </p:blipFill>
        <p:spPr>
          <a:xfrm>
            <a:off x="1476360" y="4653000"/>
            <a:ext cx="450720" cy="323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4"/>
          <a:stretch/>
        </p:blipFill>
        <p:spPr>
          <a:xfrm>
            <a:off x="226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5"/>
          <a:stretch/>
        </p:blipFill>
        <p:spPr>
          <a:xfrm>
            <a:off x="298764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6"/>
          <a:stretch/>
        </p:blipFill>
        <p:spPr>
          <a:xfrm>
            <a:off x="370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7"/>
          <a:stretch/>
        </p:blipFill>
        <p:spPr>
          <a:xfrm>
            <a:off x="4427640" y="4653000"/>
            <a:ext cx="24768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8"/>
          <a:stretch/>
        </p:blipFill>
        <p:spPr>
          <a:xfrm>
            <a:off x="514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9"/>
          <a:stretch/>
        </p:blipFill>
        <p:spPr>
          <a:xfrm>
            <a:off x="5940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0"/>
          <a:stretch/>
        </p:blipFill>
        <p:spPr>
          <a:xfrm>
            <a:off x="658800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1"/>
          <a:stretch/>
        </p:blipFill>
        <p:spPr>
          <a:xfrm>
            <a:off x="7256520" y="462744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2"/>
          <a:stretch/>
        </p:blipFill>
        <p:spPr>
          <a:xfrm>
            <a:off x="900000" y="5373720"/>
            <a:ext cx="339840" cy="385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3"/>
          <a:stretch/>
        </p:blipFill>
        <p:spPr>
          <a:xfrm>
            <a:off x="1476360" y="534816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4"/>
          <a:stretch/>
        </p:blipFill>
        <p:spPr>
          <a:xfrm>
            <a:off x="2195640" y="5373720"/>
            <a:ext cx="339480" cy="385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5"/>
          <a:stretch/>
        </p:blipFill>
        <p:spPr>
          <a:xfrm>
            <a:off x="2916360" y="5445000"/>
            <a:ext cx="345960" cy="303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6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7"/>
          <a:stretch/>
        </p:blipFill>
        <p:spPr>
          <a:xfrm>
            <a:off x="4356000" y="5445000"/>
            <a:ext cx="346320" cy="295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8"/>
          <a:stretch/>
        </p:blipFill>
        <p:spPr>
          <a:xfrm>
            <a:off x="5148360" y="546408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9"/>
          <a:stretch/>
        </p:blipFill>
        <p:spPr>
          <a:xfrm>
            <a:off x="5867280" y="5445000"/>
            <a:ext cx="346320" cy="308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0"/>
          <a:stretch/>
        </p:blipFill>
        <p:spPr>
          <a:xfrm>
            <a:off x="6516720" y="5373720"/>
            <a:ext cx="468360" cy="385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1"/>
          <a:stretch/>
        </p:blipFill>
        <p:spPr>
          <a:xfrm>
            <a:off x="7308720" y="5516640"/>
            <a:ext cx="385920" cy="212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2"/>
          <a:stretch/>
        </p:blipFill>
        <p:spPr>
          <a:xfrm>
            <a:off x="8244000" y="2205000"/>
            <a:ext cx="388800" cy="70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3"/>
          <a:stretch/>
        </p:blipFill>
        <p:spPr>
          <a:xfrm>
            <a:off x="8231040" y="3500280"/>
            <a:ext cx="517680" cy="69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深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7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2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3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7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4"/>
          <a:stretch/>
        </p:blipFill>
        <p:spPr>
          <a:xfrm>
            <a:off x="2195640" y="4076640"/>
            <a:ext cx="455400" cy="208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8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9"/>
          <a:stretch/>
        </p:blipFill>
        <p:spPr>
          <a:xfrm>
            <a:off x="8244000" y="2637000"/>
            <a:ext cx="392040" cy="703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0"/>
          <a:stretch/>
        </p:blipFill>
        <p:spPr>
          <a:xfrm>
            <a:off x="8172360" y="3789360"/>
            <a:ext cx="517680" cy="703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1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2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3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4"/>
          <a:stretch/>
        </p:blipFill>
        <p:spPr>
          <a:xfrm>
            <a:off x="684360" y="46674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5"/>
          <a:stretch/>
        </p:blipFill>
        <p:spPr>
          <a:xfrm>
            <a:off x="1476360" y="468468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6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7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8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9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0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1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2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3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4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5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6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7"/>
          <a:stretch/>
        </p:blipFill>
        <p:spPr>
          <a:xfrm>
            <a:off x="2916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8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9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0"/>
          <a:stretch/>
        </p:blipFill>
        <p:spPr>
          <a:xfrm>
            <a:off x="514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1"/>
          <a:stretch/>
        </p:blipFill>
        <p:spPr>
          <a:xfrm>
            <a:off x="5810400" y="542592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2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3"/>
          <a:stretch/>
        </p:blipFill>
        <p:spPr>
          <a:xfrm>
            <a:off x="7236000" y="544500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335772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其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55400" cy="6159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573120" cy="7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9092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8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234000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三层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234792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2720" y="233208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&amp;C08 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441360" cy="392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2720" y="364500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其它厂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2268360" y="328464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635280" y="3284640"/>
            <a:ext cx="346320" cy="392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05092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3645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5076720" y="32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633564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694836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6551640" y="3716280"/>
            <a:ext cx="676080" cy="7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5928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光纤符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1"/>
          <a:stretch/>
        </p:blipFill>
        <p:spPr>
          <a:xfrm>
            <a:off x="7885080" y="3213000"/>
            <a:ext cx="550800" cy="463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81200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16720" y="4581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>
            <a:off x="363528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3"/>
          <a:stretch/>
        </p:blipFill>
        <p:spPr>
          <a:xfrm>
            <a:off x="507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4"/>
          <a:stretch/>
        </p:blipFill>
        <p:spPr>
          <a:xfrm>
            <a:off x="651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5"/>
          <a:stretch/>
        </p:blipFill>
        <p:spPr>
          <a:xfrm>
            <a:off x="7956720" y="1773360"/>
            <a:ext cx="392040" cy="54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计算机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498600" cy="882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090880" y="34624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3578400" y="3416400"/>
            <a:ext cx="923760" cy="88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795240" y="1825560"/>
            <a:ext cx="520920" cy="82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2100240" y="1865160"/>
            <a:ext cx="844560" cy="747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3728880" y="1773360"/>
            <a:ext cx="836640" cy="931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5267160" y="3325680"/>
            <a:ext cx="770040" cy="1063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9"/>
          <a:stretch/>
        </p:blipFill>
        <p:spPr>
          <a:xfrm>
            <a:off x="650880" y="5372280"/>
            <a:ext cx="861840" cy="788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2149560" y="5281560"/>
            <a:ext cx="1272960" cy="971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5816520" y="5373720"/>
            <a:ext cx="638280" cy="844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5349960" y="1844640"/>
            <a:ext cx="596880" cy="6890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6732720" y="1773360"/>
            <a:ext cx="1114200" cy="979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4"/>
          <a:stretch/>
        </p:blipFill>
        <p:spPr>
          <a:xfrm>
            <a:off x="7093080" y="5229360"/>
            <a:ext cx="668160" cy="792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5"/>
          <a:stretch/>
        </p:blipFill>
        <p:spPr>
          <a:xfrm>
            <a:off x="4060800" y="5084640"/>
            <a:ext cx="1119240" cy="1217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6"/>
          <a:stretch/>
        </p:blipFill>
        <p:spPr>
          <a:xfrm>
            <a:off x="6804000" y="3141720"/>
            <a:ext cx="1293840" cy="128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1128960" cy="779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1152360" cy="8571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574920" cy="123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1366560" cy="517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51280" y="5373720"/>
            <a:ext cx="1087560" cy="4381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5292720" y="5373720"/>
            <a:ext cx="1224000" cy="455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5226120" y="1341360"/>
            <a:ext cx="1231920" cy="1001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6804000" y="5445000"/>
            <a:ext cx="1368360" cy="378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6948360" y="2852640"/>
            <a:ext cx="1020960" cy="1297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1"/>
          <a:stretch/>
        </p:blipFill>
        <p:spPr>
          <a:xfrm>
            <a:off x="5364000" y="2708280"/>
            <a:ext cx="1020960" cy="144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2"/>
          <a:stretch/>
        </p:blipFill>
        <p:spPr>
          <a:xfrm>
            <a:off x="2379600" y="3284640"/>
            <a:ext cx="784440" cy="865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3"/>
          <a:stretch/>
        </p:blipFill>
        <p:spPr>
          <a:xfrm>
            <a:off x="3564000" y="3357720"/>
            <a:ext cx="1152360" cy="804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4"/>
          <a:stretch/>
        </p:blipFill>
        <p:spPr>
          <a:xfrm>
            <a:off x="900000" y="4869000"/>
            <a:ext cx="1133640" cy="1104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5"/>
          <a:stretch/>
        </p:blipFill>
        <p:spPr>
          <a:xfrm>
            <a:off x="2590920" y="4797360"/>
            <a:ext cx="566640" cy="1135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3564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视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6"/>
          <a:stretch/>
        </p:blipFill>
        <p:spPr>
          <a:xfrm>
            <a:off x="6948360" y="1700280"/>
            <a:ext cx="1114560" cy="574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09308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应答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3492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3856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4149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080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128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138320" cy="1474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284720" y="3622680"/>
            <a:ext cx="1512720" cy="797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415800" cy="1277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4511520" y="1844640"/>
            <a:ext cx="1440000" cy="6159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2771640" y="3543480"/>
            <a:ext cx="933480" cy="957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755640" y="1773360"/>
            <a:ext cx="1114560" cy="895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tretch/>
        </p:blipFill>
        <p:spPr>
          <a:xfrm>
            <a:off x="2793960" y="1844640"/>
            <a:ext cx="792360" cy="6080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6516720" y="3664080"/>
            <a:ext cx="1112760" cy="7142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7948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7164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916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8800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防火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94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触摸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软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4869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打印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3272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传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468360" y="5589720"/>
            <a:ext cx="1584360" cy="344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82872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2556000" y="5373720"/>
            <a:ext cx="1439640" cy="641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84328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2:24:25Z</dcterms:created>
  <dc:creator>w19966</dc:creator>
  <dc:description/>
  <dc:language>en-US</dc:language>
  <cp:lastModifiedBy>Michael Lan</cp:lastModifiedBy>
  <dcterms:modified xsi:type="dcterms:W3CDTF">2003-06-03T02:52:05Z</dcterms:modified>
  <cp:revision>113</cp:revision>
  <dc:subject/>
  <dc:title>随机资料图标库</dc:title>
</cp:coreProperties>
</file>